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8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2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3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4" name="Text Box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dt" idx="27"/>
          </p:nvPr>
        </p:nvSpPr>
        <p:spPr>
          <a:xfrm>
            <a:off x="3884400" y="-360"/>
            <a:ext cx="295884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9400" cy="34164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1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sldNum" idx="28"/>
          </p:nvPr>
        </p:nvSpPr>
        <p:spPr>
          <a:xfrm>
            <a:off x="388440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A81A5-B17C-4420-ACF5-5B8462F24BE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C8576-48B6-4116-83B6-D0BBF3469EA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972A5-1023-495B-97C8-82C0E1E3224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C8F37-1912-4F57-BC8A-A495DB5B708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A388A-0B84-421D-BA7D-6A1AF41D067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CB8C3-1E22-4A87-9C16-3802F0066AF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75EC9-E8DB-4C2C-8472-1599CA75208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87952-67DC-4856-946C-D897041D429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307EF-BC72-4FD4-A0A0-719CEDFA623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08511-72B1-48E7-ABA2-AA68855475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5F6D8-9328-4612-B532-98CE82A9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F61F0-B373-431A-A619-05588194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E7733-C591-426B-996D-AE03404D7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732E5-5C27-44C7-B623-5B066B908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40601-22FD-4699-8091-357FFAFE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C8E4A-22FD-408D-98E6-9E1FCE6E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63CA1-A346-45AE-BC09-0B9B98D8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D7895-58E9-43FA-9D47-08F97E01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05A2D-DF1F-4591-AF93-6FD1E53C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86DF5-B670-4278-A31D-CAE38744AB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9A0645-EB32-41AC-A02F-8C5F58BA49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6EF89-A1C2-47D9-BE8B-75AB7EA9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7A122E-B20E-4F00-8FBA-BED2382B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34D58A-E694-4296-992E-27075E85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C3F9BA-F913-484C-B1D7-229CD537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D05F80-8957-471B-9D79-23AA5E7A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BED578-FFB0-462B-8773-79878A9DE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D0D0C0-02BF-4B5A-A1FB-B4CB8BAF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E1ABB5-C870-4053-A923-E5FEBBB8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EDE12B-E62B-4F71-BECC-632F9091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9D31BC-251B-46FB-A07F-51F5F796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964A0A-46A3-4E81-96F2-0B854818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7483F-ED76-4A27-83FB-4AD11E2366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96B4A9-366F-4C89-B66D-610EBDFC25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D15748-DE41-46C4-A21F-A414F9A98D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AF00AC-FEFE-4C10-912A-4BD29231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816842-E6E0-4D1F-9DFB-0BA64385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719C31-6C9E-4998-BC2B-C67BB6EA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FCE835-F74B-4781-8AAD-E28C5D992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92511A-514E-40BD-8AC9-7405E3D6E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AF2C9D-2345-4CA5-A6C7-4DFA93A5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044BB5-991F-4DE3-8D05-18664B7B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41AA63-3720-48DD-9951-9CD884E9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49ED0-5459-460E-8E65-01281A71E2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DB9781-8B26-4314-9319-4ABD34AB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0A11AB-DD67-495B-BD23-EC2FDA7B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6E72DF-D4CF-4A3A-91D7-FF15809B17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6A504-10FE-4EF8-B3B6-BFF35FFB8C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DDC5F-F290-4C8A-A4B5-22679DE6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6F249-FD66-4587-A84B-B5E3C835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AE509-333A-4FB7-8472-48F8038F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C0430-AA02-4271-9E2B-98B7816B4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4EBEE-DA67-4C1C-82B0-D558B42B6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D9DF1-4CF6-406B-859B-5E46FFC0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35A0C-17EA-44C6-BDA7-B9F4B36A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2D9DA-B25C-4369-B347-308CB43A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13BB2-106D-4981-AB01-05F2A132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89EA7-E355-4D18-A52D-65F37773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1A152-1E09-4EDC-90FE-CE1538E9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32568-3F09-4530-BB37-5754009C41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91A502-EDBD-4942-8B81-491C673451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74AAFB-90A9-45A5-B61A-293D09BB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862E9F-4404-4C39-9C64-03FBBF8E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3BCE41-7CA4-40D3-AF20-922AB5D4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45CB50-E9F5-4C58-9EEC-9BDC5D1D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B102A-DC27-4DE1-A66E-1F02145E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C15019-FB98-46ED-BCCA-7D2810114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59E1D6-1DD2-4910-96E4-F5A9E961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479221-F42A-44B4-A1B8-07380C28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EFE709-EC2C-426A-AF61-B6E7ECAC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68AC48-DF63-41BB-A55C-C8604C70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02DFA4-689A-49B9-9C4D-E143F2A2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19C5B5-27CD-4866-98F6-C36C250C44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9D5EA-9E17-42E0-9694-442C4551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2855F-EF48-496B-AD25-B09DBD5F6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65205-7EA8-4C64-A2BF-24E58D461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AC5A8-DFBF-4B52-BC06-6FFDA42C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2D0B6-7035-4B49-AFD1-8F8E87C0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8098B-DAC5-483F-8A7B-C5B01079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0DD0B-9A47-45F2-AD98-D4159049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F35B1-99FF-4C3F-AA5A-35F7DB4A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0F872C-0787-400B-9F71-4CAA67CD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B3435-17B6-4BB0-A2E8-EDC233056E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E695-5EE3-4418-95B6-37AE993614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5F7C-5930-4119-97B5-EB233C11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6CFC-1381-401B-B7C1-2AA90136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BFC7-0F1B-4634-9F8D-4D76D97C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A8D2-0BC3-4433-A5B6-439C7866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F4048-1DC3-429C-99C3-A733491B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DCBE-7990-43BD-B2A0-BC86B61B7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A9D4-39A9-44EF-AB28-56364AC4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C2C2-19A3-49F4-A093-D5EFE8C2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4C56-3100-44EB-B175-E72A175A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5DCD-1230-4562-B69F-5F04BA23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1813-BB2E-40A1-B689-99B4DCDE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238F-46AF-43DD-9F33-E2FC166DC2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D74EC2-C1D0-41E2-8F32-E013B5B59D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2E14F1-E26C-4787-8E3C-885AF57B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F8371C-691B-48EB-B40C-B983999B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DA152-E3C7-45AC-B506-9E0A521C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8251F9-EE91-46BC-8A02-D7882B79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BB26B5-178B-4BC1-A323-2E3CB9813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8BD6EC-1B61-4AFC-BDEF-2D5EA63E2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D57341-9DC3-4229-A8AD-76D5D4BA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FD5610-1DC1-4DF1-B323-52D72A74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40DDF8-172F-416E-B813-A883655A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CE611C-C4EC-4BB0-9003-26F1D858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3226E9-DFB2-4FE5-AFD8-0B62FBF4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6F42F3-1E61-4F34-A76E-E9D7805CF3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62B63C-F35A-490A-8A1D-8F40BD8469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1717C-5908-4E9C-AF11-5C0C1B6DB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48E3AE-1B7F-446B-990D-9DCD6D27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6E10F7-DB67-4906-AE7F-77F28993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399F53-EA4A-4EE5-857F-038F6B34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582E15-07F5-4675-A192-B4244AA22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4EA2F8-CD3E-4C58-9330-0861263E2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A06058-2B74-4EA4-B34C-AA07786F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323908-8276-4F55-904F-3F09F3FB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B10C37-289A-486B-AF40-02C073B8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F0523E-B6B9-483E-B430-218B4CD9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BC6F98-0DA2-4FE3-9B9B-3BC24779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11599-0A7E-43A5-A1B4-2E14168B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AB191F-C44C-4599-9F3F-6ABF39F3DF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5F5CB-FE42-4C87-893A-80D27E1865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E47ED-9DC8-4C49-BFBA-AB328338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2AA8D-29D5-488C-978D-D1577C93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C7E61-61B6-4CDA-836D-F0025CDF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19530-9E50-4C65-B5A6-A6054EA5F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6CB34-3F2F-469B-8869-FE2309309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1DE54-E52D-4466-814F-09EA2E76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FDCA3-0BA5-485F-8271-666F16B4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36243-5465-4223-ADB8-FB3C42B5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5BBFE-0ECC-45AB-AC65-F0A6D230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12E17-F975-4598-A068-BAF4427F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05B9E-ABB0-477C-9DDB-3D61E735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4B90F-33CD-4A8A-B30E-5536230F4E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9D71B2-0E5D-4311-ABD6-9D26B338B2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50286C-E1D3-4C6E-8FC6-28846B1A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C0EC5D-A509-405B-A0C2-FEE7E963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0D215E-732C-4BBD-9C03-B58A8CA4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CFB0DB-9FDE-4E30-9949-509CEA1C2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EF593D-C0B9-4941-9F58-BD61A24E7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1B65C0-07F2-493C-8CE4-B25AF2C1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C1C17-B22B-45C8-B37B-20B8908D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EDD059-F3EC-469F-BA73-96AA769A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4014AF-5579-4D72-9C37-861FEAE9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D603B6-D8F4-4F07-A4C7-8F50410A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AE57BF-5841-40D5-82A5-B82FBE63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B9A969-1FB9-43B6-8092-60F2343184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5ADD08-9606-4423-9A34-847E49A806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285676-813B-4ED7-AE2E-BE5A4994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484559-A4D2-4F89-9F0D-225C5A67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44C0BE-59B5-4970-89CE-16EEB730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BBDDD4-2040-45B1-869E-7886220F2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A607D-421C-446B-AC49-C277AF41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8D03AE-A8EB-43D4-830B-4D8CEB608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3C3A0A-61F3-4F19-9B0B-D8111B7E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389542-91CB-4AE1-ABCD-2C499B61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87F8F3-6477-4065-9C38-67848F95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B18B55-F5AC-4224-B753-21FDEAEA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8CB94E-CE9A-4B0F-9EE9-0FFD4673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7183A0-9698-42C4-86DA-A2E3D03DAB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86119-0466-496B-A17D-824FC41E01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24CE1-C812-4C3F-90A0-3679AF86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54647-6290-49EB-9ED9-3CED38C4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1208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120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5000" y="6353280"/>
            <a:ext cx="15112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88251-68AB-42BC-89C2-A8455B32110C}" type="datetime"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6094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543800" y="6353280"/>
            <a:ext cx="97776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6AD7E-77D9-4E67-B932-A4F25691D5F0}" type="slidenum"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1700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ffffbc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6840" y="2179800"/>
            <a:ext cx="82170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19"/>
          </p:nvPr>
        </p:nvSpPr>
        <p:spPr>
          <a:xfrm>
            <a:off x="457200" y="6356520"/>
            <a:ext cx="196848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9F78D-138B-41B7-BC4E-1BD5B10C1420}" type="datetime">
              <a: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sldNum" idx="20"/>
          </p:nvPr>
        </p:nvSpPr>
        <p:spPr>
          <a:xfrm>
            <a:off x="8152920" y="6356520"/>
            <a:ext cx="52092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1F7BDA4-FB61-4A47-B8BA-A6BD9EA7EC2E}" type="slidenum">
              <a: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1700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ffffbc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6840" y="2179800"/>
            <a:ext cx="82170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1"/>
          </p:nvPr>
        </p:nvSpPr>
        <p:spPr>
          <a:xfrm>
            <a:off x="457200" y="6356520"/>
            <a:ext cx="196848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FA153-CA0A-4917-8AA4-81A6D5ED9F29}" type="datetime">
              <a: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22"/>
          </p:nvPr>
        </p:nvSpPr>
        <p:spPr>
          <a:xfrm>
            <a:off x="8152920" y="6356520"/>
            <a:ext cx="52092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C1DC46D-0014-4EF8-852B-804F17E3F2B2}" type="slidenum">
              <a: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Group 1"/>
          <p:cNvGrpSpPr/>
          <p:nvPr/>
        </p:nvGrpSpPr>
        <p:grpSpPr>
          <a:xfrm>
            <a:off x="0" y="0"/>
            <a:ext cx="9136080" cy="6843600"/>
            <a:chOff x="0" y="0"/>
            <a:chExt cx="9136080" cy="6843600"/>
          </a:xfrm>
        </p:grpSpPr>
        <p:sp>
          <p:nvSpPr>
            <p:cNvPr id="482" name="Rectangle 2"/>
            <p:cNvSpPr/>
            <p:nvPr/>
          </p:nvSpPr>
          <p:spPr>
            <a:xfrm>
              <a:off x="0" y="0"/>
              <a:ext cx="825480" cy="6843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3" name="Line 3"/>
            <p:cNvSpPr/>
            <p:nvPr/>
          </p:nvSpPr>
          <p:spPr>
            <a:xfrm>
              <a:off x="0" y="366840"/>
              <a:ext cx="913140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4" name="Line 4"/>
            <p:cNvSpPr/>
            <p:nvPr/>
          </p:nvSpPr>
          <p:spPr>
            <a:xfrm>
              <a:off x="0" y="452520"/>
              <a:ext cx="91360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5" name="Line 5"/>
            <p:cNvSpPr/>
            <p:nvPr/>
          </p:nvSpPr>
          <p:spPr>
            <a:xfrm>
              <a:off x="0" y="6305400"/>
              <a:ext cx="91314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6" name="Line 6"/>
            <p:cNvSpPr/>
            <p:nvPr/>
          </p:nvSpPr>
          <p:spPr>
            <a:xfrm>
              <a:off x="0" y="6419880"/>
              <a:ext cx="913608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23"/>
          </p:nvPr>
        </p:nvSpPr>
        <p:spPr>
          <a:xfrm>
            <a:off x="1066320" y="6399360"/>
            <a:ext cx="189252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815D4-79DF-4770-8CDE-4CDAEB474C34}" type="datetime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Text Box 10"/>
          <p:cNvSpPr/>
          <p:nvPr/>
        </p:nvSpPr>
        <p:spPr>
          <a:xfrm>
            <a:off x="350532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sldNum" idx="24"/>
          </p:nvPr>
        </p:nvSpPr>
        <p:spPr>
          <a:xfrm>
            <a:off x="6934320" y="6399360"/>
            <a:ext cx="189216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CBEAB-90EC-4EB5-9ACE-5E3376F291ED}" type="slidenum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1"/>
          <p:cNvGrpSpPr/>
          <p:nvPr/>
        </p:nvGrpSpPr>
        <p:grpSpPr>
          <a:xfrm>
            <a:off x="0" y="0"/>
            <a:ext cx="9136080" cy="6843600"/>
            <a:chOff x="0" y="0"/>
            <a:chExt cx="9136080" cy="6843600"/>
          </a:xfrm>
        </p:grpSpPr>
        <p:sp>
          <p:nvSpPr>
            <p:cNvPr id="529" name="Rectangle 2"/>
            <p:cNvSpPr/>
            <p:nvPr/>
          </p:nvSpPr>
          <p:spPr>
            <a:xfrm>
              <a:off x="0" y="0"/>
              <a:ext cx="825480" cy="6843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0" name="Line 3"/>
            <p:cNvSpPr/>
            <p:nvPr/>
          </p:nvSpPr>
          <p:spPr>
            <a:xfrm>
              <a:off x="0" y="366840"/>
              <a:ext cx="913140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1" name="Line 4"/>
            <p:cNvSpPr/>
            <p:nvPr/>
          </p:nvSpPr>
          <p:spPr>
            <a:xfrm>
              <a:off x="0" y="452520"/>
              <a:ext cx="91360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2" name="Line 5"/>
            <p:cNvSpPr/>
            <p:nvPr/>
          </p:nvSpPr>
          <p:spPr>
            <a:xfrm>
              <a:off x="0" y="6305400"/>
              <a:ext cx="91314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3" name="Line 6"/>
            <p:cNvSpPr/>
            <p:nvPr/>
          </p:nvSpPr>
          <p:spPr>
            <a:xfrm>
              <a:off x="0" y="6419880"/>
              <a:ext cx="913608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25"/>
          </p:nvPr>
        </p:nvSpPr>
        <p:spPr>
          <a:xfrm>
            <a:off x="1066320" y="6399360"/>
            <a:ext cx="189252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69BD1-E8BF-4369-BC93-73D974748F8F}" type="datetime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Text Box 10"/>
          <p:cNvSpPr/>
          <p:nvPr/>
        </p:nvSpPr>
        <p:spPr>
          <a:xfrm>
            <a:off x="350532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Num" idx="26"/>
          </p:nvPr>
        </p:nvSpPr>
        <p:spPr>
          <a:xfrm>
            <a:off x="6934320" y="6399360"/>
            <a:ext cx="189216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5DBF2-A76F-4EF2-8EDD-DFAAAB25C638}" type="slidenum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1"/>
          <p:cNvGrpSpPr/>
          <p:nvPr/>
        </p:nvGrpSpPr>
        <p:grpSpPr>
          <a:xfrm>
            <a:off x="0" y="798480"/>
            <a:ext cx="9129240" cy="5892120"/>
            <a:chOff x="0" y="798480"/>
            <a:chExt cx="9129240" cy="5892120"/>
          </a:xfrm>
        </p:grpSpPr>
        <p:pic>
          <p:nvPicPr>
            <p:cNvPr id="43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798480"/>
              <a:ext cx="9119880" cy="588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3"/>
            <p:cNvSpPr/>
            <p:nvPr/>
          </p:nvSpPr>
          <p:spPr>
            <a:xfrm rot="10800000">
              <a:off x="9000" y="1153080"/>
              <a:ext cx="9120240" cy="55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45" name="Group 4"/>
          <p:cNvGrpSpPr/>
          <p:nvPr/>
        </p:nvGrpSpPr>
        <p:grpSpPr>
          <a:xfrm>
            <a:off x="0" y="987480"/>
            <a:ext cx="9129240" cy="4820760"/>
            <a:chOff x="0" y="987480"/>
            <a:chExt cx="9129240" cy="4820760"/>
          </a:xfrm>
        </p:grpSpPr>
        <p:pic>
          <p:nvPicPr>
            <p:cNvPr id="46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987480"/>
              <a:ext cx="9119880" cy="48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6"/>
            <p:cNvSpPr/>
            <p:nvPr/>
          </p:nvSpPr>
          <p:spPr>
            <a:xfrm rot="10800000">
              <a:off x="9000" y="1353240"/>
              <a:ext cx="9120240" cy="445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1700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ffffbc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2179800"/>
            <a:ext cx="82170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457200" y="6356520"/>
            <a:ext cx="196848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F6C4C-9AD5-42EE-B0D8-D489C42E583C}" type="datetime">
              <a: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8152920" y="6356520"/>
            <a:ext cx="52092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2053CBD-9221-4997-9BCA-8CFA6420BBF2}" type="slidenum">
              <a: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1"/>
          <p:cNvGrpSpPr/>
          <p:nvPr/>
        </p:nvGrpSpPr>
        <p:grpSpPr>
          <a:xfrm>
            <a:off x="0" y="0"/>
            <a:ext cx="9136080" cy="6843600"/>
            <a:chOff x="0" y="0"/>
            <a:chExt cx="9136080" cy="6843600"/>
          </a:xfrm>
        </p:grpSpPr>
        <p:sp>
          <p:nvSpPr>
            <p:cNvPr id="90" name="Rectangle 2"/>
            <p:cNvSpPr/>
            <p:nvPr/>
          </p:nvSpPr>
          <p:spPr>
            <a:xfrm>
              <a:off x="0" y="0"/>
              <a:ext cx="825480" cy="6843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1" name="Line 3"/>
            <p:cNvSpPr/>
            <p:nvPr/>
          </p:nvSpPr>
          <p:spPr>
            <a:xfrm>
              <a:off x="0" y="366840"/>
              <a:ext cx="913608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Line 4"/>
            <p:cNvSpPr/>
            <p:nvPr/>
          </p:nvSpPr>
          <p:spPr>
            <a:xfrm>
              <a:off x="0" y="452520"/>
              <a:ext cx="91314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0" y="6305400"/>
              <a:ext cx="91360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4" name="Line 6"/>
            <p:cNvSpPr/>
            <p:nvPr/>
          </p:nvSpPr>
          <p:spPr>
            <a:xfrm>
              <a:off x="0" y="6419880"/>
              <a:ext cx="913608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5"/>
          </p:nvPr>
        </p:nvSpPr>
        <p:spPr>
          <a:xfrm>
            <a:off x="1066320" y="6399360"/>
            <a:ext cx="189252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CCA53-EB7E-4916-88A9-768B0B42EED5}" type="datetime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350532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6"/>
          </p:nvPr>
        </p:nvSpPr>
        <p:spPr>
          <a:xfrm>
            <a:off x="6934320" y="6399360"/>
            <a:ext cx="189216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4B127-9D6E-475C-B542-75973E987830}" type="slidenum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"/>
          <p:cNvGrpSpPr/>
          <p:nvPr/>
        </p:nvGrpSpPr>
        <p:grpSpPr>
          <a:xfrm>
            <a:off x="0" y="0"/>
            <a:ext cx="9136080" cy="6843600"/>
            <a:chOff x="0" y="0"/>
            <a:chExt cx="9136080" cy="6843600"/>
          </a:xfrm>
        </p:grpSpPr>
        <p:sp>
          <p:nvSpPr>
            <p:cNvPr id="137" name="Rectangle 2"/>
            <p:cNvSpPr/>
            <p:nvPr/>
          </p:nvSpPr>
          <p:spPr>
            <a:xfrm>
              <a:off x="0" y="0"/>
              <a:ext cx="825480" cy="6843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8" name="Line 3"/>
            <p:cNvSpPr/>
            <p:nvPr/>
          </p:nvSpPr>
          <p:spPr>
            <a:xfrm>
              <a:off x="0" y="366840"/>
              <a:ext cx="913608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9" name="Line 4"/>
            <p:cNvSpPr/>
            <p:nvPr/>
          </p:nvSpPr>
          <p:spPr>
            <a:xfrm>
              <a:off x="0" y="452520"/>
              <a:ext cx="91314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0" name="Line 5"/>
            <p:cNvSpPr/>
            <p:nvPr/>
          </p:nvSpPr>
          <p:spPr>
            <a:xfrm>
              <a:off x="0" y="6305400"/>
              <a:ext cx="91360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1" name="Line 6"/>
            <p:cNvSpPr/>
            <p:nvPr/>
          </p:nvSpPr>
          <p:spPr>
            <a:xfrm>
              <a:off x="0" y="6419880"/>
              <a:ext cx="913608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1066320" y="6399360"/>
            <a:ext cx="189252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81E459-9605-41C5-9457-F35DD1917E72}" type="datetime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350532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8"/>
          </p:nvPr>
        </p:nvSpPr>
        <p:spPr>
          <a:xfrm>
            <a:off x="6934320" y="6399360"/>
            <a:ext cx="189216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FB4AA-4946-409F-BEE3-C8448CF7437A}" type="slidenum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" descr="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1208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120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9"/>
          </p:nvPr>
        </p:nvSpPr>
        <p:spPr>
          <a:xfrm>
            <a:off x="5715000" y="6356520"/>
            <a:ext cx="151128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16EF4FB-796C-4928-86E3-36BD3C00C45F}" type="datetime">
              <a:rPr b="0" lang="fr-FR" sz="1000" spc="-1" strike="noStrike">
                <a:solidFill>
                  <a:srgbClr val="ffffff"/>
                </a:solidFill>
                <a:latin typeface="Times New Roman"/>
                <a:ea typeface="Segoe UI"/>
              </a:rPr>
              <a:t>31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0"/>
          </p:nvPr>
        </p:nvSpPr>
        <p:spPr>
          <a:xfrm>
            <a:off x="7543800" y="6356520"/>
            <a:ext cx="97776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fr-FR" sz="11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10700519-4D2A-47CE-8E4D-8838B345D646}" type="slidenum">
              <a:rPr b="0" lang="fr-FR" sz="11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1208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120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1"/>
          </p:nvPr>
        </p:nvSpPr>
        <p:spPr>
          <a:xfrm>
            <a:off x="5715000" y="6356520"/>
            <a:ext cx="151128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2943698-CFC0-4B0D-9C91-6ED44FC78EE8}" type="datetime">
              <a:rPr b="0" lang="fr-FR" sz="1000" spc="-1" strike="noStrike">
                <a:solidFill>
                  <a:srgbClr val="ffffff"/>
                </a:solidFill>
                <a:latin typeface="Times New Roman"/>
                <a:ea typeface="Segoe UI"/>
              </a:rPr>
              <a:t>31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7776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fr-FR" sz="11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8972C43E-B89A-43FF-96B7-5B56FD7358F5}" type="slidenum">
              <a:rPr b="0" lang="fr-FR" sz="11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1208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120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5715000" y="6356520"/>
            <a:ext cx="151128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88EED8C-200D-4D25-A9BE-EEA3795E1393}" type="datetime">
              <a:rPr b="0" lang="fr-FR" sz="1000" spc="-1" strike="noStrike">
                <a:solidFill>
                  <a:srgbClr val="ffffff"/>
                </a:solidFill>
                <a:latin typeface="Times New Roman"/>
                <a:ea typeface="Segoe UI"/>
              </a:rPr>
              <a:t>31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7543800" y="6356520"/>
            <a:ext cx="97776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fr-FR" sz="11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3325B44C-8942-45EB-B455-E39C98F83160}" type="slidenum">
              <a:rPr b="0" lang="fr-FR" sz="11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1"/>
          <p:cNvGrpSpPr/>
          <p:nvPr/>
        </p:nvGrpSpPr>
        <p:grpSpPr>
          <a:xfrm>
            <a:off x="0" y="798480"/>
            <a:ext cx="9129240" cy="5892120"/>
            <a:chOff x="0" y="798480"/>
            <a:chExt cx="9129240" cy="5892120"/>
          </a:xfrm>
        </p:grpSpPr>
        <p:pic>
          <p:nvPicPr>
            <p:cNvPr id="309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798480"/>
              <a:ext cx="9119880" cy="588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3"/>
            <p:cNvSpPr/>
            <p:nvPr/>
          </p:nvSpPr>
          <p:spPr>
            <a:xfrm rot="10800000">
              <a:off x="9000" y="1153080"/>
              <a:ext cx="9120240" cy="55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11" name="Group 4"/>
          <p:cNvGrpSpPr/>
          <p:nvPr/>
        </p:nvGrpSpPr>
        <p:grpSpPr>
          <a:xfrm>
            <a:off x="0" y="987480"/>
            <a:ext cx="9129240" cy="4820760"/>
            <a:chOff x="0" y="987480"/>
            <a:chExt cx="9129240" cy="4820760"/>
          </a:xfrm>
        </p:grpSpPr>
        <p:pic>
          <p:nvPicPr>
            <p:cNvPr id="312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987480"/>
              <a:ext cx="9119880" cy="48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 Box 6"/>
            <p:cNvSpPr/>
            <p:nvPr/>
          </p:nvSpPr>
          <p:spPr>
            <a:xfrm rot="10800000">
              <a:off x="9000" y="1353240"/>
              <a:ext cx="9120240" cy="445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14" name="Group 7"/>
          <p:cNvGrpSpPr/>
          <p:nvPr/>
        </p:nvGrpSpPr>
        <p:grpSpPr>
          <a:xfrm>
            <a:off x="0" y="1176480"/>
            <a:ext cx="9129240" cy="3761640"/>
            <a:chOff x="0" y="1176480"/>
            <a:chExt cx="9129240" cy="3761640"/>
          </a:xfrm>
        </p:grpSpPr>
        <p:pic>
          <p:nvPicPr>
            <p:cNvPr id="315" name="Picture 8" descr=""/>
            <p:cNvPicPr/>
            <p:nvPr/>
          </p:nvPicPr>
          <p:blipFill>
            <a:blip r:embed="rId5"/>
            <a:stretch/>
          </p:blipFill>
          <p:spPr>
            <a:xfrm>
              <a:off x="0" y="1176480"/>
              <a:ext cx="9119880" cy="37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Text Box 9"/>
            <p:cNvSpPr/>
            <p:nvPr/>
          </p:nvSpPr>
          <p:spPr>
            <a:xfrm rot="10800000">
              <a:off x="9000" y="1533960"/>
              <a:ext cx="9120240" cy="34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1700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ffffbc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6840" y="2179800"/>
            <a:ext cx="82170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5"/>
          </p:nvPr>
        </p:nvSpPr>
        <p:spPr>
          <a:xfrm>
            <a:off x="457200" y="6356520"/>
            <a:ext cx="196848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41E8B-B801-457F-9AF0-3D620233FD0E}" type="datetime">
              <a: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3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16"/>
          </p:nvPr>
        </p:nvSpPr>
        <p:spPr>
          <a:xfrm>
            <a:off x="8152920" y="6356520"/>
            <a:ext cx="52092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7E5D08D-F431-453C-BA84-EC1C849A73ED}" type="slidenum">
              <a: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1700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ffffbc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6840" y="2179800"/>
            <a:ext cx="82170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7"/>
          </p:nvPr>
        </p:nvSpPr>
        <p:spPr>
          <a:xfrm>
            <a:off x="457200" y="6356520"/>
            <a:ext cx="196848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769C1-9E36-4723-B2E6-CDF258F802A5}" type="datetime">
              <a: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sldNum" idx="18"/>
          </p:nvPr>
        </p:nvSpPr>
        <p:spPr>
          <a:xfrm>
            <a:off x="8152920" y="6356520"/>
            <a:ext cx="52092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E4247C5-F00E-4CF0-8A05-65A8DCCE3C7B}" type="slidenum">
              <a: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5.png"/><Relationship Id="rId4" Type="http://schemas.openxmlformats.org/officeDocument/2006/relationships/image" Target="../media/image11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1"/>
          <p:cNvGrpSpPr/>
          <p:nvPr/>
        </p:nvGrpSpPr>
        <p:grpSpPr>
          <a:xfrm>
            <a:off x="396720" y="5224320"/>
            <a:ext cx="8485200" cy="1335240"/>
            <a:chOff x="396720" y="5224320"/>
            <a:chExt cx="8485200" cy="1335240"/>
          </a:xfrm>
        </p:grpSpPr>
        <p:pic>
          <p:nvPicPr>
            <p:cNvPr id="591" name="Picture 2" descr=""/>
            <p:cNvPicPr/>
            <p:nvPr/>
          </p:nvPicPr>
          <p:blipFill>
            <a:blip r:embed="rId1"/>
            <a:stretch/>
          </p:blipFill>
          <p:spPr>
            <a:xfrm>
              <a:off x="396720" y="5224320"/>
              <a:ext cx="848520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 Box 3"/>
            <p:cNvSpPr/>
            <p:nvPr/>
          </p:nvSpPr>
          <p:spPr>
            <a:xfrm>
              <a:off x="396720" y="5224320"/>
              <a:ext cx="8485200" cy="13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593" name="Picture 4" descr=""/>
          <p:cNvPicPr/>
          <p:nvPr/>
        </p:nvPicPr>
        <p:blipFill>
          <a:blip r:embed="rId2"/>
          <a:stretch/>
        </p:blipFill>
        <p:spPr>
          <a:xfrm>
            <a:off x="1440" y="0"/>
            <a:ext cx="9142560" cy="334476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5"/>
          <p:cNvSpPr/>
          <p:nvPr/>
        </p:nvSpPr>
        <p:spPr>
          <a:xfrm>
            <a:off x="1440" y="0"/>
            <a:ext cx="9142560" cy="33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5" name="Text Box 6"/>
          <p:cNvSpPr/>
          <p:nvPr/>
        </p:nvSpPr>
        <p:spPr>
          <a:xfrm>
            <a:off x="1441440" y="3767040"/>
            <a:ext cx="64087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Calibri"/>
              </a:rPr>
              <a:t>Notions de base sur les réseaux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Text Box 7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F8830-584D-43DF-906B-923E243854D8}" type="slidenum">
              <a:rPr b="0" lang="fr-FR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1" descr=""/>
          <p:cNvPicPr/>
          <p:nvPr/>
        </p:nvPicPr>
        <p:blipFill>
          <a:blip r:embed="rId1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2"/>
          <p:cNvSpPr/>
          <p:nvPr/>
        </p:nvSpPr>
        <p:spPr>
          <a:xfrm>
            <a:off x="1655640" y="828720"/>
            <a:ext cx="217440" cy="39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1511280" y="-171360"/>
            <a:ext cx="64087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Calibri"/>
              </a:rPr>
              <a:t>Notions de base sur les réseaux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00" name="Group 4"/>
          <p:cNvGrpSpPr/>
          <p:nvPr/>
        </p:nvGrpSpPr>
        <p:grpSpPr>
          <a:xfrm>
            <a:off x="5616720" y="1584360"/>
            <a:ext cx="3373200" cy="1573200"/>
            <a:chOff x="5616720" y="1584360"/>
            <a:chExt cx="3373200" cy="1573200"/>
          </a:xfrm>
        </p:grpSpPr>
        <p:grpSp>
          <p:nvGrpSpPr>
            <p:cNvPr id="601" name="Group 5"/>
            <p:cNvGrpSpPr/>
            <p:nvPr/>
          </p:nvGrpSpPr>
          <p:grpSpPr>
            <a:xfrm>
              <a:off x="6408720" y="1800360"/>
              <a:ext cx="1717560" cy="819000"/>
              <a:chOff x="6408720" y="1800360"/>
              <a:chExt cx="1717560" cy="819000"/>
            </a:xfrm>
          </p:grpSpPr>
          <p:pic>
            <p:nvPicPr>
              <p:cNvPr id="602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7296120" y="1800360"/>
                <a:ext cx="830160" cy="81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Text Box 7"/>
              <p:cNvSpPr/>
              <p:nvPr/>
            </p:nvSpPr>
            <p:spPr>
              <a:xfrm>
                <a:off x="6408720" y="1909800"/>
                <a:ext cx="928800" cy="62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Calibri"/>
                  </a:rPr>
                  <a:t>internet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604" name="Oval 8"/>
            <p:cNvSpPr/>
            <p:nvPr/>
          </p:nvSpPr>
          <p:spPr>
            <a:xfrm>
              <a:off x="5616720" y="1584360"/>
              <a:ext cx="3373200" cy="1573200"/>
            </a:xfrm>
            <a:prstGeom prst="ellipse">
              <a:avLst/>
            </a:prstGeom>
            <a:noFill/>
            <a:ln w="36000">
              <a:solidFill>
                <a:srgbClr val="c50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05" name="Text Box 9"/>
            <p:cNvSpPr/>
            <p:nvPr/>
          </p:nvSpPr>
          <p:spPr>
            <a:xfrm>
              <a:off x="6696000" y="2664000"/>
              <a:ext cx="168912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63000" bIns="63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Calibri"/>
                </a:rPr>
                <a:t>Réseau Interne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606" name="Text Box 10"/>
          <p:cNvSpPr/>
          <p:nvPr/>
        </p:nvSpPr>
        <p:spPr>
          <a:xfrm>
            <a:off x="4199040" y="5575320"/>
            <a:ext cx="1133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7" name="Text Box 11"/>
          <p:cNvSpPr/>
          <p:nvPr/>
        </p:nvSpPr>
        <p:spPr>
          <a:xfrm>
            <a:off x="1685880" y="571680"/>
            <a:ext cx="666612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ffff99"/>
                </a:solidFill>
                <a:latin typeface="Calibri"/>
              </a:rPr>
              <a:t>Un réseau informatique est un ensemble d'équipements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ffff99"/>
                </a:solidFill>
                <a:latin typeface="Calibri"/>
              </a:rPr>
              <a:t>reliés entre eux pour échanger des information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Text Box 12"/>
          <p:cNvSpPr/>
          <p:nvPr/>
        </p:nvSpPr>
        <p:spPr>
          <a:xfrm>
            <a:off x="911160" y="4179960"/>
            <a:ext cx="1968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Sous réseau salle 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9" name="Text Box 13"/>
          <p:cNvSpPr/>
          <p:nvPr/>
        </p:nvSpPr>
        <p:spPr>
          <a:xfrm>
            <a:off x="3672000" y="4176720"/>
            <a:ext cx="1968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Sous réseau salle 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10" name="Group 14"/>
          <p:cNvGrpSpPr/>
          <p:nvPr/>
        </p:nvGrpSpPr>
        <p:grpSpPr>
          <a:xfrm>
            <a:off x="144360" y="1871640"/>
            <a:ext cx="5821560" cy="4381560"/>
            <a:chOff x="144360" y="1871640"/>
            <a:chExt cx="5821560" cy="4381560"/>
          </a:xfrm>
        </p:grpSpPr>
        <p:sp>
          <p:nvSpPr>
            <p:cNvPr id="611" name="Text Box 15"/>
            <p:cNvSpPr/>
            <p:nvPr/>
          </p:nvSpPr>
          <p:spPr>
            <a:xfrm>
              <a:off x="936720" y="1871640"/>
              <a:ext cx="35020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63000" bIns="63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Calibri"/>
                </a:rPr>
                <a:t>Réseau pédagogique établissem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612" name="Picture 16" descr=""/>
            <p:cNvPicPr/>
            <p:nvPr/>
          </p:nvPicPr>
          <p:blipFill>
            <a:blip r:embed="rId3"/>
            <a:stretch/>
          </p:blipFill>
          <p:spPr>
            <a:xfrm>
              <a:off x="2505240" y="2658960"/>
              <a:ext cx="1123920" cy="15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Text Box 17"/>
            <p:cNvSpPr/>
            <p:nvPr/>
          </p:nvSpPr>
          <p:spPr>
            <a:xfrm>
              <a:off x="2448000" y="2371680"/>
              <a:ext cx="121428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serveu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14" name="Oval 18"/>
            <p:cNvSpPr/>
            <p:nvPr/>
          </p:nvSpPr>
          <p:spPr>
            <a:xfrm>
              <a:off x="723960" y="4579920"/>
              <a:ext cx="2220840" cy="1139760"/>
            </a:xfrm>
            <a:prstGeom prst="ellipse">
              <a:avLst/>
            </a:prstGeom>
            <a:solidFill>
              <a:srgbClr val="729fcf"/>
            </a:solidFill>
            <a:ln w="9360">
              <a:solidFill>
                <a:srgbClr val="c50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615" name="Picture 19" descr=""/>
            <p:cNvPicPr/>
            <p:nvPr/>
          </p:nvPicPr>
          <p:blipFill>
            <a:blip r:embed="rId4"/>
            <a:stretch/>
          </p:blipFill>
          <p:spPr>
            <a:xfrm>
              <a:off x="1020600" y="4748040"/>
              <a:ext cx="6033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0" descr=""/>
            <p:cNvPicPr/>
            <p:nvPr/>
          </p:nvPicPr>
          <p:blipFill>
            <a:blip r:embed="rId5"/>
            <a:stretch/>
          </p:blipFill>
          <p:spPr>
            <a:xfrm>
              <a:off x="1835280" y="5113440"/>
              <a:ext cx="6030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Text Box 21"/>
            <p:cNvSpPr/>
            <p:nvPr/>
          </p:nvSpPr>
          <p:spPr>
            <a:xfrm>
              <a:off x="995400" y="5318280"/>
              <a:ext cx="9396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alle 1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18" name="Oval 22"/>
            <p:cNvSpPr/>
            <p:nvPr/>
          </p:nvSpPr>
          <p:spPr>
            <a:xfrm>
              <a:off x="3456000" y="4545000"/>
              <a:ext cx="2004840" cy="1112760"/>
            </a:xfrm>
            <a:prstGeom prst="ellipse">
              <a:avLst/>
            </a:prstGeom>
            <a:solidFill>
              <a:srgbClr val="729fcf"/>
            </a:solidFill>
            <a:ln w="9360">
              <a:solidFill>
                <a:srgbClr val="c50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619" name="Picture 23" descr=""/>
            <p:cNvPicPr/>
            <p:nvPr/>
          </p:nvPicPr>
          <p:blipFill>
            <a:blip r:embed="rId6"/>
            <a:stretch/>
          </p:blipFill>
          <p:spPr>
            <a:xfrm>
              <a:off x="3816360" y="4916520"/>
              <a:ext cx="56664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24" descr=""/>
            <p:cNvPicPr/>
            <p:nvPr/>
          </p:nvPicPr>
          <p:blipFill>
            <a:blip r:embed="rId7"/>
            <a:stretch/>
          </p:blipFill>
          <p:spPr>
            <a:xfrm>
              <a:off x="4784760" y="4697280"/>
              <a:ext cx="566640" cy="5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Text Box 25"/>
            <p:cNvSpPr/>
            <p:nvPr/>
          </p:nvSpPr>
          <p:spPr>
            <a:xfrm>
              <a:off x="4245120" y="5327640"/>
              <a:ext cx="7855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alle 2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2" name="Oval 26"/>
            <p:cNvSpPr/>
            <p:nvPr/>
          </p:nvSpPr>
          <p:spPr>
            <a:xfrm>
              <a:off x="144360" y="2303640"/>
              <a:ext cx="5821560" cy="3949560"/>
            </a:xfrm>
            <a:prstGeom prst="ellipse">
              <a:avLst/>
            </a:prstGeom>
            <a:noFill/>
            <a:ln w="36000">
              <a:solidFill>
                <a:srgbClr val="c50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623" name="Picture 27" descr=""/>
            <p:cNvPicPr/>
            <p:nvPr/>
          </p:nvPicPr>
          <p:blipFill>
            <a:blip r:embed="rId8"/>
            <a:stretch/>
          </p:blipFill>
          <p:spPr>
            <a:xfrm>
              <a:off x="1735200" y="4680000"/>
              <a:ext cx="617400" cy="4269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Picture 1" descr=""/>
          <p:cNvPicPr/>
          <p:nvPr/>
        </p:nvPicPr>
        <p:blipFill>
          <a:blip r:embed="rId1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2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C822B4-B315-47A7-BBB0-4071F312D317}" type="slidenum">
              <a:rPr b="0" lang="fr-F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26" name="Group 3"/>
          <p:cNvGrpSpPr/>
          <p:nvPr/>
        </p:nvGrpSpPr>
        <p:grpSpPr>
          <a:xfrm>
            <a:off x="5832360" y="896760"/>
            <a:ext cx="1717560" cy="819360"/>
            <a:chOff x="5832360" y="896760"/>
            <a:chExt cx="1717560" cy="819360"/>
          </a:xfrm>
        </p:grpSpPr>
        <p:pic>
          <p:nvPicPr>
            <p:cNvPr id="627" name="Picture 4" descr=""/>
            <p:cNvPicPr/>
            <p:nvPr/>
          </p:nvPicPr>
          <p:blipFill>
            <a:blip r:embed="rId2"/>
            <a:stretch/>
          </p:blipFill>
          <p:spPr>
            <a:xfrm>
              <a:off x="6719040" y="896760"/>
              <a:ext cx="830880" cy="8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Text Box 5"/>
            <p:cNvSpPr/>
            <p:nvPr/>
          </p:nvSpPr>
          <p:spPr>
            <a:xfrm>
              <a:off x="5832360" y="1008000"/>
              <a:ext cx="9327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interne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629" name="Group 6"/>
          <p:cNvGrpSpPr/>
          <p:nvPr/>
        </p:nvGrpSpPr>
        <p:grpSpPr>
          <a:xfrm>
            <a:off x="4149720" y="1363680"/>
            <a:ext cx="1398600" cy="930240"/>
            <a:chOff x="4149720" y="1363680"/>
            <a:chExt cx="1398600" cy="930240"/>
          </a:xfrm>
        </p:grpSpPr>
        <p:pic>
          <p:nvPicPr>
            <p:cNvPr id="630" name="Picture 7" descr=""/>
            <p:cNvPicPr/>
            <p:nvPr/>
          </p:nvPicPr>
          <p:blipFill>
            <a:blip r:embed="rId3"/>
            <a:stretch/>
          </p:blipFill>
          <p:spPr>
            <a:xfrm>
              <a:off x="4176720" y="1612800"/>
              <a:ext cx="1371600" cy="6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Text Box 8"/>
            <p:cNvSpPr/>
            <p:nvPr/>
          </p:nvSpPr>
          <p:spPr>
            <a:xfrm>
              <a:off x="4149720" y="1363680"/>
              <a:ext cx="87948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routeu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632" name="Group 9"/>
          <p:cNvGrpSpPr/>
          <p:nvPr/>
        </p:nvGrpSpPr>
        <p:grpSpPr>
          <a:xfrm>
            <a:off x="1655640" y="863640"/>
            <a:ext cx="1500480" cy="2370240"/>
            <a:chOff x="1655640" y="863640"/>
            <a:chExt cx="1500480" cy="2370240"/>
          </a:xfrm>
        </p:grpSpPr>
        <p:pic>
          <p:nvPicPr>
            <p:cNvPr id="633" name="Picture 10" descr=""/>
            <p:cNvPicPr/>
            <p:nvPr/>
          </p:nvPicPr>
          <p:blipFill>
            <a:blip r:embed="rId4"/>
            <a:stretch/>
          </p:blipFill>
          <p:spPr>
            <a:xfrm>
              <a:off x="1728720" y="1228680"/>
              <a:ext cx="1427400" cy="20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Text Box 11"/>
            <p:cNvSpPr/>
            <p:nvPr/>
          </p:nvSpPr>
          <p:spPr>
            <a:xfrm>
              <a:off x="1655640" y="863640"/>
              <a:ext cx="868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serveu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635" name="Group 12"/>
          <p:cNvGrpSpPr/>
          <p:nvPr/>
        </p:nvGrpSpPr>
        <p:grpSpPr>
          <a:xfrm>
            <a:off x="4176720" y="3095640"/>
            <a:ext cx="2058840" cy="1284120"/>
            <a:chOff x="4176720" y="3095640"/>
            <a:chExt cx="2058840" cy="1284120"/>
          </a:xfrm>
        </p:grpSpPr>
        <p:pic>
          <p:nvPicPr>
            <p:cNvPr id="636" name="Picture 13" descr=""/>
            <p:cNvPicPr/>
            <p:nvPr/>
          </p:nvPicPr>
          <p:blipFill>
            <a:blip r:embed="rId5"/>
            <a:stretch/>
          </p:blipFill>
          <p:spPr>
            <a:xfrm>
              <a:off x="4176720" y="3362400"/>
              <a:ext cx="205884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Text Box 14"/>
            <p:cNvSpPr/>
            <p:nvPr/>
          </p:nvSpPr>
          <p:spPr>
            <a:xfrm>
              <a:off x="4478400" y="3095640"/>
              <a:ext cx="766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switch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638" name="Oval 15"/>
          <p:cNvSpPr/>
          <p:nvPr/>
        </p:nvSpPr>
        <p:spPr>
          <a:xfrm>
            <a:off x="431640" y="4379760"/>
            <a:ext cx="3527640" cy="1955880"/>
          </a:xfrm>
          <a:prstGeom prst="ellipse">
            <a:avLst/>
          </a:prstGeom>
          <a:solidFill>
            <a:srgbClr val="729fcf"/>
          </a:solidFill>
          <a:ln w="936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9" name="Picture 16" descr=""/>
          <p:cNvPicPr/>
          <p:nvPr/>
        </p:nvPicPr>
        <p:blipFill>
          <a:blip r:embed="rId6"/>
          <a:stretch/>
        </p:blipFill>
        <p:spPr>
          <a:xfrm>
            <a:off x="901800" y="4668840"/>
            <a:ext cx="969840" cy="96984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17" descr=""/>
          <p:cNvPicPr/>
          <p:nvPr/>
        </p:nvPicPr>
        <p:blipFill>
          <a:blip r:embed="rId7"/>
          <a:stretch/>
        </p:blipFill>
        <p:spPr>
          <a:xfrm>
            <a:off x="2054160" y="5172120"/>
            <a:ext cx="970200" cy="96984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18"/>
          <p:cNvSpPr/>
          <p:nvPr/>
        </p:nvSpPr>
        <p:spPr>
          <a:xfrm>
            <a:off x="1152360" y="5688000"/>
            <a:ext cx="78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lle 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42" name="Group 19"/>
          <p:cNvGrpSpPr/>
          <p:nvPr/>
        </p:nvGrpSpPr>
        <p:grpSpPr>
          <a:xfrm>
            <a:off x="5688000" y="4608360"/>
            <a:ext cx="3373560" cy="1944720"/>
            <a:chOff x="5688000" y="4608360"/>
            <a:chExt cx="3373560" cy="1944720"/>
          </a:xfrm>
        </p:grpSpPr>
        <p:sp>
          <p:nvSpPr>
            <p:cNvPr id="643" name="Oval 20"/>
            <p:cNvSpPr/>
            <p:nvPr/>
          </p:nvSpPr>
          <p:spPr>
            <a:xfrm>
              <a:off x="5688000" y="4608360"/>
              <a:ext cx="3373560" cy="1944720"/>
            </a:xfrm>
            <a:prstGeom prst="ellipse">
              <a:avLst/>
            </a:prstGeom>
            <a:solidFill>
              <a:srgbClr val="729fcf"/>
            </a:solidFill>
            <a:ln w="9360">
              <a:solidFill>
                <a:srgbClr val="c50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644" name="Picture 21" descr=""/>
            <p:cNvPicPr/>
            <p:nvPr/>
          </p:nvPicPr>
          <p:blipFill>
            <a:blip r:embed="rId8"/>
            <a:stretch/>
          </p:blipFill>
          <p:spPr>
            <a:xfrm>
              <a:off x="6445080" y="5234040"/>
              <a:ext cx="959040" cy="95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5" name="Picture 22" descr=""/>
            <p:cNvPicPr/>
            <p:nvPr/>
          </p:nvPicPr>
          <p:blipFill>
            <a:blip r:embed="rId9"/>
            <a:stretch/>
          </p:blipFill>
          <p:spPr>
            <a:xfrm>
              <a:off x="7920000" y="4873680"/>
              <a:ext cx="959040" cy="9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Text Box 23"/>
            <p:cNvSpPr/>
            <p:nvPr/>
          </p:nvSpPr>
          <p:spPr>
            <a:xfrm>
              <a:off x="7415280" y="5987880"/>
              <a:ext cx="77004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alle 2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647" name="Line 24"/>
          <p:cNvSpPr/>
          <p:nvPr/>
        </p:nvSpPr>
        <p:spPr>
          <a:xfrm>
            <a:off x="3743280" y="4896000"/>
            <a:ext cx="1440000" cy="1440"/>
          </a:xfrm>
          <a:prstGeom prst="line">
            <a:avLst/>
          </a:prstGeom>
          <a:ln w="3600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8" name="Line 25"/>
          <p:cNvSpPr/>
          <p:nvPr/>
        </p:nvSpPr>
        <p:spPr>
          <a:xfrm>
            <a:off x="5184720" y="4176720"/>
            <a:ext cx="1800" cy="720720"/>
          </a:xfrm>
          <a:prstGeom prst="line">
            <a:avLst/>
          </a:prstGeom>
          <a:ln w="3600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Line 26"/>
          <p:cNvSpPr/>
          <p:nvPr/>
        </p:nvSpPr>
        <p:spPr>
          <a:xfrm>
            <a:off x="5616720" y="4032360"/>
            <a:ext cx="1440" cy="863640"/>
          </a:xfrm>
          <a:prstGeom prst="line">
            <a:avLst/>
          </a:prstGeom>
          <a:ln w="3600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0" name="Line 27"/>
          <p:cNvSpPr/>
          <p:nvPr/>
        </p:nvSpPr>
        <p:spPr>
          <a:xfrm flipH="1">
            <a:off x="5603400" y="4896000"/>
            <a:ext cx="598680" cy="1440"/>
          </a:xfrm>
          <a:prstGeom prst="line">
            <a:avLst/>
          </a:prstGeom>
          <a:ln w="3600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1" name="Line 28"/>
          <p:cNvSpPr/>
          <p:nvPr/>
        </p:nvSpPr>
        <p:spPr>
          <a:xfrm>
            <a:off x="3168720" y="2879640"/>
            <a:ext cx="2160360" cy="1800"/>
          </a:xfrm>
          <a:prstGeom prst="line">
            <a:avLst/>
          </a:prstGeom>
          <a:ln w="3600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2" name="Line 29"/>
          <p:cNvSpPr/>
          <p:nvPr/>
        </p:nvSpPr>
        <p:spPr>
          <a:xfrm>
            <a:off x="5327640" y="2879640"/>
            <a:ext cx="1440" cy="647640"/>
          </a:xfrm>
          <a:prstGeom prst="line">
            <a:avLst/>
          </a:prstGeom>
          <a:ln w="3600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3" name="Line 30"/>
          <p:cNvSpPr/>
          <p:nvPr/>
        </p:nvSpPr>
        <p:spPr>
          <a:xfrm>
            <a:off x="3168720" y="1871640"/>
            <a:ext cx="1008000" cy="1440"/>
          </a:xfrm>
          <a:prstGeom prst="line">
            <a:avLst/>
          </a:prstGeom>
          <a:ln w="3600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Line 31"/>
          <p:cNvSpPr/>
          <p:nvPr/>
        </p:nvSpPr>
        <p:spPr>
          <a:xfrm flipV="1">
            <a:off x="5472000" y="1428840"/>
            <a:ext cx="1246320" cy="382320"/>
          </a:xfrm>
          <a:prstGeom prst="line">
            <a:avLst/>
          </a:prstGeom>
          <a:ln w="3600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5" name="Text Box 32"/>
          <p:cNvSpPr/>
          <p:nvPr/>
        </p:nvSpPr>
        <p:spPr>
          <a:xfrm>
            <a:off x="5688000" y="1944720"/>
            <a:ext cx="342108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Calibri"/>
              </a:rPr>
              <a:t>Pour communiquer entr'eux,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Calibri"/>
              </a:rPr>
              <a:t>les éléments du réseau ont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Calibri"/>
              </a:rPr>
              <a:t>besoin d'adresses 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6" name="Text Box 33"/>
          <p:cNvSpPr/>
          <p:nvPr/>
        </p:nvSpPr>
        <p:spPr>
          <a:xfrm>
            <a:off x="6912000" y="3024360"/>
            <a:ext cx="1933560" cy="461880"/>
          </a:xfrm>
          <a:prstGeom prst="rect">
            <a:avLst/>
          </a:prstGeom>
          <a:noFill/>
          <a:ln w="360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ffff66"/>
                </a:solidFill>
                <a:latin typeface="Calibri"/>
              </a:rPr>
              <a:t>Les adresses IP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7" name="Text Box 34"/>
          <p:cNvSpPr/>
          <p:nvPr/>
        </p:nvSpPr>
        <p:spPr>
          <a:xfrm>
            <a:off x="1655640" y="828720"/>
            <a:ext cx="1441440" cy="39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99"/>
                </a:solidFill>
                <a:latin typeface="Calibri"/>
              </a:rPr>
              <a:t>172.16.0.25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8" name="Text Box 35"/>
          <p:cNvSpPr/>
          <p:nvPr/>
        </p:nvSpPr>
        <p:spPr>
          <a:xfrm>
            <a:off x="949320" y="4535640"/>
            <a:ext cx="12096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72.16.1.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9" name="Text Box 36"/>
          <p:cNvSpPr/>
          <p:nvPr/>
        </p:nvSpPr>
        <p:spPr>
          <a:xfrm>
            <a:off x="1944720" y="5040360"/>
            <a:ext cx="12096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72.16.1.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0" name="Text Box 37"/>
          <p:cNvSpPr/>
          <p:nvPr/>
        </p:nvSpPr>
        <p:spPr>
          <a:xfrm>
            <a:off x="5918040" y="5111640"/>
            <a:ext cx="12099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72.16.2.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1" name="Text Box 38"/>
          <p:cNvSpPr/>
          <p:nvPr/>
        </p:nvSpPr>
        <p:spPr>
          <a:xfrm>
            <a:off x="7429680" y="4834080"/>
            <a:ext cx="12096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72.16.2.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2" name="Text Box 39"/>
          <p:cNvSpPr/>
          <p:nvPr/>
        </p:nvSpPr>
        <p:spPr>
          <a:xfrm>
            <a:off x="1511280" y="-171360"/>
            <a:ext cx="64087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Calibri"/>
              </a:rPr>
              <a:t>Notions de base sur les réseaux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3" name="Text Box 40"/>
          <p:cNvSpPr/>
          <p:nvPr/>
        </p:nvSpPr>
        <p:spPr>
          <a:xfrm>
            <a:off x="6624720" y="3527280"/>
            <a:ext cx="2376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Composée de 4 nombres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(entre 0 et 255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4" name="Text Box 41"/>
          <p:cNvSpPr/>
          <p:nvPr/>
        </p:nvSpPr>
        <p:spPr>
          <a:xfrm>
            <a:off x="8423280" y="546120"/>
            <a:ext cx="647640" cy="390600"/>
          </a:xfrm>
          <a:prstGeom prst="rect">
            <a:avLst/>
          </a:prstGeom>
          <a:noFill/>
          <a:ln w="360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66"/>
                </a:solidFill>
                <a:latin typeface="Calibri"/>
              </a:rPr>
              <a:t>DN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6" dur="20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9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1"/>
          <p:cNvSpPr/>
          <p:nvPr/>
        </p:nvSpPr>
        <p:spPr>
          <a:xfrm>
            <a:off x="1152360" y="762120"/>
            <a:ext cx="1390680" cy="461880"/>
          </a:xfrm>
          <a:prstGeom prst="rect">
            <a:avLst/>
          </a:prstGeom>
          <a:noFill/>
          <a:ln w="360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ffff66"/>
                </a:solidFill>
                <a:latin typeface="Calibri"/>
              </a:rPr>
              <a:t>adresse IP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6" name="Text Box 2"/>
          <p:cNvSpPr/>
          <p:nvPr/>
        </p:nvSpPr>
        <p:spPr>
          <a:xfrm>
            <a:off x="3075120" y="792000"/>
            <a:ext cx="37638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Composée de 4 nombres entre 0 et 2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7" name="Text Box 3"/>
          <p:cNvSpPr/>
          <p:nvPr/>
        </p:nvSpPr>
        <p:spPr>
          <a:xfrm>
            <a:off x="1828800" y="1714680"/>
            <a:ext cx="63072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our connaître son adresse IP, ouvrir une console de commande 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Aller dans le menu démarrer,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uis taper </a:t>
            </a:r>
            <a:r>
              <a:rPr b="1" i="1" lang="fr-FR" sz="1800" spc="-1" strike="noStrike">
                <a:solidFill>
                  <a:srgbClr val="ffffff"/>
                </a:solidFill>
                <a:latin typeface="Calibri"/>
              </a:rPr>
              <a:t>cmd</a:t>
            </a: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 dans la zone de recherche suivi de Entré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8" name="Picture 4" descr=""/>
          <p:cNvPicPr/>
          <p:nvPr/>
        </p:nvPicPr>
        <p:blipFill>
          <a:blip r:embed="rId1"/>
          <a:stretch/>
        </p:blipFill>
        <p:spPr>
          <a:xfrm>
            <a:off x="1582560" y="3081240"/>
            <a:ext cx="6553440" cy="174312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5"/>
          <p:cNvSpPr/>
          <p:nvPr/>
        </p:nvSpPr>
        <p:spPr>
          <a:xfrm>
            <a:off x="2816280" y="5214960"/>
            <a:ext cx="3016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Taper </a:t>
            </a:r>
            <a:r>
              <a:rPr b="0" i="1" lang="fr-FR" sz="1800" spc="-1" strike="noStrike">
                <a:solidFill>
                  <a:srgbClr val="ffffff"/>
                </a:solidFill>
                <a:latin typeface="Calibri"/>
              </a:rPr>
              <a:t>ipconfig</a:t>
            </a: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 suivi de Entré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Text Box 6"/>
          <p:cNvSpPr/>
          <p:nvPr/>
        </p:nvSpPr>
        <p:spPr>
          <a:xfrm>
            <a:off x="1511280" y="-169920"/>
            <a:ext cx="64087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Calibri"/>
              </a:rPr>
              <a:t>Notions de base sur les réseaux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1" descr=""/>
          <p:cNvPicPr/>
          <p:nvPr/>
        </p:nvPicPr>
        <p:blipFill>
          <a:blip r:embed="rId1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2" descr=""/>
          <p:cNvPicPr/>
          <p:nvPr/>
        </p:nvPicPr>
        <p:blipFill>
          <a:blip r:embed="rId2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3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C7858-E692-4939-8A37-B6C8B1EB9BC7}" type="slidenum">
              <a:rPr b="0" lang="fr-F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4" name="Picture 4" descr=""/>
          <p:cNvPicPr/>
          <p:nvPr/>
        </p:nvPicPr>
        <p:blipFill>
          <a:blip r:embed="rId3"/>
          <a:stretch/>
        </p:blipFill>
        <p:spPr>
          <a:xfrm>
            <a:off x="576360" y="720720"/>
            <a:ext cx="6846840" cy="3456000"/>
          </a:xfrm>
          <a:prstGeom prst="rect">
            <a:avLst/>
          </a:prstGeom>
          <a:ln w="0">
            <a:noFill/>
          </a:ln>
        </p:spPr>
      </p:pic>
      <p:sp>
        <p:nvSpPr>
          <p:cNvPr id="675" name="Text Box 5"/>
          <p:cNvSpPr/>
          <p:nvPr/>
        </p:nvSpPr>
        <p:spPr>
          <a:xfrm>
            <a:off x="7524720" y="108576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66ff33"/>
                </a:solidFill>
                <a:latin typeface="Calibri"/>
              </a:rPr>
              <a:t>adresse IP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66ff33"/>
                </a:solidFill>
                <a:latin typeface="Calibri"/>
              </a:rPr>
              <a:t>de la machin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6" name="Line 6"/>
          <p:cNvSpPr/>
          <p:nvPr/>
        </p:nvSpPr>
        <p:spPr>
          <a:xfrm flipV="1">
            <a:off x="5327640" y="1428480"/>
            <a:ext cx="2232000" cy="166680"/>
          </a:xfrm>
          <a:prstGeom prst="line">
            <a:avLst/>
          </a:prstGeom>
          <a:ln cap="sq" w="9360">
            <a:solidFill>
              <a:srgbClr val="61fe2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Text Box 7"/>
          <p:cNvSpPr/>
          <p:nvPr/>
        </p:nvSpPr>
        <p:spPr>
          <a:xfrm>
            <a:off x="7632720" y="272736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ffff00"/>
                </a:solidFill>
                <a:latin typeface="Calibri"/>
              </a:rPr>
              <a:t>passerel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8" name="Line 8"/>
          <p:cNvSpPr/>
          <p:nvPr/>
        </p:nvSpPr>
        <p:spPr>
          <a:xfrm>
            <a:off x="5256360" y="1871640"/>
            <a:ext cx="2376360" cy="1079640"/>
          </a:xfrm>
          <a:prstGeom prst="line">
            <a:avLst/>
          </a:prstGeom>
          <a:ln cap="sq" w="93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9" name="Text Box 9"/>
          <p:cNvSpPr/>
          <p:nvPr/>
        </p:nvSpPr>
        <p:spPr>
          <a:xfrm>
            <a:off x="1511280" y="-169920"/>
            <a:ext cx="64087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Calibri"/>
              </a:rPr>
              <a:t>Notions de base sur les réseaux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0" name="Text Box 10"/>
          <p:cNvSpPr/>
          <p:nvPr/>
        </p:nvSpPr>
        <p:spPr>
          <a:xfrm>
            <a:off x="1295280" y="4378320"/>
            <a:ext cx="714708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masque 255.255.0.0 nous indique que les 2 premiers nombres (172.16)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correspondent à l’adresse du réseau,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et que les 2 derniers (40.100) désignent la machine dans ce réseau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1" name="Line 11"/>
          <p:cNvSpPr/>
          <p:nvPr/>
        </p:nvSpPr>
        <p:spPr>
          <a:xfrm>
            <a:off x="5184720" y="1728720"/>
            <a:ext cx="2519280" cy="360360"/>
          </a:xfrm>
          <a:prstGeom prst="line">
            <a:avLst/>
          </a:prstGeom>
          <a:ln cap="sq"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Text Box 12"/>
          <p:cNvSpPr/>
          <p:nvPr/>
        </p:nvSpPr>
        <p:spPr>
          <a:xfrm>
            <a:off x="7623360" y="179244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Masque 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Sous réseau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3" name="Text Box 13"/>
          <p:cNvSpPr/>
          <p:nvPr/>
        </p:nvSpPr>
        <p:spPr>
          <a:xfrm>
            <a:off x="1254240" y="5445000"/>
            <a:ext cx="410184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troisième chiffre peut varier de 0 à 25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dernier chiffre peut varier de 1 à 25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1"/>
          <p:cNvSpPr/>
          <p:nvPr/>
        </p:nvSpPr>
        <p:spPr>
          <a:xfrm>
            <a:off x="1511280" y="-169920"/>
            <a:ext cx="64087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Calibri"/>
              </a:rPr>
              <a:t>Notions de base sur les réseaux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5" name="Text Box 2"/>
          <p:cNvSpPr/>
          <p:nvPr/>
        </p:nvSpPr>
        <p:spPr>
          <a:xfrm>
            <a:off x="1224000" y="779400"/>
            <a:ext cx="588492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our une organisation claire du réseau on utilise :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- le troisième chiffre pour désigner la sall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- le dernier chiffre pour désigner la machin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Exemple :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salle </a:t>
            </a: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101</a:t>
            </a: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 qui comporte </a:t>
            </a:r>
            <a:r>
              <a:rPr b="0" lang="fr-FR" sz="1800" spc="-1" strike="noStrike">
                <a:solidFill>
                  <a:srgbClr val="00ff00"/>
                </a:solidFill>
                <a:latin typeface="Calibri"/>
              </a:rPr>
              <a:t>25</a:t>
            </a: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 ordinateurs 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Adresses IP des ordinateurs de </a:t>
            </a:r>
            <a:r>
              <a:rPr b="0" lang="fr-FR" sz="1800" spc="-1" strike="noStrike">
                <a:solidFill>
                  <a:srgbClr val="ffff00"/>
                </a:solidFill>
                <a:latin typeface="Calibri"/>
              </a:rPr>
              <a:t>172.16</a:t>
            </a: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101</a:t>
            </a:r>
            <a:r>
              <a:rPr b="0" lang="fr-FR" sz="1800" spc="-1" strike="noStrike">
                <a:solidFill>
                  <a:srgbClr val="00ff00"/>
                </a:solidFill>
                <a:latin typeface="Calibri"/>
              </a:rPr>
              <a:t>.1</a:t>
            </a: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 à </a:t>
            </a:r>
            <a:r>
              <a:rPr b="0" lang="fr-FR" sz="1800" spc="-1" strike="noStrike">
                <a:solidFill>
                  <a:srgbClr val="ffff00"/>
                </a:solidFill>
                <a:latin typeface="Calibri"/>
              </a:rPr>
              <a:t>172.16.</a:t>
            </a: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101</a:t>
            </a:r>
            <a:r>
              <a:rPr b="0" lang="fr-FR" sz="1800" spc="-1" strike="noStrike">
                <a:solidFill>
                  <a:srgbClr val="00ff00"/>
                </a:solidFill>
                <a:latin typeface="Calibri"/>
              </a:rPr>
              <a:t>.2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Text Box 3"/>
          <p:cNvSpPr/>
          <p:nvPr/>
        </p:nvSpPr>
        <p:spPr>
          <a:xfrm>
            <a:off x="1243080" y="3009960"/>
            <a:ext cx="524520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poste maître sera différencié avec le dernier chiff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Calibri"/>
              </a:rPr>
              <a:t>172.16</a:t>
            </a: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101</a:t>
            </a:r>
            <a:r>
              <a:rPr b="0" lang="fr-FR" sz="1800" spc="-1" strike="noStrike">
                <a:solidFill>
                  <a:srgbClr val="00ff00"/>
                </a:solidFill>
                <a:latin typeface="Calibri"/>
              </a:rPr>
              <a:t>.100</a:t>
            </a: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7" name="Text Box 4"/>
          <p:cNvSpPr/>
          <p:nvPr/>
        </p:nvSpPr>
        <p:spPr>
          <a:xfrm>
            <a:off x="1235160" y="3887640"/>
            <a:ext cx="503064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'imprimante sera différenciée avec le dernier chiff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Calibri"/>
              </a:rPr>
              <a:t>172.16</a:t>
            </a: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101</a:t>
            </a:r>
            <a:r>
              <a:rPr b="0" lang="fr-FR" sz="1800" spc="-1" strike="noStrike">
                <a:solidFill>
                  <a:srgbClr val="00ff00"/>
                </a:solidFill>
                <a:latin typeface="Calibri"/>
              </a:rPr>
              <a:t>.250</a:t>
            </a: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 Box 1"/>
          <p:cNvSpPr/>
          <p:nvPr/>
        </p:nvSpPr>
        <p:spPr>
          <a:xfrm>
            <a:off x="1511280" y="-169920"/>
            <a:ext cx="64087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Calibri"/>
              </a:rPr>
              <a:t>Notions de base sur les réseaux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9" name="Text Box 2"/>
          <p:cNvSpPr/>
          <p:nvPr/>
        </p:nvSpPr>
        <p:spPr>
          <a:xfrm>
            <a:off x="3456000" y="647640"/>
            <a:ext cx="5616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our vérifier la connexion , on va envoyer une commande de test vers une machine du réseau ou vers soi même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</a:t>
            </a:r>
            <a:r>
              <a:rPr b="1" i="1" lang="fr-FR" sz="1800" spc="-1" strike="noStrike">
                <a:solidFill>
                  <a:srgbClr val="ffffff"/>
                </a:solidFill>
                <a:latin typeface="Calibri"/>
              </a:rPr>
              <a:t>pin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90" name="Group 3"/>
          <p:cNvGrpSpPr/>
          <p:nvPr/>
        </p:nvGrpSpPr>
        <p:grpSpPr>
          <a:xfrm>
            <a:off x="1440000" y="1084320"/>
            <a:ext cx="1428480" cy="2004840"/>
            <a:chOff x="1440000" y="1084320"/>
            <a:chExt cx="1428480" cy="2004840"/>
          </a:xfrm>
        </p:grpSpPr>
        <p:pic>
          <p:nvPicPr>
            <p:cNvPr id="691" name="Picture 4" descr=""/>
            <p:cNvPicPr/>
            <p:nvPr/>
          </p:nvPicPr>
          <p:blipFill>
            <a:blip r:embed="rId1"/>
            <a:stretch/>
          </p:blipFill>
          <p:spPr>
            <a:xfrm>
              <a:off x="1440000" y="1084320"/>
              <a:ext cx="1428480" cy="200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2" name="Oval 5"/>
          <p:cNvSpPr/>
          <p:nvPr/>
        </p:nvSpPr>
        <p:spPr>
          <a:xfrm>
            <a:off x="431640" y="3816360"/>
            <a:ext cx="4896000" cy="2519280"/>
          </a:xfrm>
          <a:prstGeom prst="ellipse">
            <a:avLst/>
          </a:prstGeom>
          <a:solidFill>
            <a:srgbClr val="729fcf"/>
          </a:solidFill>
          <a:ln w="936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3" name="Picture 6" descr=""/>
          <p:cNvPicPr/>
          <p:nvPr/>
        </p:nvPicPr>
        <p:blipFill>
          <a:blip r:embed="rId2"/>
          <a:stretch/>
        </p:blipFill>
        <p:spPr>
          <a:xfrm>
            <a:off x="792000" y="4430880"/>
            <a:ext cx="970200" cy="96984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7" descr=""/>
          <p:cNvPicPr/>
          <p:nvPr/>
        </p:nvPicPr>
        <p:blipFill>
          <a:blip r:embed="rId3"/>
          <a:stretch/>
        </p:blipFill>
        <p:spPr>
          <a:xfrm>
            <a:off x="2735280" y="5222880"/>
            <a:ext cx="969840" cy="969840"/>
          </a:xfrm>
          <a:prstGeom prst="rect">
            <a:avLst/>
          </a:prstGeom>
          <a:ln w="0">
            <a:noFill/>
          </a:ln>
        </p:spPr>
      </p:pic>
      <p:sp>
        <p:nvSpPr>
          <p:cNvPr id="695" name="Text Box 8"/>
          <p:cNvSpPr/>
          <p:nvPr/>
        </p:nvSpPr>
        <p:spPr>
          <a:xfrm>
            <a:off x="1368360" y="684360"/>
            <a:ext cx="1441440" cy="39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99"/>
                </a:solidFill>
                <a:latin typeface="Calibri"/>
              </a:rPr>
              <a:t>172.16.0.25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6" name="Text Box 9"/>
          <p:cNvSpPr/>
          <p:nvPr/>
        </p:nvSpPr>
        <p:spPr>
          <a:xfrm>
            <a:off x="1079640" y="4176720"/>
            <a:ext cx="12096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72.16.1.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Text Box 10"/>
          <p:cNvSpPr/>
          <p:nvPr/>
        </p:nvSpPr>
        <p:spPr>
          <a:xfrm>
            <a:off x="2749680" y="5040360"/>
            <a:ext cx="12096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72.16.1.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98" name="Group 11"/>
          <p:cNvGrpSpPr/>
          <p:nvPr/>
        </p:nvGrpSpPr>
        <p:grpSpPr>
          <a:xfrm>
            <a:off x="3186000" y="2016000"/>
            <a:ext cx="2059200" cy="1284480"/>
            <a:chOff x="3186000" y="2016000"/>
            <a:chExt cx="2059200" cy="1284480"/>
          </a:xfrm>
        </p:grpSpPr>
        <p:pic>
          <p:nvPicPr>
            <p:cNvPr id="699" name="Picture 12" descr=""/>
            <p:cNvPicPr/>
            <p:nvPr/>
          </p:nvPicPr>
          <p:blipFill>
            <a:blip r:embed="rId4"/>
            <a:stretch/>
          </p:blipFill>
          <p:spPr>
            <a:xfrm>
              <a:off x="3186000" y="2281320"/>
              <a:ext cx="205920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Text Box 13"/>
            <p:cNvSpPr/>
            <p:nvPr/>
          </p:nvSpPr>
          <p:spPr>
            <a:xfrm>
              <a:off x="3487680" y="2016000"/>
              <a:ext cx="76680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switch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701" name="Line 15"/>
          <p:cNvSpPr/>
          <p:nvPr/>
        </p:nvSpPr>
        <p:spPr>
          <a:xfrm>
            <a:off x="2376360" y="1224000"/>
            <a:ext cx="1764000" cy="1566720"/>
          </a:xfrm>
          <a:prstGeom prst="line">
            <a:avLst/>
          </a:prstGeom>
          <a:ln w="3600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Line 16"/>
          <p:cNvSpPr/>
          <p:nvPr/>
        </p:nvSpPr>
        <p:spPr>
          <a:xfrm flipV="1">
            <a:off x="1944720" y="3212640"/>
            <a:ext cx="2195640" cy="1622520"/>
          </a:xfrm>
          <a:prstGeom prst="line">
            <a:avLst/>
          </a:prstGeom>
          <a:ln w="3600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3" name="Text Box 17"/>
          <p:cNvSpPr/>
          <p:nvPr/>
        </p:nvSpPr>
        <p:spPr>
          <a:xfrm>
            <a:off x="5881680" y="1560600"/>
            <a:ext cx="23256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ff0000"/>
                </a:solidFill>
                <a:latin typeface="Calibri"/>
              </a:rPr>
              <a:t>ping 127.0.0.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Calibri"/>
              </a:rPr>
              <a:t>=&gt; Vérifier le protocole I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4" name="Text Box 18"/>
          <p:cNvSpPr/>
          <p:nvPr/>
        </p:nvSpPr>
        <p:spPr>
          <a:xfrm>
            <a:off x="5904000" y="2232000"/>
            <a:ext cx="23032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ff0000"/>
                </a:solidFill>
                <a:latin typeface="Calibri"/>
              </a:rPr>
              <a:t>ping </a:t>
            </a:r>
            <a:r>
              <a:rPr b="1" i="1" lang="fr-FR" sz="1800" spc="-1" strike="noStrike" u="sng">
                <a:solidFill>
                  <a:srgbClr val="ff0000"/>
                </a:solidFill>
                <a:uFillTx/>
                <a:latin typeface="Calibri"/>
              </a:rPr>
              <a:t>adresse du ipconfi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Calibri"/>
              </a:rPr>
              <a:t>=&gt; Vérifier la carte réseau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5" name="Text Box 20"/>
          <p:cNvSpPr/>
          <p:nvPr/>
        </p:nvSpPr>
        <p:spPr>
          <a:xfrm>
            <a:off x="5975280" y="3614760"/>
            <a:ext cx="266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ffff66"/>
                </a:solidFill>
                <a:latin typeface="Calibri"/>
              </a:rPr>
              <a:t>ping 172.16.0.25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Calibri"/>
              </a:rPr>
              <a:t>=&gt; Vérifier la liaison au serveu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1"/>
          <p:cNvSpPr/>
          <p:nvPr/>
        </p:nvSpPr>
        <p:spPr>
          <a:xfrm>
            <a:off x="1511280" y="-169920"/>
            <a:ext cx="64087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Calibri"/>
              </a:rPr>
              <a:t>Notions de base sur les réseaux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7" name="Text Box 2"/>
          <p:cNvSpPr/>
          <p:nvPr/>
        </p:nvSpPr>
        <p:spPr>
          <a:xfrm>
            <a:off x="4535640" y="647640"/>
            <a:ext cx="4537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ouvrir une console de command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et taper : </a:t>
            </a:r>
            <a:r>
              <a:rPr b="1" i="1" lang="fr-FR" sz="1800" spc="-1" strike="noStrike">
                <a:solidFill>
                  <a:srgbClr val="ffffff"/>
                </a:solidFill>
                <a:latin typeface="Calibri"/>
              </a:rPr>
              <a:t>ping 127.0.0.1</a:t>
            </a: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08" name="Group 3"/>
          <p:cNvGrpSpPr/>
          <p:nvPr/>
        </p:nvGrpSpPr>
        <p:grpSpPr>
          <a:xfrm>
            <a:off x="1440000" y="1084320"/>
            <a:ext cx="1428480" cy="2004840"/>
            <a:chOff x="1440000" y="1084320"/>
            <a:chExt cx="1428480" cy="2004840"/>
          </a:xfrm>
        </p:grpSpPr>
        <p:pic>
          <p:nvPicPr>
            <p:cNvPr id="709" name="Picture 4" descr=""/>
            <p:cNvPicPr/>
            <p:nvPr/>
          </p:nvPicPr>
          <p:blipFill>
            <a:blip r:embed="rId1"/>
            <a:stretch/>
          </p:blipFill>
          <p:spPr>
            <a:xfrm>
              <a:off x="1440000" y="1084320"/>
              <a:ext cx="1428480" cy="200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0" name="Oval 5"/>
          <p:cNvSpPr/>
          <p:nvPr/>
        </p:nvSpPr>
        <p:spPr>
          <a:xfrm>
            <a:off x="431640" y="3816360"/>
            <a:ext cx="4896000" cy="2519280"/>
          </a:xfrm>
          <a:prstGeom prst="ellipse">
            <a:avLst/>
          </a:prstGeom>
          <a:solidFill>
            <a:srgbClr val="729fcf"/>
          </a:solidFill>
          <a:ln w="936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1" name="Picture 6" descr=""/>
          <p:cNvPicPr/>
          <p:nvPr/>
        </p:nvPicPr>
        <p:blipFill>
          <a:blip r:embed="rId2"/>
          <a:stretch/>
        </p:blipFill>
        <p:spPr>
          <a:xfrm>
            <a:off x="792000" y="4430880"/>
            <a:ext cx="970200" cy="96984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7" descr=""/>
          <p:cNvPicPr/>
          <p:nvPr/>
        </p:nvPicPr>
        <p:blipFill>
          <a:blip r:embed="rId3"/>
          <a:stretch/>
        </p:blipFill>
        <p:spPr>
          <a:xfrm>
            <a:off x="2735280" y="5222880"/>
            <a:ext cx="969840" cy="969840"/>
          </a:xfrm>
          <a:prstGeom prst="rect">
            <a:avLst/>
          </a:prstGeom>
          <a:ln w="0">
            <a:noFill/>
          </a:ln>
        </p:spPr>
      </p:pic>
      <p:sp>
        <p:nvSpPr>
          <p:cNvPr id="713" name="Text Box 8"/>
          <p:cNvSpPr/>
          <p:nvPr/>
        </p:nvSpPr>
        <p:spPr>
          <a:xfrm>
            <a:off x="1368360" y="684360"/>
            <a:ext cx="1441440" cy="39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99"/>
                </a:solidFill>
                <a:latin typeface="Calibri"/>
              </a:rPr>
              <a:t>172.16.0.25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4" name="Text Box 9"/>
          <p:cNvSpPr/>
          <p:nvPr/>
        </p:nvSpPr>
        <p:spPr>
          <a:xfrm>
            <a:off x="1079640" y="4176720"/>
            <a:ext cx="12096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72.16.1.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5" name="Text Box 10"/>
          <p:cNvSpPr/>
          <p:nvPr/>
        </p:nvSpPr>
        <p:spPr>
          <a:xfrm>
            <a:off x="2749680" y="5040360"/>
            <a:ext cx="12096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72.16.1.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16" name="Group 11"/>
          <p:cNvGrpSpPr/>
          <p:nvPr/>
        </p:nvGrpSpPr>
        <p:grpSpPr>
          <a:xfrm>
            <a:off x="3186000" y="2016000"/>
            <a:ext cx="2059200" cy="1284480"/>
            <a:chOff x="3186000" y="2016000"/>
            <a:chExt cx="2059200" cy="1284480"/>
          </a:xfrm>
        </p:grpSpPr>
        <p:pic>
          <p:nvPicPr>
            <p:cNvPr id="717" name="Picture 12" descr=""/>
            <p:cNvPicPr/>
            <p:nvPr/>
          </p:nvPicPr>
          <p:blipFill>
            <a:blip r:embed="rId4"/>
            <a:stretch/>
          </p:blipFill>
          <p:spPr>
            <a:xfrm>
              <a:off x="3186000" y="2281320"/>
              <a:ext cx="205920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 Box 13"/>
            <p:cNvSpPr/>
            <p:nvPr/>
          </p:nvSpPr>
          <p:spPr>
            <a:xfrm>
              <a:off x="3487680" y="2016000"/>
              <a:ext cx="76680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switch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719" name="Picture 14" descr=""/>
          <p:cNvPicPr/>
          <p:nvPr/>
        </p:nvPicPr>
        <p:blipFill>
          <a:blip r:embed="rId5"/>
          <a:stretch/>
        </p:blipFill>
        <p:spPr>
          <a:xfrm>
            <a:off x="3743280" y="1333440"/>
            <a:ext cx="5256360" cy="26002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15" descr=""/>
          <p:cNvPicPr/>
          <p:nvPr/>
        </p:nvPicPr>
        <p:blipFill>
          <a:blip r:embed="rId6"/>
          <a:stretch/>
        </p:blipFill>
        <p:spPr>
          <a:xfrm>
            <a:off x="3743280" y="4270320"/>
            <a:ext cx="5303880" cy="127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8:31:53Z</dcterms:created>
  <dc:creator>Fred</dc:creator>
  <dc:description/>
  <dc:language>en-US</dc:language>
  <cp:lastModifiedBy>Administrateur Windows</cp:lastModifiedBy>
  <dcterms:modified xsi:type="dcterms:W3CDTF">2014-12-09T12:17:27Z</dcterms:modified>
  <cp:revision>174</cp:revision>
  <dc:subject/>
  <dc:title>ACCOMPAGNEMENT  DES ENSEIGNANTS RESSOURCES TICE</dc:title>
</cp:coreProperties>
</file>