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dt" idx="2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BCD50-F950-4E03-AF88-7C29D471E17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1AB2E-FE2C-48B3-B7CC-2CD7DFF99CB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3BA83-DE11-4961-8166-CBBF43F86AD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84E49-6D9D-46CB-8A5F-79F16042C64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936B8-A3FE-492A-A14F-AC04358AA6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CA10E-5FC4-4238-9F19-F189B908D5D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64956-9F21-432A-A6C0-D98A5150646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378EB-F64D-4B38-9C84-5DB1A2AA05D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409C4-8A87-49DF-973E-0ED909E1C1C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A66BF-AE46-4FC9-AF0A-7C652EC717B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0A5A9-50FD-4AD3-8BAC-BBFE4C138B9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5A385-FF2C-48CD-ADC5-58548BE97CD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66136-F70A-4E16-8F31-60A8B3260E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D80AB-74B4-4E5E-A079-1476339558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ACFE2-78A8-4AF1-8685-20A93B2FF17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FE3C7-6A86-4333-B3A0-C34C3E43A3B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717AF-F55E-4459-9D69-310C9B16B05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AC522-1BFC-4B26-B5D0-1F1FA06B44B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5E3E6-76B9-4EF6-8509-C1C5D2F3986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72424-4284-432A-93D1-CF82ADAC35D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7E0E5-BB7D-4AC7-9774-2D28B1B2E62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12D27-0F3C-4F68-A89F-F1A12A18243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EE30B-31AB-41E0-AEE3-8700D034E11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0902C-7E21-4C2E-BAC3-0F87565DE21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30CAF-4CAF-4E2E-8C7A-AE66F27CAEC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8E25C-F69B-4D85-9154-1FB5B4F4C7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274D0-2884-47C7-ADBC-3F1058A9ED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7689A-51EC-4E84-A470-AFD5EDD226E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8B1F3-E9FB-4DBE-9E77-175E7E9C5D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80E29-B767-45D2-BE7E-ADA5D8B8D84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F8A4D-C05B-4C7F-87E9-D7B6848886C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AD209-B8A9-496E-8F7F-3238177CF90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259A2-27A3-433B-BC27-9A2953A89D8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7120B-24AC-40FD-840A-479F007450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B9FD-0498-4D53-953D-7638D3E9F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FDB3-A347-4DEF-A417-91CF2E24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8868-5E4B-4AAD-BCDB-35A60C3A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F45F-A6B8-4241-93B9-7592076D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60D7-C5E3-4EF3-A836-56993DF0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E2C4-D0DD-421A-A6B5-F5F1C15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FDD0-CB9A-4D05-AB43-C686C11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31CA2-FF07-4F79-9910-9DA90D7F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908E-6C21-4C47-9A59-D7519FA0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4B6E-B1F6-4792-8342-7D95E7D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80349-5932-405A-A359-4977CD490F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6ADCD-BA01-4DD4-A76E-5DE1A7DF7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43A4-93CB-4E5D-95C7-61876416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849EC-F763-4822-B4C2-2C63E510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0E9B7-AC62-4EE2-9C36-0B03E61B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D67D1-6468-4249-9837-5C81225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AA9DE-5924-4802-8C2A-F1B948A3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1C102-395E-4137-AB7B-C88C4C7F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2AF04-D633-4765-B388-61C67B96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E0D0B-BE3E-479D-9E39-2EF14B2C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8A6B7-FE48-4E9D-BF01-F5CEB0A6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3EBA9-B090-40B2-8284-9538734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16235-326A-4EB6-A170-C3B6599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E657-9D06-4438-9F54-D5A4DBCDC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8E042-B31D-41EF-9CDC-3FDA7BA4D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129D05-FAA9-43BB-870C-B0A1127D9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6DA79C-4F99-4BA6-B9E6-30189634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75A3D-09EB-4475-A6B9-F8644A0F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09822-C257-491F-A858-958926F2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6E3EA7-BB6F-40C6-AB0D-E952585B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C97DB-2B3B-42B2-B1A7-3BD3C416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EEDA2F-537F-4B9E-82CA-6E2F9EC2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4C82F-9087-4028-AB8B-483AEF26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5B3B43-F0F7-4BCD-928C-68EA9BE2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8AE54-B6F3-48A1-8B87-8CD4B70F0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85F12C-9390-4FA7-97AD-387CDE8F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051A9F-0A4E-4910-80DD-D1982DCE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3CF253-4A95-4916-B85E-1639B0E98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BD60-26E8-4F47-AE6E-6C8677DAF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EA290-5383-4216-92E3-8083F34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9073-9542-42D1-963B-1A9E8BA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BB59-51CE-4E31-A18D-47D56E4A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A1D89-DC91-473B-810E-A389D5A8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ECB4E-5BB0-4AE6-8F8E-4E545015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480A6-33C8-4FF3-B62D-FA834D9F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0D5D-A138-462E-AB46-515869B4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D858-86C8-4256-860B-E404466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0C9D8-41B1-4E8D-8F53-BDF155DD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A1D55-4B43-4FE0-82DB-10AC57C1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8F25-9F02-426A-886F-1695FB6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B55EC-6B94-4250-8DB3-4EF890763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AC3F7-C8A3-48D2-9C45-FDB83D176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276C5-1A62-44EE-BE22-5D0E872B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83488-875D-43D7-A340-AC58ECA8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C3EC02-5C10-4609-86D9-4807063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A5595-4E66-4217-985F-AE26FD52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FE7BC-BB2A-4201-A66E-FE28F97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EF9F4-7F74-4F04-BF77-EFB897B9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A9030-FA80-4BD0-A957-8C4A69ED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7CE98-511E-4104-BEA9-D28C7582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F5D45-6DD2-4A18-BF7A-3BAE6048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5C3401-E1D2-4E9D-8E54-4F604129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51E708-8BCE-45C9-8B9C-447BF6E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6F2A2-1336-476C-961D-E041DDC52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9F9DD-610F-4735-94D1-C3E4C290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9B1D0-13A9-410A-9F8F-70A41C91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036B3-B453-4E52-9B8F-C0912FF1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8F29F-3E5F-4348-9E94-A476DD81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F3D8-5956-4824-8EB9-72A52C3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13111-93FB-4E8A-B887-220E0715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B2076-170A-420B-847C-17A419A8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46353-D9DF-45CC-8FB7-E45991FA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4CA99-8EFB-4B04-AFEC-B313C5D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0673A-3EAF-42CF-90DA-C5F0EA12A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358-7A93-487F-8235-58D529B38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BE5-3B2F-40BD-B422-467D2DD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9122-F824-401E-9F8E-297AEF0D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85BD-3230-42FE-9F29-7038B9B3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A78-9068-4F1F-9642-CF459B8C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D84C-81D2-494D-86BB-67E44AC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1F8D-57FF-471E-849D-CCB9887F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7952-2EF3-4FA5-876A-A93E88A0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598E-F42C-40DE-A551-139F5EBD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260E-11F9-4893-8159-FF08DB8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F5BC-ECCE-4C2C-9BDB-7C11238C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1EBB-432B-49D4-BC8B-3914D47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992E-85C0-4089-891E-273806565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5D8DC-2585-4022-90B4-53ACEF076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626DB-3512-4118-9140-F2667661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DE798-097B-4E50-B889-31F2A43A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4F4F-0A9D-450E-BAFB-157081E1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48856-2526-4D37-A7D3-DB98535F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D952A-BED7-4E98-A838-10FDA58D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F9DFE-EA73-4321-BFF9-0A66D6BA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F7E10-1303-443C-B4D3-51AD63D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61F77-F4D4-4B57-994D-D8A980DC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9F2C5-F332-42EA-AADB-A781EE0B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5162A-E252-497A-BC4E-3948699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BB69A-12EF-4E92-8205-6EC0271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F9173-BF68-42D3-AF28-25F9E96D1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AA7A2-E1D2-4360-8A09-6DF3AE300A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DFDE-EEDD-4C08-BE1A-D2D8EF05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C867F-E1BE-4EB6-AB58-87AED4D9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FF4C2-1291-4AA6-95F8-BD1FF7E8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E01E9-E269-42FF-A201-0A176AAF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5823E-4C54-4343-8523-BF71C3CA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C1617-CD90-486A-BB18-75847DFE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88B24-5B28-45C0-A0D4-D1D3469F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31B5D-7BA2-4833-853C-C185AE70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D7144-E621-4BF1-8FD6-31ECE7D5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E0BD2-A780-4ABC-9852-C64C405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C7989F-91A3-45C3-9018-1B28E79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DAE4-7EE5-4B04-9FC0-CE2D9463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D1911-C36C-4067-847F-F69B0CE5D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1464-9839-444F-9C50-7C4D3E980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4D98-6E4F-48D5-8F63-876FB9E0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8091-E5B7-49F8-A7A9-ABCACAA3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6B01B-FEB1-4D7D-AE9B-F6B7E68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A7CD-FAD1-41E2-9A01-CA753C4E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AA8C-54F1-4489-8DF4-D81A015F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D4ED5-8315-408B-8769-A0B472F4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C9F1-0391-4F66-A700-2A2AB6D4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CD45-EAA2-4A58-8549-6DAF91E1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97E6-0515-4A7A-B791-3B50FA43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B4E5-5111-4315-B19D-A7E273E3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E8CC-153A-4BE1-A59C-01C5326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C32B-6356-45DB-BF8A-C9A349BE7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14C9B-5FAD-4B73-B694-264F560AF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4E55E-E49F-4A85-874F-A43270CF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E3722-0FB2-4088-B67F-D9DC0F37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E68E8-A9A1-4406-A387-4C9AACA1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EE095-EC6C-4972-AA26-90D1491F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1C808-73D1-4689-950E-D114DCCF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136FE-D879-4922-BDB6-D9195FCD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9B0D-0E36-4800-8EED-7BCE3FE8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5A3B2-6E3D-4269-B751-EDA9508B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13321-148B-4F15-B63D-57B4F48C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117D9-7285-4683-8F4C-DD1F9473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9459E-C20F-4F7B-B00E-AB4905F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2E5FD-509A-4BDA-8DD3-E3B9C8C40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7EEEB-4A5B-4FDE-8F0C-D04D5D076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D331A8-D4DB-49B4-A1F7-3BB2AB5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74DF86-E862-4B78-9C95-596CE93F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FC71CC-1AA4-4487-88E9-330E4EB8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14905-3332-4A9F-B980-1AFBF085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8D8B-00E6-48D3-8BDE-26E22FAD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900C7D-1108-45FE-A881-9A83A0B4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79F37A-F6F0-422A-8098-AD47531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350C2C-CF48-4732-9D7E-DC218B4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CEECB-CE07-4049-A4DD-84C906EC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EF949-4B9F-44AC-9CA8-A26EC2AC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E8938B-7618-429C-89DE-4EA91F6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F59E9-7420-4FE8-8CC4-0FE0ED9E6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DB0AB-D9C5-4C70-A570-104A51573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4512-F8AE-4E89-88A7-27EAA17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08FC-57C7-487A-A12A-01411B0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3280"/>
            <a:ext cx="15224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B541FA-9C7D-44CE-9F11-D3E089E41DB1}" type="datetime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440" y="6353280"/>
            <a:ext cx="988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DCEDF7-F305-4B48-A628-7FB4D4C0AF3F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0A628-977A-4E10-A9F0-BD5F0CBB0347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61A091F-A42B-49AA-8605-2B2EB15B7D91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C18AF-695F-4B5F-94CF-340D21EF716E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0C60F3B-FF51-4A8E-A6B3-1C4350DA3B8D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27BCB-0405-4196-91FA-F51C37C2524A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23FAA-AA87-4008-9AEC-3EC1B6F988EC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776DD-1E03-4192-BBD7-14B01FC396BC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1613-F7C9-4270-9FDF-BEE4AB47D045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F5CF3-7BBA-4561-9819-CF2D6B53953A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C9E1AB3-6264-4E91-97C4-319122BC33F2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AB81-DAD6-42B2-8F0D-77092B8F2B3D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FDFEB-5892-44E0-84C1-67767BCD4E79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F656A-95A4-49F7-93B4-3BE548630A23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4DBE6-D241-4974-92D0-578689CB7EEE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E09547-165F-4419-A7D4-ACF351292FE7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CD32FA45-3DA2-418A-BA72-0620E73B8FCB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80EE39-E66B-4C8E-84B6-E06D278CDB9E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FC4A184B-8866-4CD6-B0DC-89E774FA55DF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82C008-D008-41DE-A031-247896ADECC2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C9736ECF-E690-48C3-81EE-A2825779AC30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42560" cy="3777840"/>
            <a:chOff x="0" y="1176480"/>
            <a:chExt cx="9142560" cy="37778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4256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0" y="1521720"/>
              <a:ext cx="9142560" cy="34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45D01-C30B-4962-A20D-1EF8F9BBA9DD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6C3E73A-030A-44DC-A6C8-8DB872EACCEC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B0F2A-1FC9-4F96-910F-A8305A1B14B5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8E9EFE9-8804-459C-B236-8671FEC3B9D9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s://serveur:9999/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5.png"/><Relationship Id="rId5" Type="http://schemas.openxmlformats.org/officeDocument/2006/relationships/image" Target="../media/image9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7.png"/><Relationship Id="rId5" Type="http://schemas.openxmlformats.org/officeDocument/2006/relationships/image" Target="../media/image9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3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hyperlink" Target="http://webdaip.ac-lille.fr/daipetab" TargetMode="External"/><Relationship Id="rId5" Type="http://schemas.openxmlformats.org/officeDocument/2006/relationships/hyperlink" Target="http://webdaip.ac-lille.fr/daipetab" TargetMode="External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hyperlink" Target="http://www3.ac-lille.fr/crid-systeme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1"/>
          <p:cNvGrpSpPr/>
          <p:nvPr/>
        </p:nvGrpSpPr>
        <p:grpSpPr>
          <a:xfrm>
            <a:off x="396720" y="5224320"/>
            <a:ext cx="8496360" cy="1346400"/>
            <a:chOff x="396720" y="5224320"/>
            <a:chExt cx="8496360" cy="1346400"/>
          </a:xfrm>
        </p:grpSpPr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963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"/>
            <p:cNvSpPr/>
            <p:nvPr/>
          </p:nvSpPr>
          <p:spPr>
            <a:xfrm>
              <a:off x="396720" y="5224320"/>
              <a:ext cx="849636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6" name="Group 4"/>
          <p:cNvGrpSpPr/>
          <p:nvPr/>
        </p:nvGrpSpPr>
        <p:grpSpPr>
          <a:xfrm>
            <a:off x="0" y="-23760"/>
            <a:ext cx="9142560" cy="3344760"/>
            <a:chOff x="0" y="-23760"/>
            <a:chExt cx="9142560" cy="3344760"/>
          </a:xfrm>
        </p:grpSpPr>
        <p:pic>
          <p:nvPicPr>
            <p:cNvPr id="58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-23760"/>
              <a:ext cx="9142560" cy="33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6"/>
            <p:cNvSpPr/>
            <p:nvPr/>
          </p:nvSpPr>
          <p:spPr>
            <a:xfrm>
              <a:off x="0" y="-23760"/>
              <a:ext cx="914256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9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2A3006-B793-4A06-AA23-FF2E72793992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052002-ED34-49C9-8116-0CC3AF02CF0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"/>
          <p:cNvPicPr/>
          <p:nvPr/>
        </p:nvPicPr>
        <p:blipFill>
          <a:blip r:embed="rId5"/>
          <a:stretch/>
        </p:blipFill>
        <p:spPr>
          <a:xfrm>
            <a:off x="7716960" y="86040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"/>
          <p:cNvPicPr/>
          <p:nvPr/>
        </p:nvPicPr>
        <p:blipFill>
          <a:blip r:embed="rId6"/>
          <a:stretch/>
        </p:blipFill>
        <p:spPr>
          <a:xfrm>
            <a:off x="1592280" y="2247840"/>
            <a:ext cx="6124680" cy="417204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1908000" y="423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  <a:ea typeface="Arial"/>
              </a:rPr>
              <a:t>eleves.csv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Rectangle à coins arrondis 1"/>
          <p:cNvSpPr/>
          <p:nvPr/>
        </p:nvSpPr>
        <p:spPr>
          <a:xfrm>
            <a:off x="1908000" y="4237200"/>
            <a:ext cx="1368720" cy="48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7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7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99B4ED-1CC9-4C05-875D-6D9C9329288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5"/>
          <a:stretch/>
        </p:blipFill>
        <p:spPr>
          <a:xfrm>
            <a:off x="7886880" y="82872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78" name="ZoneTexte 1"/>
          <p:cNvSpPr/>
          <p:nvPr/>
        </p:nvSpPr>
        <p:spPr>
          <a:xfrm>
            <a:off x="1155600" y="2637000"/>
            <a:ext cx="345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le format de connexion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Fichi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réer les comptes à parti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’un fichier cs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crée deux fichier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le répertoire d’installat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e SconetKwartz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Fichiers à déplacer dans le dossie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9" name="Picture 10" descr=""/>
          <p:cNvPicPr/>
          <p:nvPr/>
        </p:nvPicPr>
        <p:blipFill>
          <a:blip r:embed="rId6"/>
          <a:stretch/>
        </p:blipFill>
        <p:spPr>
          <a:xfrm>
            <a:off x="4835520" y="2625840"/>
            <a:ext cx="41562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8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8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240E35-452F-4812-865B-831C9889D699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9"/>
          <p:cNvSpPr/>
          <p:nvPr/>
        </p:nvSpPr>
        <p:spPr>
          <a:xfrm>
            <a:off x="1316520" y="234936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9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1" descr=""/>
          <p:cNvPicPr/>
          <p:nvPr/>
        </p:nvPicPr>
        <p:blipFill>
          <a:blip r:embed="rId7"/>
          <a:stretch/>
        </p:blipFill>
        <p:spPr>
          <a:xfrm>
            <a:off x="1539720" y="2881440"/>
            <a:ext cx="2390760" cy="316836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à coins arrondis 1"/>
          <p:cNvSpPr/>
          <p:nvPr/>
        </p:nvSpPr>
        <p:spPr>
          <a:xfrm>
            <a:off x="2050920" y="4869000"/>
            <a:ext cx="136872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9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9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9EE496-C911-4A1D-854D-5EF68B60150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00" name="ZoneTexte 2"/>
          <p:cNvSpPr/>
          <p:nvPr/>
        </p:nvSpPr>
        <p:spPr>
          <a:xfrm>
            <a:off x="1647000" y="2852640"/>
            <a:ext cx="60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jouter les utilisateurs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léter l’écran de création des groupes, liste de diffusion, 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ttendre la création des groupes et des utilisateu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03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05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B1149A-7DA1-4D73-83E3-920B1332E4A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348560" y="3573360"/>
            <a:ext cx="691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ous les fichiers que SconetKwartz devra traiter devront être mis dan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son répertoire d’install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e logiciel nécessite d’avoir les fichiers suivant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export (sans extension) pour une mise à jo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d’exportation des élèves de l’année N+1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à récupérer à l’administration site Siècle base en cours …et à renom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n eleves.csv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ZoneTexte 1"/>
          <p:cNvSpPr/>
          <p:nvPr/>
        </p:nvSpPr>
        <p:spPr>
          <a:xfrm>
            <a:off x="1350720" y="2506680"/>
            <a:ext cx="62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’année N+1, FAIRE LA SAUVEGARDE COMPLETE DU SERVE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Kwartz-Control, Menu Utilisateurs, Générer le fichier export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par défaut, il se trouve dans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1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857AA5-21E7-463C-BA84-1E9A69720357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2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2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B43C13-D767-4B42-B6A0-E1FDB9DA9F9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6"/>
          <a:stretch/>
        </p:blipFill>
        <p:spPr>
          <a:xfrm>
            <a:off x="1440000" y="2255760"/>
            <a:ext cx="6124320" cy="41720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0"/>
          <p:cNvSpPr/>
          <p:nvPr/>
        </p:nvSpPr>
        <p:spPr>
          <a:xfrm>
            <a:off x="1692360" y="42242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eleves.csv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3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3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263309-B18A-45E6-B371-2892071E14C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9"/>
          <p:cNvSpPr/>
          <p:nvPr/>
        </p:nvSpPr>
        <p:spPr>
          <a:xfrm>
            <a:off x="816120" y="2349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doit voir le fichier eleves.csv apparaît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dans le menu Fichiers la bonne op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Quand on choisit Mise à jour des comptes  à partir d’un fichier csv, il faut indiquer 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emin du fichier export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va créer des fichiers au format txt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modifi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supprim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oublon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  <a:ea typeface="Arial"/>
              </a:rPr>
              <a:t>(Fichiers à recopier dans Listes des Utilisateurs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a question sur le groupe Profs, choisir N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5184720" y="2708280"/>
            <a:ext cx="4392720" cy="3616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" descr=""/>
          <p:cNvPicPr/>
          <p:nvPr/>
        </p:nvPicPr>
        <p:blipFill>
          <a:blip r:embed="rId7"/>
          <a:stretch/>
        </p:blipFill>
        <p:spPr>
          <a:xfrm>
            <a:off x="5337000" y="2860560"/>
            <a:ext cx="43927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A55299-2434-48EE-BD29-437F54B6148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9"/>
          <p:cNvSpPr/>
          <p:nvPr/>
        </p:nvSpPr>
        <p:spPr>
          <a:xfrm>
            <a:off x="1303200" y="234936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Il faut d’abord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  <a:ea typeface="Arial"/>
              </a:rPr>
              <a:t>les copier dans le dossier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0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1" descr=""/>
          <p:cNvPicPr/>
          <p:nvPr/>
        </p:nvPicPr>
        <p:blipFill>
          <a:blip r:embed="rId7"/>
          <a:stretch/>
        </p:blipFill>
        <p:spPr>
          <a:xfrm>
            <a:off x="2462040" y="3017880"/>
            <a:ext cx="23911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5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5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4B7E76-4E6B-40E4-9A78-F77EE5E0F0D9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9" descr=""/>
          <p:cNvPicPr/>
          <p:nvPr/>
        </p:nvPicPr>
        <p:blipFill>
          <a:blip r:embed="rId6"/>
          <a:stretch/>
        </p:blipFill>
        <p:spPr>
          <a:xfrm>
            <a:off x="1736640" y="2924280"/>
            <a:ext cx="6096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7"/>
          <p:cNvSpPr/>
          <p:nvPr/>
        </p:nvSpPr>
        <p:spPr>
          <a:xfrm>
            <a:off x="833400" y="3081240"/>
            <a:ext cx="8310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 u="sng">
                <a:solidFill>
                  <a:srgbClr val="ccccff"/>
                </a:solidFill>
                <a:uFillTx/>
                <a:latin typeface="Trebuchet MS"/>
                <a:ea typeface="Arial"/>
                <a:hlinkClick r:id="rId5"/>
              </a:rPr>
              <a:t>https://serveur:9999 </a:t>
            </a:r>
            <a:r>
              <a:rPr b="0" lang="fr-FR" sz="4000" spc="-1" strike="noStrike">
                <a:solidFill>
                  <a:srgbClr val="ffffff"/>
                </a:solidFill>
                <a:latin typeface="Trebuchet MS"/>
                <a:ea typeface="Arial"/>
              </a:rPr>
              <a:t>ou</a:t>
            </a:r>
            <a:r>
              <a:rPr b="0" lang="fr-FR" sz="4000" spc="-1" strike="noStrike">
                <a:solidFill>
                  <a:srgbClr val="0000ff"/>
                </a:solidFill>
                <a:latin typeface="Trebuchet MS"/>
                <a:ea typeface="Arial"/>
              </a:rPr>
              <a:t> </a:t>
            </a:r>
            <a:r>
              <a:rPr b="0" lang="fr-FR" sz="4000" spc="-1" strike="noStrike">
                <a:solidFill>
                  <a:srgbClr val="ffff00"/>
                </a:solidFill>
                <a:latin typeface="Trebuchet MS"/>
                <a:ea typeface="Arial"/>
              </a:rPr>
              <a:t>https://adresse_ip_serveur:999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2340000" y="443700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Version de kwartz 5.x.r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Login : kwar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Mdp : 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6"/>
          <a:stretch/>
        </p:blipFill>
        <p:spPr>
          <a:xfrm>
            <a:off x="6110280" y="223056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0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C4DEFF-C955-4055-88B9-7B66B722A06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6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6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28DE25-0554-400F-A6CD-2D9D324A3DED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9" descr=""/>
          <p:cNvPicPr/>
          <p:nvPr/>
        </p:nvPicPr>
        <p:blipFill>
          <a:blip r:embed="rId6"/>
          <a:stretch/>
        </p:blipFill>
        <p:spPr>
          <a:xfrm>
            <a:off x="1692360" y="2852640"/>
            <a:ext cx="632448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6642000" y="15368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7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7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8"/>
          <p:cNvSpPr/>
          <p:nvPr/>
        </p:nvSpPr>
        <p:spPr>
          <a:xfrm>
            <a:off x="825480" y="2529000"/>
            <a:ext cx="558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ffff00"/>
                </a:solidFill>
                <a:latin typeface="Calibri"/>
                <a:ea typeface="Arial"/>
              </a:rPr>
              <a:t>Transfert des fichiers dans « listes  utilisateurs » du compte Winadmi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55A6E3-67F3-4FD3-895C-2E2E17F3F5D9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1212120" y="3257640"/>
            <a:ext cx="8832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élèves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Outil Base élève établissement sur le site académique, 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ations, En XML, et sélectionnez Elèves sans adress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ExportXML_ElevesSansAdresses.zip 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ontenant le fichier ElevesSansAdress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personnel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our obtenir ce fichier, allez dans l'outil Gestion des structures et des services (STSWeb) sur le site académique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s, Services, et Exporter les services à destination d'un éditeur privé de logiciel de gestion des not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services_RNE_AAAA.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8216F4-668F-400E-8C76-75B812A0099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4"/>
          <a:stretch/>
        </p:blipFill>
        <p:spPr>
          <a:xfrm>
            <a:off x="969840" y="2060640"/>
            <a:ext cx="7083720" cy="2614680"/>
          </a:xfrm>
          <a:prstGeom prst="rect">
            <a:avLst/>
          </a:prstGeom>
          <a:ln w="0">
            <a:noFill/>
          </a:ln>
        </p:spPr>
      </p:pic>
      <p:grpSp>
        <p:nvGrpSpPr>
          <p:cNvPr id="785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86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88" name="Picture 9" descr=""/>
          <p:cNvPicPr/>
          <p:nvPr/>
        </p:nvPicPr>
        <p:blipFill>
          <a:blip r:embed="rId6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A17FE0-B44C-4733-B2FE-37EAFE9343D9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3" name="Picture 5" descr=""/>
          <p:cNvPicPr/>
          <p:nvPr/>
        </p:nvPicPr>
        <p:blipFill>
          <a:blip r:embed="rId4"/>
          <a:stretch/>
        </p:blipFill>
        <p:spPr>
          <a:xfrm>
            <a:off x="878040" y="1560600"/>
            <a:ext cx="2614320" cy="160956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5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97" name="Picture 9" descr=""/>
          <p:cNvPicPr/>
          <p:nvPr/>
        </p:nvPicPr>
        <p:blipFill>
          <a:blip r:embed="rId6"/>
          <a:stretch/>
        </p:blipFill>
        <p:spPr>
          <a:xfrm>
            <a:off x="3367080" y="1700280"/>
            <a:ext cx="577692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9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118FFC-C6D1-443F-B853-CDD2DEE8E3C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825480" y="2003400"/>
            <a:ext cx="8209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ise à jour à distance sur le serveur 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 faire régulièrem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6" name="Picture 9" descr=""/>
          <p:cNvPicPr/>
          <p:nvPr/>
        </p:nvPicPr>
        <p:blipFill>
          <a:blip r:embed="rId5"/>
          <a:stretch/>
        </p:blipFill>
        <p:spPr>
          <a:xfrm>
            <a:off x="1581120" y="2987640"/>
            <a:ext cx="583884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08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0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A26AA7-DA1D-4C58-9506-45D92041023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166680" y="313704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4" name="Picture 8" descr=""/>
          <p:cNvPicPr/>
          <p:nvPr/>
        </p:nvPicPr>
        <p:blipFill>
          <a:blip r:embed="rId4"/>
          <a:stretch/>
        </p:blipFill>
        <p:spPr>
          <a:xfrm>
            <a:off x="2556000" y="2003400"/>
            <a:ext cx="5397480" cy="42861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" descr=""/>
          <p:cNvPicPr/>
          <p:nvPr/>
        </p:nvPicPr>
        <p:blipFill>
          <a:blip r:embed="rId5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1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4F7433-08C8-4705-B9C5-E2DDABCD656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8" descr=""/>
          <p:cNvPicPr/>
          <p:nvPr/>
        </p:nvPicPr>
        <p:blipFill>
          <a:blip r:embed="rId5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25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27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AC083-70F5-440C-BBD2-F64616CAC55D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2" name="Picture 9" descr=""/>
          <p:cNvPicPr/>
          <p:nvPr/>
        </p:nvPicPr>
        <p:blipFill>
          <a:blip r:embed="rId5"/>
          <a:stretch/>
        </p:blipFill>
        <p:spPr>
          <a:xfrm>
            <a:off x="3276720" y="2060640"/>
            <a:ext cx="38606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34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36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13956F-70DE-4016-A79C-CB38F52227C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0" name="Picture 8" descr=""/>
          <p:cNvPicPr/>
          <p:nvPr/>
        </p:nvPicPr>
        <p:blipFill>
          <a:blip r:embed="rId5"/>
          <a:stretch/>
        </p:blipFill>
        <p:spPr>
          <a:xfrm>
            <a:off x="1763640" y="2421000"/>
            <a:ext cx="657864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905BFB-4D1B-4425-A770-B9ED9105003D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9" name="Picture 9" descr=""/>
          <p:cNvPicPr/>
          <p:nvPr/>
        </p:nvPicPr>
        <p:blipFill>
          <a:blip r:embed="rId5"/>
          <a:stretch/>
        </p:blipFill>
        <p:spPr>
          <a:xfrm>
            <a:off x="2909880" y="2165400"/>
            <a:ext cx="569448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0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0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6"/>
          <a:stretch/>
        </p:blipFill>
        <p:spPr>
          <a:xfrm>
            <a:off x="1090440" y="2871720"/>
            <a:ext cx="7804440" cy="117648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DDE87D-FAC2-410A-B219-64DBC9584BD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7"/>
          <a:stretch/>
        </p:blipFill>
        <p:spPr>
          <a:xfrm>
            <a:off x="3780000" y="3776760"/>
            <a:ext cx="97128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0413C-E57D-4D68-AE3E-9EB39DD7D6C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7" name="Picture 8" descr=""/>
          <p:cNvPicPr/>
          <p:nvPr/>
        </p:nvPicPr>
        <p:blipFill>
          <a:blip r:embed="rId5"/>
          <a:stretch/>
        </p:blipFill>
        <p:spPr>
          <a:xfrm>
            <a:off x="1187280" y="1873080"/>
            <a:ext cx="3063960" cy="15782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" descr=""/>
          <p:cNvPicPr/>
          <p:nvPr/>
        </p:nvPicPr>
        <p:blipFill>
          <a:blip r:embed="rId6"/>
          <a:stretch/>
        </p:blipFill>
        <p:spPr>
          <a:xfrm>
            <a:off x="1393920" y="3510000"/>
            <a:ext cx="7524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D2BEDC-5776-45C7-9496-0FD4832F4D67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A59A32-2B05-4EAB-80DA-273A4724A04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874800" y="1916280"/>
            <a:ext cx="15364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appor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5" name="Picture 10" descr=""/>
          <p:cNvPicPr/>
          <p:nvPr/>
        </p:nvPicPr>
        <p:blipFill>
          <a:blip r:embed="rId5"/>
          <a:stretch/>
        </p:blipFill>
        <p:spPr>
          <a:xfrm>
            <a:off x="2700360" y="2003400"/>
            <a:ext cx="61610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1"/>
          <p:cNvGrpSpPr/>
          <p:nvPr/>
        </p:nvGrpSpPr>
        <p:grpSpPr>
          <a:xfrm>
            <a:off x="176040" y="-6480"/>
            <a:ext cx="8790120" cy="1382760"/>
            <a:chOff x="176040" y="-6480"/>
            <a:chExt cx="8790120" cy="1382760"/>
          </a:xfrm>
        </p:grpSpPr>
        <p:pic>
          <p:nvPicPr>
            <p:cNvPr id="877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-6480"/>
              <a:ext cx="87901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Text Box 3"/>
            <p:cNvSpPr/>
            <p:nvPr/>
          </p:nvSpPr>
          <p:spPr>
            <a:xfrm>
              <a:off x="176040" y="-6480"/>
              <a:ext cx="8790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79" name="Picture 4" descr=""/>
          <p:cNvPicPr/>
          <p:nvPr/>
        </p:nvPicPr>
        <p:blipFill>
          <a:blip r:embed="rId2"/>
          <a:stretch/>
        </p:blipFill>
        <p:spPr>
          <a:xfrm>
            <a:off x="901800" y="6345360"/>
            <a:ext cx="8205840" cy="6840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5" descr=""/>
          <p:cNvPicPr/>
          <p:nvPr/>
        </p:nvPicPr>
        <p:blipFill>
          <a:blip r:embed="rId3"/>
          <a:stretch/>
        </p:blipFill>
        <p:spPr>
          <a:xfrm>
            <a:off x="146160" y="1163520"/>
            <a:ext cx="5930640" cy="85428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6"/>
          <p:cNvSpPr/>
          <p:nvPr/>
        </p:nvSpPr>
        <p:spPr>
          <a:xfrm>
            <a:off x="342720" y="1773360"/>
            <a:ext cx="7095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collèg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infrastructure réseau : VDIS « LA CAMIF 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Lycé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l’infrastructure réseau : Les UTI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6"/>
          <a:stretch/>
        </p:blipFill>
        <p:spPr>
          <a:xfrm>
            <a:off x="6080040" y="1197000"/>
            <a:ext cx="219096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"/>
          <p:cNvPicPr/>
          <p:nvPr/>
        </p:nvPicPr>
        <p:blipFill>
          <a:blip r:embed="rId7"/>
          <a:stretch/>
        </p:blipFill>
        <p:spPr>
          <a:xfrm>
            <a:off x="324000" y="5572080"/>
            <a:ext cx="8570880" cy="85896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9"/>
          <p:cNvSpPr/>
          <p:nvPr/>
        </p:nvSpPr>
        <p:spPr>
          <a:xfrm>
            <a:off x="980640" y="6114960"/>
            <a:ext cx="32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http://www3.ac-lille.fr/crid-systeme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Text Box 10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5C05DF-BE56-48F4-9F50-C7B111343502}" type="slidenum">
              <a:rPr b="0" lang="fr-FR" sz="1400" spc="-1" strike="noStrike">
                <a:solidFill>
                  <a:srgbClr val="adae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7F9EAD-83D6-4BB3-BE71-465326EE32C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826920" y="4618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un réseau Kwartz, un utilisateur doit faire partie d’un group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Nous allons donc créer un groupe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Gestion des groupes, Ajouter un groupe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3116520" y="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alibri"/>
                <a:ea typeface="Arial"/>
              </a:rPr>
              <a:t>Création d’un grou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1392120" y="1387440"/>
            <a:ext cx="6264360" cy="473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"/>
          <p:cNvPicPr/>
          <p:nvPr/>
        </p:nvPicPr>
        <p:blipFill>
          <a:blip r:embed="rId2"/>
          <a:stretch/>
        </p:blipFill>
        <p:spPr>
          <a:xfrm>
            <a:off x="1177920" y="1501920"/>
            <a:ext cx="7792920" cy="473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"/>
          <p:cNvPicPr/>
          <p:nvPr/>
        </p:nvPicPr>
        <p:blipFill>
          <a:blip r:embed="rId3"/>
          <a:stretch/>
        </p:blipFill>
        <p:spPr>
          <a:xfrm>
            <a:off x="880920" y="52560"/>
            <a:ext cx="176400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EF530A-1E55-4DD8-9898-D1E8563FA6C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3"/>
          <a:stretch/>
        </p:blipFill>
        <p:spPr>
          <a:xfrm>
            <a:off x="1036800" y="768240"/>
            <a:ext cx="8051760" cy="506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"/>
          <p:cNvPicPr/>
          <p:nvPr/>
        </p:nvPicPr>
        <p:blipFill>
          <a:blip r:embed="rId4"/>
          <a:stretch/>
        </p:blipFill>
        <p:spPr>
          <a:xfrm>
            <a:off x="219240" y="1467000"/>
            <a:ext cx="4760640" cy="4781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5"/>
          <a:stretch/>
        </p:blipFill>
        <p:spPr>
          <a:xfrm>
            <a:off x="5129280" y="1468440"/>
            <a:ext cx="3960720" cy="4707000"/>
          </a:xfrm>
          <a:prstGeom prst="rect">
            <a:avLst/>
          </a:prstGeom>
          <a:ln w="0">
            <a:noFill/>
          </a:ln>
        </p:spPr>
      </p:pic>
      <p:sp>
        <p:nvSpPr>
          <p:cNvPr id="622" name="ZoneTexte 1"/>
          <p:cNvSpPr/>
          <p:nvPr/>
        </p:nvSpPr>
        <p:spPr>
          <a:xfrm>
            <a:off x="1095480" y="11206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Affecter un compte utilisateur au groupe : …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25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7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"/>
          <p:cNvPicPr/>
          <p:nvPr/>
        </p:nvPicPr>
        <p:blipFill>
          <a:blip r:embed="rId6"/>
          <a:stretch/>
        </p:blipFill>
        <p:spPr>
          <a:xfrm>
            <a:off x="1090440" y="3498840"/>
            <a:ext cx="7804440" cy="14810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33506-48C9-40EF-A3D8-215BE2C65A57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"/>
          <p:cNvPicPr/>
          <p:nvPr/>
        </p:nvPicPr>
        <p:blipFill>
          <a:blip r:embed="rId1"/>
          <a:stretch/>
        </p:blipFill>
        <p:spPr>
          <a:xfrm>
            <a:off x="7661160" y="20606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34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36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"/>
          <p:cNvPicPr/>
          <p:nvPr/>
        </p:nvPicPr>
        <p:blipFill>
          <a:blip r:embed="rId5"/>
          <a:stretch/>
        </p:blipFill>
        <p:spPr>
          <a:xfrm>
            <a:off x="828720" y="1627200"/>
            <a:ext cx="7802640" cy="148104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9A3841-16B4-4D60-9EA6-4C1ABC03DC0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1607400" y="3141720"/>
            <a:ext cx="61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va utiliser un logiciel gratuit qui va nous permettre de fai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’importation des nouveaux arriva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modification des comptes (passage d’une classe à une autr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suppression des comptes devenus inuti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utilisera SconetKwartz téléchargeable à l’adresse suivant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http://geometrix.free.fr/jgressier/ir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A3BC87-4E7B-438F-B636-56571B8881C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49" name="ZoneTexte 1"/>
          <p:cNvSpPr/>
          <p:nvPr/>
        </p:nvSpPr>
        <p:spPr>
          <a:xfrm>
            <a:off x="1356840" y="2506680"/>
            <a:ext cx="652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serveur étant « neuf », on va créer les utilisateurs d’une année 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xtraire le fichier des élèves avec Siècle à l’administr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renommer eleves.csv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placer dans le répertoire d’installation de Sconet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35EE4B-B135-4A76-9E8A-20D64D48810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10T08:00:58Z</dcterms:modified>
  <cp:revision>179</cp:revision>
  <dc:subject/>
  <dc:title>ACCOMPAGNEMENT  DES ENSEIGNANTS RESSOURCES TICE</dc:title>
</cp:coreProperties>
</file>