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6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7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8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9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0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1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2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3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4" name="Text Box 9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dt" idx="27"/>
          </p:nvPr>
        </p:nvSpPr>
        <p:spPr>
          <a:xfrm>
            <a:off x="3884400" y="-360"/>
            <a:ext cx="2958840" cy="4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59400" cy="34164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move the slide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Text Box 13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 type="sldNum" idx="28"/>
          </p:nvPr>
        </p:nvSpPr>
        <p:spPr>
          <a:xfrm>
            <a:off x="388440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79B98B-D378-40A9-814B-798250FE0A27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Rectangle 14"/>
          <p:cNvSpPr/>
          <p:nvPr/>
        </p:nvSpPr>
        <p:spPr>
          <a:xfrm>
            <a:off x="388476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550FA9-4A65-468A-BF04-A749E1E7B58E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Rectangle 14"/>
          <p:cNvSpPr/>
          <p:nvPr/>
        </p:nvSpPr>
        <p:spPr>
          <a:xfrm>
            <a:off x="388476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36EFFA-FBAB-4CAA-84EE-F2F1FE22F257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Rectangle 14"/>
          <p:cNvSpPr/>
          <p:nvPr/>
        </p:nvSpPr>
        <p:spPr>
          <a:xfrm>
            <a:off x="388476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C84836-1985-40EB-AAE0-969B8E0F40FB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Rectangle 14"/>
          <p:cNvSpPr/>
          <p:nvPr/>
        </p:nvSpPr>
        <p:spPr>
          <a:xfrm>
            <a:off x="388476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4E7D4B-8157-42D8-8A20-C2134DFCB63A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Rectangle 14"/>
          <p:cNvSpPr/>
          <p:nvPr/>
        </p:nvSpPr>
        <p:spPr>
          <a:xfrm>
            <a:off x="388476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336E39-BCD7-4E45-9BBE-BC64F3A5B76D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Rectangle 14"/>
          <p:cNvSpPr/>
          <p:nvPr/>
        </p:nvSpPr>
        <p:spPr>
          <a:xfrm>
            <a:off x="388476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53E15E-4DE6-4315-B7A9-C2CF1839F685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Rectangle 14"/>
          <p:cNvSpPr/>
          <p:nvPr/>
        </p:nvSpPr>
        <p:spPr>
          <a:xfrm>
            <a:off x="388476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089DF7-C022-49FF-8489-8BD62D181385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Rectangle 14"/>
          <p:cNvSpPr/>
          <p:nvPr/>
        </p:nvSpPr>
        <p:spPr>
          <a:xfrm>
            <a:off x="388476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B63398-ACBD-4146-A6BE-56154264CE60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40EF45-2FAF-49A5-A13F-8AB1986A120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7598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66320" y="4377600"/>
            <a:ext cx="77598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ED7E2E-58F1-456C-8902-F99F36C4B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78648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5042520" y="1981080"/>
            <a:ext cx="378648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04B75A-7B67-42AC-B660-B0C7434E3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EEEDA9-DE19-4617-BFBA-F2A2EE167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1066320" y="465120"/>
            <a:ext cx="775980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A22D14-33C9-49E3-8C82-D98FAEF45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5042520" y="1981080"/>
            <a:ext cx="378648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1066320" y="437760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FD8751-945E-49A6-9AA7-E6F653527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78648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50425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5042520" y="437760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DE35C1-B08F-4A7A-B521-3650061E5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50425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1066320" y="4377600"/>
            <a:ext cx="77598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AAB2C1-DE3E-4245-B941-56931F264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7598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1066320" y="4377600"/>
            <a:ext cx="77598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E2A7B5-2D93-47F7-858E-CCC8266C4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0425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1066320" y="437760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5042520" y="437760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5CED75-9909-402E-91CA-2DF471FA6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690000" y="198108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313680" y="198108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1066320" y="437760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690000" y="437760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313680" y="437760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6A3AE6-272E-47EC-A1E3-44B56A1D269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79850C8-3AFC-4C35-BB8E-9A431CDAC51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5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6320" y="437760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42520" y="437760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9A0FB4-BA98-4EEC-9152-541B7AA10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759800" cy="458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D59A66A-0158-4985-B08D-8AAB8FADD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75980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538567F-EE06-4F37-AD7B-46943353B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78648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5042520" y="1981080"/>
            <a:ext cx="378648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8731EB3-DE79-402D-90CD-D6BACB300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92E4FBF-3C28-43EE-81E8-190E6DE0E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1066320" y="465120"/>
            <a:ext cx="775980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AE9B445-DDBF-4815-84D5-5EF727D92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5042520" y="1981080"/>
            <a:ext cx="378648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1066320" y="437760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A5D608A-2CB3-4418-8C43-750D9A0B9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78648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425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5042520" y="437760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B21B025-2DF3-45A0-8E4C-5F78F672C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50425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1066320" y="4377600"/>
            <a:ext cx="77598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268DB56-8BAD-4CCD-89F6-45FBCE199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7598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1066320" y="4377600"/>
            <a:ext cx="77598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61CE951-9E14-4F47-B2E0-F70933ED0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50425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1066320" y="437760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5042520" y="437760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89D634D-EBAF-4FA1-BAF3-63A7D889B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0000" y="198108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13680" y="198108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66320" y="437760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0000" y="437760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13680" y="437760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C6A686-27BB-4E1D-BD13-AB93753E0AD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690000" y="198108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313680" y="198108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1066320" y="437760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690000" y="437760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6313680" y="437760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DFE65A7-7F82-473A-A4CB-AA2CE392EF5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A6AF5F6-F95C-4DA1-9279-F20B20F2754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759800" cy="458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BA0B184-3EDD-4929-A272-AD2B80E86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75980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0A1A6A9-1FC2-4515-B101-B5E3A4376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78648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042520" y="1981080"/>
            <a:ext cx="378648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4CE01AE-E400-4962-80AE-F817216D7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5DF9378-C10E-4F72-A574-A9648E535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1066320" y="465120"/>
            <a:ext cx="775980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63336DE-5CDC-4DB0-AF1A-D74E2071D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5042520" y="1981080"/>
            <a:ext cx="378648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1066320" y="437760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BB46367-1506-430C-9A30-FEFFF596D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78648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50425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5042520" y="437760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CEC7AA4-DC30-4B3E-B2CC-41C347921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50425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1066320" y="4377600"/>
            <a:ext cx="77598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198786A-7434-4EF2-9490-5C6FAE4E8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FFFCE2-6016-4368-BAFC-4F5DACC6CB6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7598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1066320" y="4377600"/>
            <a:ext cx="77598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D42DF4C-B5AE-4D82-B275-7FC339E54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50425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1066320" y="437760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42520" y="437760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4011C5D-C522-46A3-90C1-9A3ACACF2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690000" y="198108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313680" y="198108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1066320" y="437760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690000" y="437760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313680" y="437760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824D21D-F592-41F8-ACBD-99421A4F81B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E7F12A-0C52-4BB1-A126-AE85A15D1DA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759800" cy="458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18A6CB-09C4-43B1-B1D3-3D68A950F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75980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EB7708-3CFE-43C4-802F-2FC4F6793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78648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5042520" y="1981080"/>
            <a:ext cx="378648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195B16-CD13-4573-9E7B-3D210BECC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4F271E-9B74-4A5D-B9DB-5FE1A01B4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1066320" y="465120"/>
            <a:ext cx="775980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D63E00-2094-400F-9140-807986771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042520" y="1981080"/>
            <a:ext cx="378648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1066320" y="437760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59B1D0-1FB1-473C-AAD8-F814E453D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759800" cy="458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4C054C-888B-49A3-80AF-8571F28D7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78648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425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5042520" y="437760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32D628-127F-4F54-BD8A-BC178CACC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50425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1066320" y="4377600"/>
            <a:ext cx="77598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2694F4-727F-4181-9417-C56B6BE0C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7598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1066320" y="4377600"/>
            <a:ext cx="77598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AD09C8-CA13-4419-9CBC-7485852C3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50425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1066320" y="437760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5042520" y="437760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B2FF06-72E1-4552-AC34-24DA96FB9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690000" y="198108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313680" y="198108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1066320" y="437760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690000" y="437760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6313680" y="437760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027F75-60DC-4EA2-A993-F48C9277A9E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D6D7D02-62D8-466B-8321-FA410B25F0F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759800" cy="458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2D785D6-77AD-49DB-9CFB-297729A02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75980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457AFC0-FF65-4627-9995-012A78B0F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78648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5042520" y="1981080"/>
            <a:ext cx="378648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46676BD-07DC-4387-B18A-5103F5CF8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2FC1A99-A3AF-4BC2-9DD4-D0200F60C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75980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880673-04D7-4582-AACB-92EDA88FF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ubTitle"/>
          </p:nvPr>
        </p:nvSpPr>
        <p:spPr>
          <a:xfrm>
            <a:off x="1066320" y="465120"/>
            <a:ext cx="775980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239F283-2193-4405-9564-C80DB62B9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5042520" y="1981080"/>
            <a:ext cx="378648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1066320" y="437760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3FAB447-6913-4AC0-BF1B-2EA904841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78648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50425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42520" y="437760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749D79A-E41A-4CB8-8AEC-7B3CA16E5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50425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1066320" y="4377600"/>
            <a:ext cx="77598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AC2F07B-B808-4466-83CA-CD0D86AFB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7598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1066320" y="4377600"/>
            <a:ext cx="77598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79825D0-9650-4CBB-BA31-3FED00857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50425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1066320" y="437760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5042520" y="437760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CDA345A-F032-4945-A6F7-EED9F3C45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3690000" y="198108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6313680" y="198108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1066320" y="437760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PlaceHolder 6"/>
          <p:cNvSpPr>
            <a:spLocks noGrp="1"/>
          </p:cNvSpPr>
          <p:nvPr>
            <p:ph/>
          </p:nvPr>
        </p:nvSpPr>
        <p:spPr>
          <a:xfrm>
            <a:off x="3690000" y="437760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PlaceHolder 7"/>
          <p:cNvSpPr>
            <a:spLocks noGrp="1"/>
          </p:cNvSpPr>
          <p:nvPr>
            <p:ph/>
          </p:nvPr>
        </p:nvSpPr>
        <p:spPr>
          <a:xfrm>
            <a:off x="6313680" y="437760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EEEEA51-AE17-4013-BE35-79DC248F1E9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78648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42520" y="1981080"/>
            <a:ext cx="378648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823130-4165-4EF2-B4CE-26AAEEE6E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FC8F06-655E-4AB0-885E-C2B7AD51D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066320" y="465120"/>
            <a:ext cx="775980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6DD867-F5B7-4DDA-8F4B-2D9F82BC0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42520" y="1981080"/>
            <a:ext cx="378648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066320" y="437760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C19C4A-E299-4B8E-89E8-59D1865DF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759800" cy="458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D475EA-6797-4221-9F3A-8F225CC13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78648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425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042520" y="437760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746536-2E3A-41CE-B417-0916972A1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5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6320" y="4377600"/>
            <a:ext cx="77598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58CDFE-1476-4736-9005-E92BDAD06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7598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066320" y="4377600"/>
            <a:ext cx="77598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891601-CB0A-4792-B4B4-50FC99B74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425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66320" y="437760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042520" y="437760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820DFF-864F-435B-90FE-FAB064338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90000" y="198108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313680" y="198108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066320" y="437760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90000" y="437760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313680" y="437760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BDE361-40E7-4642-9947-CFCA3CCCD8D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5135D-F69A-4FDA-9218-2EC4B9ACB66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759800" cy="458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A284C-985F-4F0A-A0C0-97E937AB7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75980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DEC89-B23C-4598-9F9B-90EF822E8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78648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42520" y="1981080"/>
            <a:ext cx="378648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2B3C2-3242-4235-9A73-03419098D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67E50-BB60-4ECC-A986-AEBD51E0B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75980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9146C0-FB89-47DA-9D0A-6CF4A552D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066320" y="465120"/>
            <a:ext cx="775980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9FBEB-532C-4C66-86D7-949382C46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42520" y="1981080"/>
            <a:ext cx="378648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066320" y="437760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7BF64-AC44-476D-9B3B-83C88A939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78648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0425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042520" y="437760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2F6C8-533C-4B72-A4B7-5B2E0D802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0425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066320" y="4377600"/>
            <a:ext cx="77598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C3736-EE32-4C25-92E9-B5495A487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7598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1066320" y="4377600"/>
            <a:ext cx="77598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FB7C3-4CAC-4EB3-B5F8-8968D06D2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0425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066320" y="437760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5042520" y="437760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4A2AC-EB50-461A-A33D-D9535FA53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690000" y="198108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313680" y="198108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1066320" y="437760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690000" y="437760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313680" y="437760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34AB4-4915-4569-851F-09C6FC8C10D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0FA040-ED8A-4C3D-B7C9-FEB783DDF65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759800" cy="458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B17447-E953-4698-B687-4D2E42560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75980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A69355-6E6F-41FD-9877-08A1B4F0D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78648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42520" y="1981080"/>
            <a:ext cx="378648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76444-2062-4CF9-B2D2-26DDFFA6F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78648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042520" y="1981080"/>
            <a:ext cx="378648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4737D7-6809-4EB0-BE19-D832846FF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BF928E-D2B8-4D2F-A4E1-101E6475A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1066320" y="465120"/>
            <a:ext cx="775980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AC89C5-DE79-4F59-AF5D-523AC515C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042520" y="1981080"/>
            <a:ext cx="378648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1066320" y="437760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29FA80-0514-482B-A504-9B78D36DA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78648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0425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042520" y="437760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4580BA-5076-4231-A773-0A85B17AF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0425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1066320" y="4377600"/>
            <a:ext cx="77598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322CE2-F655-4FD4-A9A3-BAC1B77C5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7598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1066320" y="4377600"/>
            <a:ext cx="77598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E9AB14-B971-4A61-8EC0-405A8DF0A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0425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1066320" y="437760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5042520" y="437760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86E12A-3CFE-41FA-BFEE-B04B3CD77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690000" y="198108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313680" y="198108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1066320" y="437760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690000" y="437760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313680" y="437760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1D5F22-4F4A-4F49-9976-716F9AA1941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343AC45-CEEC-4927-838A-7DEF91F4427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8E6B4D-360D-4463-81C2-919120E36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759800" cy="458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C1E04BA-EB49-465C-AE8D-FC54B1E40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75980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7F98E7E-6AEB-41A7-8386-FA79E55E9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78648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42520" y="1981080"/>
            <a:ext cx="378648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6555550-064A-48A1-8103-86F0E6C62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DB20E3B-8F93-4C6C-A8F7-FEFBAFFE1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1066320" y="465120"/>
            <a:ext cx="775980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5C17CE3-2BFE-4773-8BE2-2050BBEA2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42520" y="1981080"/>
            <a:ext cx="378648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1066320" y="437760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F77E2FD-1E44-447D-A985-E694B7945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78648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0425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42520" y="437760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4C73284-615D-462A-A6B1-5B705C4A9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0425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1066320" y="4377600"/>
            <a:ext cx="77598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2261C4C-CC59-44E3-9921-64B550375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7598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1066320" y="4377600"/>
            <a:ext cx="77598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66DA084-E1E1-4060-89F9-B1B2CA8B9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0425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1066320" y="437760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42520" y="437760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FFDDB15-A896-419B-80D0-6891929FA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066320" y="465120"/>
            <a:ext cx="775980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5C5BB5-338E-416C-8AA5-5F224704C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690000" y="198108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313680" y="198108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1066320" y="437760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690000" y="437760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313680" y="437760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ECFE861-BA4B-47B3-97CC-98B7D84A800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04AC86-598E-4FA6-8584-791B7E3966B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759800" cy="458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52A336-5CDE-40AC-88B8-76D27E692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75980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63D058-92DD-4165-B972-C5DE7F029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78648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042520" y="1981080"/>
            <a:ext cx="378648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E275FE-4692-46E3-819A-188B03B1B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4889F3-66CB-4FC5-B7B7-5A5C7F11C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1066320" y="465120"/>
            <a:ext cx="775980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AB3214-29DB-42CD-839D-765FADE10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042520" y="1981080"/>
            <a:ext cx="378648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66320" y="437760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BD4DBB-4276-4A7C-BDBD-5F02C26EC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78648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425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5042520" y="437760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748E5D-34E7-4D2B-ACF9-C70844B11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50425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1066320" y="4377600"/>
            <a:ext cx="77598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17EF26-AE68-461B-9C91-BC0D024BB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2520" y="1981080"/>
            <a:ext cx="378648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66320" y="437760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D19600-226F-4E10-BA01-8F3104319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7598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1066320" y="4377600"/>
            <a:ext cx="77598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E63518-C787-4D9F-9CDC-A7AB08BDD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0425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1066320" y="437760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5042520" y="437760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D36114-CDDB-49D2-9329-F424C67D0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690000" y="198108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313680" y="198108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1066320" y="437760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690000" y="437760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313680" y="437760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035E52-D68F-435E-87C0-C10BBD062A5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76A708-36E9-4615-9F4D-69266EDD465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759800" cy="458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C0437E-27B3-4228-91B4-C4380C436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75980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9780D1-372E-4521-89EA-4D16A3D4A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78648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5042520" y="1981080"/>
            <a:ext cx="378648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B15B4E-032D-4BA4-8478-7C6501CD9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30E021-1178-4635-8033-3D086F6E9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1066320" y="465120"/>
            <a:ext cx="775980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89604B-96E9-47A6-8EA2-BEDDEA540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5042520" y="1981080"/>
            <a:ext cx="378648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1066320" y="437760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1A3A9D-3D3A-4EBA-997E-40D3C8D03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78648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425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42520" y="437760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F97E14-9360-467E-AB6E-69807BEB5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78648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0425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5042520" y="437760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66F5FA-11EB-4C3B-9B43-4A68FCDB7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0425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1066320" y="4377600"/>
            <a:ext cx="77598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334CD8-905A-45F8-908A-148F0FBD8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7598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1066320" y="4377600"/>
            <a:ext cx="77598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3DFBE9-0EC2-4B4A-AA0C-6458589FF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0425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1066320" y="437760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5042520" y="437760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05F2E07-73A3-4744-BC5E-73CF95545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690000" y="198108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313680" y="198108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1066320" y="437760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690000" y="437760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313680" y="437760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84BAE5-F905-47CA-B0BB-41DB456A9DD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6FF128C-376D-4B20-A157-9C1948DF88B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759800" cy="458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A72FD0D-5A49-49BA-BD22-5C9BF1CC1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75980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10B6F37-4332-49AF-B059-3F2A7C8BF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78648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5042520" y="1981080"/>
            <a:ext cx="378648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416C705-6F37-486C-B559-D6426FB13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66C0764-9AFC-4FF0-9610-B807EC9B0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25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320" y="4377600"/>
            <a:ext cx="77598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2606AD-1A0F-45A7-80DE-5B63867A7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1066320" y="465120"/>
            <a:ext cx="775980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609D88A-EBCE-4612-A5C8-EFD75F6BB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42520" y="1981080"/>
            <a:ext cx="378648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1066320" y="437760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A84F8E2-C7D4-4F9E-82F9-BF2E63769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78648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50425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5042520" y="437760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B814F68-4A67-4819-870C-68BE35D5D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50425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1066320" y="4377600"/>
            <a:ext cx="77598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F35226D-307C-4EE4-9378-EE54FBC15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7598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1066320" y="4377600"/>
            <a:ext cx="77598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2D16837-3409-4D41-B386-F93C57F54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042520" y="198108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1066320" y="437760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5042520" y="4377600"/>
            <a:ext cx="378648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863791D-DD7D-4784-8991-872A8B9AA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690000" y="198108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313680" y="198108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1066320" y="437760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690000" y="437760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313680" y="4377600"/>
            <a:ext cx="2498400" cy="218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11AC17A-A137-4E6F-852F-FF76FCB26E0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8199E6-0A5F-481E-85BE-145214FBBA7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759800" cy="458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C9C469-BD2A-48BE-9D56-563F37760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75980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6C5835-1551-45CB-9FEC-E35F56D3B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8383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7912080" cy="11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1208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715000" y="6353280"/>
            <a:ext cx="15112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C0FFB4-C06B-4D81-9DD7-B8EC52A95C9B}" type="datetime"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28/07/26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6094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7543800" y="6353280"/>
            <a:ext cx="97776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FF93B5-A79E-45FC-8AE3-8B12426B545C}" type="slidenum"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217000" cy="15112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800" spc="-1" strike="noStrike">
                <a:solidFill>
                  <a:srgbClr val="ffffbc"/>
                </a:solidFill>
                <a:latin typeface="Corbel"/>
              </a:rPr>
              <a:t>Click to edit the title text format</a:t>
            </a: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456840" y="2179800"/>
            <a:ext cx="82170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19"/>
          </p:nvPr>
        </p:nvSpPr>
        <p:spPr>
          <a:xfrm>
            <a:off x="457200" y="6356520"/>
            <a:ext cx="1968480" cy="3520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200" spc="-1" strike="noStrike">
                <a:solidFill>
                  <a:srgbClr val="adae99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9BD846-C3DD-44DA-8186-79AC310C88BE}" type="datetime">
              <a:rPr b="0" lang="fr-FR" sz="1200" spc="-1" strike="noStrike">
                <a:solidFill>
                  <a:srgbClr val="adae99"/>
                </a:solidFill>
                <a:latin typeface="Times New Roman"/>
                <a:ea typeface="Segoe U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Text Box 4"/>
          <p:cNvSpPr/>
          <p:nvPr/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sldNum" idx="20"/>
          </p:nvPr>
        </p:nvSpPr>
        <p:spPr>
          <a:xfrm>
            <a:off x="8152920" y="6356520"/>
            <a:ext cx="520920" cy="3520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fr-FR" sz="1400" spc="-1" strike="noStrike">
                <a:solidFill>
                  <a:srgbClr val="adae99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7665EC7D-E4B3-45E7-A924-FF4278E61386}" type="slidenum">
              <a:rPr b="0" lang="fr-FR" sz="1400" spc="-1" strike="noStrike">
                <a:solidFill>
                  <a:srgbClr val="adae99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217000" cy="15112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800" spc="-1" strike="noStrike">
                <a:solidFill>
                  <a:srgbClr val="ffffbc"/>
                </a:solidFill>
                <a:latin typeface="Corbel"/>
              </a:rPr>
              <a:t>Click to edit the title text format</a:t>
            </a: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456840" y="2179800"/>
            <a:ext cx="82170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dt" idx="21"/>
          </p:nvPr>
        </p:nvSpPr>
        <p:spPr>
          <a:xfrm>
            <a:off x="457200" y="6356520"/>
            <a:ext cx="1968480" cy="3520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200" spc="-1" strike="noStrike">
                <a:solidFill>
                  <a:srgbClr val="adae99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01649F-10E7-44AA-AE81-05680C5F67F2}" type="datetime">
              <a:rPr b="0" lang="fr-FR" sz="1200" spc="-1" strike="noStrike">
                <a:solidFill>
                  <a:srgbClr val="adae99"/>
                </a:solidFill>
                <a:latin typeface="Times New Roman"/>
                <a:ea typeface="Segoe U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Text Box 4"/>
          <p:cNvSpPr/>
          <p:nvPr/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sldNum" idx="22"/>
          </p:nvPr>
        </p:nvSpPr>
        <p:spPr>
          <a:xfrm>
            <a:off x="8152920" y="6356520"/>
            <a:ext cx="520920" cy="3520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fr-FR" sz="1400" spc="-1" strike="noStrike">
                <a:solidFill>
                  <a:srgbClr val="adae99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DD69EBBF-97B8-4B87-AE2D-D4E573B71B61}" type="slidenum">
              <a:rPr b="0" lang="fr-FR" sz="1400" spc="-1" strike="noStrike">
                <a:solidFill>
                  <a:srgbClr val="adae99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1" name="Group 1"/>
          <p:cNvGrpSpPr/>
          <p:nvPr/>
        </p:nvGrpSpPr>
        <p:grpSpPr>
          <a:xfrm>
            <a:off x="0" y="0"/>
            <a:ext cx="9136080" cy="6843600"/>
            <a:chOff x="0" y="0"/>
            <a:chExt cx="9136080" cy="6843600"/>
          </a:xfrm>
        </p:grpSpPr>
        <p:sp>
          <p:nvSpPr>
            <p:cNvPr id="482" name="Rectangle 2"/>
            <p:cNvSpPr/>
            <p:nvPr/>
          </p:nvSpPr>
          <p:spPr>
            <a:xfrm>
              <a:off x="0" y="0"/>
              <a:ext cx="825480" cy="6843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83" name="Line 3"/>
            <p:cNvSpPr/>
            <p:nvPr/>
          </p:nvSpPr>
          <p:spPr>
            <a:xfrm>
              <a:off x="0" y="366840"/>
              <a:ext cx="9131400" cy="0"/>
            </a:xfrm>
            <a:prstGeom prst="line">
              <a:avLst/>
            </a:prstGeom>
            <a:ln cap="sq"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84" name="Line 4"/>
            <p:cNvSpPr/>
            <p:nvPr/>
          </p:nvSpPr>
          <p:spPr>
            <a:xfrm>
              <a:off x="0" y="452520"/>
              <a:ext cx="913608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85" name="Line 5"/>
            <p:cNvSpPr/>
            <p:nvPr/>
          </p:nvSpPr>
          <p:spPr>
            <a:xfrm>
              <a:off x="0" y="6305400"/>
              <a:ext cx="913140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86" name="Line 6"/>
            <p:cNvSpPr/>
            <p:nvPr/>
          </p:nvSpPr>
          <p:spPr>
            <a:xfrm>
              <a:off x="0" y="6419880"/>
              <a:ext cx="9136080" cy="0"/>
            </a:xfrm>
            <a:prstGeom prst="line">
              <a:avLst/>
            </a:prstGeom>
            <a:ln cap="sq"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75980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 type="dt" idx="23"/>
          </p:nvPr>
        </p:nvSpPr>
        <p:spPr>
          <a:xfrm>
            <a:off x="1066320" y="6399360"/>
            <a:ext cx="1892520" cy="44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31838E-F3FC-472B-AAE0-1D6F8F2DECA5}" type="datetime">
              <a:rPr b="0" lang="fr-FR" sz="1400" spc="-1" strike="noStrike">
                <a:solidFill>
                  <a:srgbClr val="ffffff"/>
                </a:solidFill>
                <a:latin typeface="Times New Roman"/>
                <a:ea typeface="Segoe UI"/>
              </a:rPr>
              <a:t>28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Text Box 10"/>
          <p:cNvSpPr/>
          <p:nvPr/>
        </p:nvSpPr>
        <p:spPr>
          <a:xfrm>
            <a:off x="350532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 type="sldNum" idx="24"/>
          </p:nvPr>
        </p:nvSpPr>
        <p:spPr>
          <a:xfrm>
            <a:off x="6934320" y="6399360"/>
            <a:ext cx="1892160" cy="44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2304BE-9E9F-45A3-B7D1-1C9689A22015}" type="slidenum">
              <a:rPr b="0" lang="fr-FR" sz="14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8" name="Group 1"/>
          <p:cNvGrpSpPr/>
          <p:nvPr/>
        </p:nvGrpSpPr>
        <p:grpSpPr>
          <a:xfrm>
            <a:off x="0" y="0"/>
            <a:ext cx="9136080" cy="6843600"/>
            <a:chOff x="0" y="0"/>
            <a:chExt cx="9136080" cy="6843600"/>
          </a:xfrm>
        </p:grpSpPr>
        <p:sp>
          <p:nvSpPr>
            <p:cNvPr id="529" name="Rectangle 2"/>
            <p:cNvSpPr/>
            <p:nvPr/>
          </p:nvSpPr>
          <p:spPr>
            <a:xfrm>
              <a:off x="0" y="0"/>
              <a:ext cx="825480" cy="6843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30" name="Line 3"/>
            <p:cNvSpPr/>
            <p:nvPr/>
          </p:nvSpPr>
          <p:spPr>
            <a:xfrm>
              <a:off x="0" y="366840"/>
              <a:ext cx="9131400" cy="0"/>
            </a:xfrm>
            <a:prstGeom prst="line">
              <a:avLst/>
            </a:prstGeom>
            <a:ln cap="sq"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31" name="Line 4"/>
            <p:cNvSpPr/>
            <p:nvPr/>
          </p:nvSpPr>
          <p:spPr>
            <a:xfrm>
              <a:off x="0" y="452520"/>
              <a:ext cx="913608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32" name="Line 5"/>
            <p:cNvSpPr/>
            <p:nvPr/>
          </p:nvSpPr>
          <p:spPr>
            <a:xfrm>
              <a:off x="0" y="6305400"/>
              <a:ext cx="913140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33" name="Line 6"/>
            <p:cNvSpPr/>
            <p:nvPr/>
          </p:nvSpPr>
          <p:spPr>
            <a:xfrm>
              <a:off x="0" y="6419880"/>
              <a:ext cx="9136080" cy="0"/>
            </a:xfrm>
            <a:prstGeom prst="line">
              <a:avLst/>
            </a:prstGeom>
            <a:ln cap="sq"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75980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dt" idx="25"/>
          </p:nvPr>
        </p:nvSpPr>
        <p:spPr>
          <a:xfrm>
            <a:off x="1066320" y="6399360"/>
            <a:ext cx="1892520" cy="44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DD1696-BD73-459F-A3E2-040EACA06BC3}" type="datetime">
              <a:rPr b="0" lang="fr-FR" sz="1400" spc="-1" strike="noStrike">
                <a:solidFill>
                  <a:srgbClr val="ffffff"/>
                </a:solidFill>
                <a:latin typeface="Times New Roman"/>
                <a:ea typeface="Segoe UI"/>
              </a:rPr>
              <a:t>28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Text Box 10"/>
          <p:cNvSpPr/>
          <p:nvPr/>
        </p:nvSpPr>
        <p:spPr>
          <a:xfrm>
            <a:off x="350532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sldNum" idx="26"/>
          </p:nvPr>
        </p:nvSpPr>
        <p:spPr>
          <a:xfrm>
            <a:off x="6934320" y="6399360"/>
            <a:ext cx="1892160" cy="44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28EB31-31FD-4FF6-814E-87D1FE479A23}" type="slidenum">
              <a:rPr b="0" lang="fr-FR" sz="14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1"/>
          <p:cNvGrpSpPr/>
          <p:nvPr/>
        </p:nvGrpSpPr>
        <p:grpSpPr>
          <a:xfrm>
            <a:off x="0" y="798480"/>
            <a:ext cx="9129240" cy="5892120"/>
            <a:chOff x="0" y="798480"/>
            <a:chExt cx="9129240" cy="5892120"/>
          </a:xfrm>
        </p:grpSpPr>
        <p:pic>
          <p:nvPicPr>
            <p:cNvPr id="43" name="Picture 2" descr=""/>
            <p:cNvPicPr/>
            <p:nvPr/>
          </p:nvPicPr>
          <p:blipFill>
            <a:blip r:embed="rId3"/>
            <a:stretch/>
          </p:blipFill>
          <p:spPr>
            <a:xfrm>
              <a:off x="0" y="798480"/>
              <a:ext cx="9119880" cy="588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Text Box 3"/>
            <p:cNvSpPr/>
            <p:nvPr/>
          </p:nvSpPr>
          <p:spPr>
            <a:xfrm rot="10800000">
              <a:off x="9000" y="1153080"/>
              <a:ext cx="9120240" cy="55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45" name="Group 4"/>
          <p:cNvGrpSpPr/>
          <p:nvPr/>
        </p:nvGrpSpPr>
        <p:grpSpPr>
          <a:xfrm>
            <a:off x="0" y="987480"/>
            <a:ext cx="9129240" cy="4820760"/>
            <a:chOff x="0" y="987480"/>
            <a:chExt cx="9129240" cy="4820760"/>
          </a:xfrm>
        </p:grpSpPr>
        <p:pic>
          <p:nvPicPr>
            <p:cNvPr id="46" name="Picture 5" descr=""/>
            <p:cNvPicPr/>
            <p:nvPr/>
          </p:nvPicPr>
          <p:blipFill>
            <a:blip r:embed="rId4"/>
            <a:stretch/>
          </p:blipFill>
          <p:spPr>
            <a:xfrm>
              <a:off x="0" y="987480"/>
              <a:ext cx="9119880" cy="48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Text Box 6"/>
            <p:cNvSpPr/>
            <p:nvPr/>
          </p:nvSpPr>
          <p:spPr>
            <a:xfrm rot="10800000">
              <a:off x="9000" y="1353240"/>
              <a:ext cx="9120240" cy="445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217000" cy="15112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800" spc="-1" strike="noStrike">
                <a:solidFill>
                  <a:srgbClr val="ffffbc"/>
                </a:solidFill>
                <a:latin typeface="Corbel"/>
              </a:rPr>
              <a:t>Click to edit the title text format</a:t>
            </a: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6840" y="2179800"/>
            <a:ext cx="82170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3"/>
          </p:nvPr>
        </p:nvSpPr>
        <p:spPr>
          <a:xfrm>
            <a:off x="457200" y="6356520"/>
            <a:ext cx="1968480" cy="3520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200" spc="-1" strike="noStrike">
                <a:solidFill>
                  <a:srgbClr val="adae99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5349FC-3F85-438E-8DA7-DE7A9E41E36D}" type="datetime">
              <a:rPr b="0" lang="fr-FR" sz="1200" spc="-1" strike="noStrike">
                <a:solidFill>
                  <a:srgbClr val="adae99"/>
                </a:solidFill>
                <a:latin typeface="Times New Roman"/>
                <a:ea typeface="Segoe U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0"/>
          <p:cNvSpPr/>
          <p:nvPr/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8152920" y="6356520"/>
            <a:ext cx="520920" cy="3520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fr-FR" sz="1400" spc="-1" strike="noStrike">
                <a:solidFill>
                  <a:srgbClr val="adae99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D9461040-1ABD-457E-8096-2372E9A8FA96}" type="slidenum">
              <a:rPr b="0" lang="fr-FR" sz="1400" spc="-1" strike="noStrike">
                <a:solidFill>
                  <a:srgbClr val="adae99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1"/>
          <p:cNvGrpSpPr/>
          <p:nvPr/>
        </p:nvGrpSpPr>
        <p:grpSpPr>
          <a:xfrm>
            <a:off x="0" y="0"/>
            <a:ext cx="9136080" cy="6843600"/>
            <a:chOff x="0" y="0"/>
            <a:chExt cx="9136080" cy="6843600"/>
          </a:xfrm>
        </p:grpSpPr>
        <p:sp>
          <p:nvSpPr>
            <p:cNvPr id="90" name="Rectangle 2"/>
            <p:cNvSpPr/>
            <p:nvPr/>
          </p:nvSpPr>
          <p:spPr>
            <a:xfrm>
              <a:off x="0" y="0"/>
              <a:ext cx="825480" cy="6843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1" name="Line 3"/>
            <p:cNvSpPr/>
            <p:nvPr/>
          </p:nvSpPr>
          <p:spPr>
            <a:xfrm>
              <a:off x="0" y="366840"/>
              <a:ext cx="9136080" cy="0"/>
            </a:xfrm>
            <a:prstGeom prst="line">
              <a:avLst/>
            </a:prstGeom>
            <a:ln cap="sq"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2" name="Line 4"/>
            <p:cNvSpPr/>
            <p:nvPr/>
          </p:nvSpPr>
          <p:spPr>
            <a:xfrm>
              <a:off x="0" y="452520"/>
              <a:ext cx="913140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3" name="Line 5"/>
            <p:cNvSpPr/>
            <p:nvPr/>
          </p:nvSpPr>
          <p:spPr>
            <a:xfrm>
              <a:off x="0" y="6305400"/>
              <a:ext cx="913608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4" name="Line 6"/>
            <p:cNvSpPr/>
            <p:nvPr/>
          </p:nvSpPr>
          <p:spPr>
            <a:xfrm>
              <a:off x="0" y="6419880"/>
              <a:ext cx="9136080" cy="0"/>
            </a:xfrm>
            <a:prstGeom prst="line">
              <a:avLst/>
            </a:prstGeom>
            <a:ln cap="sq"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75980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5"/>
          </p:nvPr>
        </p:nvSpPr>
        <p:spPr>
          <a:xfrm>
            <a:off x="1066320" y="6399360"/>
            <a:ext cx="1892520" cy="44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A92653-6851-4B5B-A2AF-1331CBEC9083}" type="datetime">
              <a:rPr b="0" lang="fr-FR" sz="1400" spc="-1" strike="noStrike">
                <a:solidFill>
                  <a:srgbClr val="ffffff"/>
                </a:solidFill>
                <a:latin typeface="Times New Roman"/>
                <a:ea typeface="Segoe UI"/>
              </a:rPr>
              <a:t>28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Text Box 10"/>
          <p:cNvSpPr/>
          <p:nvPr/>
        </p:nvSpPr>
        <p:spPr>
          <a:xfrm>
            <a:off x="350532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sldNum" idx="6"/>
          </p:nvPr>
        </p:nvSpPr>
        <p:spPr>
          <a:xfrm>
            <a:off x="6934320" y="6399360"/>
            <a:ext cx="1892160" cy="44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0576FB-32DB-4EC7-A507-C9D354C68E32}" type="slidenum">
              <a:rPr b="0" lang="fr-FR" sz="14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Group 1"/>
          <p:cNvGrpSpPr/>
          <p:nvPr/>
        </p:nvGrpSpPr>
        <p:grpSpPr>
          <a:xfrm>
            <a:off x="0" y="0"/>
            <a:ext cx="9136080" cy="6843600"/>
            <a:chOff x="0" y="0"/>
            <a:chExt cx="9136080" cy="6843600"/>
          </a:xfrm>
        </p:grpSpPr>
        <p:sp>
          <p:nvSpPr>
            <p:cNvPr id="137" name="Rectangle 2"/>
            <p:cNvSpPr/>
            <p:nvPr/>
          </p:nvSpPr>
          <p:spPr>
            <a:xfrm>
              <a:off x="0" y="0"/>
              <a:ext cx="825480" cy="6843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38" name="Line 3"/>
            <p:cNvSpPr/>
            <p:nvPr/>
          </p:nvSpPr>
          <p:spPr>
            <a:xfrm>
              <a:off x="0" y="366840"/>
              <a:ext cx="9136080" cy="0"/>
            </a:xfrm>
            <a:prstGeom prst="line">
              <a:avLst/>
            </a:prstGeom>
            <a:ln cap="sq"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39" name="Line 4"/>
            <p:cNvSpPr/>
            <p:nvPr/>
          </p:nvSpPr>
          <p:spPr>
            <a:xfrm>
              <a:off x="0" y="452520"/>
              <a:ext cx="913140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0" name="Line 5"/>
            <p:cNvSpPr/>
            <p:nvPr/>
          </p:nvSpPr>
          <p:spPr>
            <a:xfrm>
              <a:off x="0" y="6305400"/>
              <a:ext cx="913608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1" name="Line 6"/>
            <p:cNvSpPr/>
            <p:nvPr/>
          </p:nvSpPr>
          <p:spPr>
            <a:xfrm>
              <a:off x="0" y="6419880"/>
              <a:ext cx="9136080" cy="0"/>
            </a:xfrm>
            <a:prstGeom prst="line">
              <a:avLst/>
            </a:prstGeom>
            <a:ln cap="sq"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320" y="465120"/>
            <a:ext cx="7759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759800" cy="45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dt" idx="7"/>
          </p:nvPr>
        </p:nvSpPr>
        <p:spPr>
          <a:xfrm>
            <a:off x="1066320" y="6399360"/>
            <a:ext cx="1892520" cy="44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9F07EF-9DE0-49FD-B5E0-3ED7B551E059}" type="datetime">
              <a:rPr b="0" lang="fr-FR" sz="1400" spc="-1" strike="noStrike">
                <a:solidFill>
                  <a:srgbClr val="ffffff"/>
                </a:solidFill>
                <a:latin typeface="Times New Roman"/>
                <a:ea typeface="Segoe UI"/>
              </a:rPr>
              <a:t>28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Text Box 10"/>
          <p:cNvSpPr/>
          <p:nvPr/>
        </p:nvSpPr>
        <p:spPr>
          <a:xfrm>
            <a:off x="350532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sldNum" idx="8"/>
          </p:nvPr>
        </p:nvSpPr>
        <p:spPr>
          <a:xfrm>
            <a:off x="6934320" y="6399360"/>
            <a:ext cx="1892160" cy="44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584ADB-5D7E-41D2-9F7D-17CBA998110F}" type="slidenum">
              <a:rPr b="0" lang="fr-FR" sz="14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8383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1" descr=""/>
          <p:cNvPicPr/>
          <p:nvPr/>
        </p:nvPicPr>
        <p:blipFill>
          <a:blip r:embed="rId2"/>
          <a:srcRect l="0" t="33333" r="0" b="0"/>
          <a:stretch/>
        </p:blipFill>
        <p:spPr>
          <a:xfrm>
            <a:off x="0" y="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7912080" cy="11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1208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9"/>
          </p:nvPr>
        </p:nvSpPr>
        <p:spPr>
          <a:xfrm>
            <a:off x="5715000" y="6356520"/>
            <a:ext cx="1511280" cy="35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fr-FR" sz="1000" spc="-1" strike="noStrike">
                <a:solidFill>
                  <a:srgbClr val="ffffff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ECFFDE58-0A21-4F9F-800B-07A2BC72A7DE}" type="datetime">
              <a:rPr b="0" lang="fr-FR" sz="1000" spc="-1" strike="noStrike">
                <a:solidFill>
                  <a:srgbClr val="ffffff"/>
                </a:solidFill>
                <a:latin typeface="Times New Roman"/>
                <a:ea typeface="Segoe UI"/>
              </a:rPr>
              <a:t>28/07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Text Box 5"/>
          <p:cNvSpPr/>
          <p:nvPr/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sldNum" idx="10"/>
          </p:nvPr>
        </p:nvSpPr>
        <p:spPr>
          <a:xfrm>
            <a:off x="7543800" y="6356520"/>
            <a:ext cx="977760" cy="35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  <a:defRPr b="0" lang="fr-FR" sz="1100" spc="-1" strike="noStrike">
                <a:solidFill>
                  <a:srgbClr val="ffffff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fld id="{D7B63074-8212-49D7-B5E5-067231900A5F}" type="slidenum">
              <a:rPr b="0" lang="fr-FR" sz="11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8383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7912080" cy="11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1208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1"/>
          </p:nvPr>
        </p:nvSpPr>
        <p:spPr>
          <a:xfrm>
            <a:off x="5715000" y="6356520"/>
            <a:ext cx="1511280" cy="35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fr-FR" sz="1000" spc="-1" strike="noStrike">
                <a:solidFill>
                  <a:srgbClr val="ffffff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B34D1E20-52B3-48E7-BF83-5D098ACACEAE}" type="datetime">
              <a:rPr b="0" lang="fr-FR" sz="1000" spc="-1" strike="noStrike">
                <a:solidFill>
                  <a:srgbClr val="ffffff"/>
                </a:solidFill>
                <a:latin typeface="Times New Roman"/>
                <a:ea typeface="Segoe UI"/>
              </a:rPr>
              <a:t>28/07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Text Box 4"/>
          <p:cNvSpPr/>
          <p:nvPr/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sldNum" idx="12"/>
          </p:nvPr>
        </p:nvSpPr>
        <p:spPr>
          <a:xfrm>
            <a:off x="7543800" y="6356520"/>
            <a:ext cx="977760" cy="35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  <a:defRPr b="0" lang="fr-FR" sz="1100" spc="-1" strike="noStrike">
                <a:solidFill>
                  <a:srgbClr val="ffffff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fld id="{F96FD6E4-5075-42BD-BE9D-7445A95AA31D}" type="slidenum">
              <a:rPr b="0" lang="fr-FR" sz="11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8383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7912080" cy="11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1208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3"/>
          </p:nvPr>
        </p:nvSpPr>
        <p:spPr>
          <a:xfrm>
            <a:off x="5715000" y="6356520"/>
            <a:ext cx="1511280" cy="35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fr-FR" sz="1000" spc="-1" strike="noStrike">
                <a:solidFill>
                  <a:srgbClr val="ffffff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EB43220C-6A05-4E24-900E-4DB7A491D5D8}" type="datetime">
              <a:rPr b="0" lang="fr-FR" sz="1000" spc="-1" strike="noStrike">
                <a:solidFill>
                  <a:srgbClr val="ffffff"/>
                </a:solidFill>
                <a:latin typeface="Times New Roman"/>
                <a:ea typeface="Segoe UI"/>
              </a:rPr>
              <a:t>28/07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Text Box 5"/>
          <p:cNvSpPr/>
          <p:nvPr/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 type="sldNum" idx="14"/>
          </p:nvPr>
        </p:nvSpPr>
        <p:spPr>
          <a:xfrm>
            <a:off x="7543800" y="6356520"/>
            <a:ext cx="977760" cy="35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  <a:defRPr b="0" lang="fr-FR" sz="1100" spc="-1" strike="noStrike">
                <a:solidFill>
                  <a:srgbClr val="ffffff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fld id="{3B224E84-8BDD-46A0-92C0-C951D2D328D3}" type="slidenum">
              <a:rPr b="0" lang="fr-FR" sz="11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Group 1"/>
          <p:cNvGrpSpPr/>
          <p:nvPr/>
        </p:nvGrpSpPr>
        <p:grpSpPr>
          <a:xfrm>
            <a:off x="0" y="798480"/>
            <a:ext cx="9129240" cy="5892120"/>
            <a:chOff x="0" y="798480"/>
            <a:chExt cx="9129240" cy="5892120"/>
          </a:xfrm>
        </p:grpSpPr>
        <p:pic>
          <p:nvPicPr>
            <p:cNvPr id="309" name="Picture 2" descr=""/>
            <p:cNvPicPr/>
            <p:nvPr/>
          </p:nvPicPr>
          <p:blipFill>
            <a:blip r:embed="rId3"/>
            <a:stretch/>
          </p:blipFill>
          <p:spPr>
            <a:xfrm>
              <a:off x="0" y="798480"/>
              <a:ext cx="9119880" cy="588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Text Box 3"/>
            <p:cNvSpPr/>
            <p:nvPr/>
          </p:nvSpPr>
          <p:spPr>
            <a:xfrm rot="10800000">
              <a:off x="9000" y="1153080"/>
              <a:ext cx="9120240" cy="55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311" name="Group 4"/>
          <p:cNvGrpSpPr/>
          <p:nvPr/>
        </p:nvGrpSpPr>
        <p:grpSpPr>
          <a:xfrm>
            <a:off x="0" y="987480"/>
            <a:ext cx="9129240" cy="4820760"/>
            <a:chOff x="0" y="987480"/>
            <a:chExt cx="9129240" cy="4820760"/>
          </a:xfrm>
        </p:grpSpPr>
        <p:pic>
          <p:nvPicPr>
            <p:cNvPr id="312" name="Picture 5" descr=""/>
            <p:cNvPicPr/>
            <p:nvPr/>
          </p:nvPicPr>
          <p:blipFill>
            <a:blip r:embed="rId4"/>
            <a:stretch/>
          </p:blipFill>
          <p:spPr>
            <a:xfrm>
              <a:off x="0" y="987480"/>
              <a:ext cx="9119880" cy="48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Text Box 6"/>
            <p:cNvSpPr/>
            <p:nvPr/>
          </p:nvSpPr>
          <p:spPr>
            <a:xfrm rot="10800000">
              <a:off x="9000" y="1353240"/>
              <a:ext cx="9120240" cy="445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314" name="Group 7"/>
          <p:cNvGrpSpPr/>
          <p:nvPr/>
        </p:nvGrpSpPr>
        <p:grpSpPr>
          <a:xfrm>
            <a:off x="0" y="1176480"/>
            <a:ext cx="9129240" cy="3761640"/>
            <a:chOff x="0" y="1176480"/>
            <a:chExt cx="9129240" cy="3761640"/>
          </a:xfrm>
        </p:grpSpPr>
        <p:pic>
          <p:nvPicPr>
            <p:cNvPr id="315" name="Picture 8" descr=""/>
            <p:cNvPicPr/>
            <p:nvPr/>
          </p:nvPicPr>
          <p:blipFill>
            <a:blip r:embed="rId5"/>
            <a:stretch/>
          </p:blipFill>
          <p:spPr>
            <a:xfrm>
              <a:off x="0" y="1176480"/>
              <a:ext cx="9119880" cy="374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Text Box 9"/>
            <p:cNvSpPr/>
            <p:nvPr/>
          </p:nvSpPr>
          <p:spPr>
            <a:xfrm rot="10800000">
              <a:off x="9000" y="1533960"/>
              <a:ext cx="9120240" cy="34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217000" cy="15112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800" spc="-1" strike="noStrike">
                <a:solidFill>
                  <a:srgbClr val="ffffbc"/>
                </a:solidFill>
                <a:latin typeface="Corbel"/>
              </a:rPr>
              <a:t>Click to edit the title text format</a:t>
            </a: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456840" y="2179800"/>
            <a:ext cx="82170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5"/>
          </p:nvPr>
        </p:nvSpPr>
        <p:spPr>
          <a:xfrm>
            <a:off x="457200" y="6356520"/>
            <a:ext cx="1968480" cy="3520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200" spc="-1" strike="noStrike">
                <a:solidFill>
                  <a:srgbClr val="adae99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61FE98-194D-464D-A741-C87025E628B1}" type="datetime">
              <a:rPr b="0" lang="fr-FR" sz="1200" spc="-1" strike="noStrike">
                <a:solidFill>
                  <a:srgbClr val="adae99"/>
                </a:solidFill>
                <a:latin typeface="Times New Roman"/>
                <a:ea typeface="Segoe U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13"/>
          <p:cNvSpPr/>
          <p:nvPr/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sldNum" idx="16"/>
          </p:nvPr>
        </p:nvSpPr>
        <p:spPr>
          <a:xfrm>
            <a:off x="8152920" y="6356520"/>
            <a:ext cx="520920" cy="3520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fr-FR" sz="1400" spc="-1" strike="noStrike">
                <a:solidFill>
                  <a:srgbClr val="adae99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77131D57-02D8-4747-BC7C-7B45BEBE1DEA}" type="slidenum">
              <a:rPr b="0" lang="fr-FR" sz="1400" spc="-1" strike="noStrike">
                <a:solidFill>
                  <a:srgbClr val="adae99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217000" cy="15112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800" spc="-1" strike="noStrike">
                <a:solidFill>
                  <a:srgbClr val="ffffbc"/>
                </a:solidFill>
                <a:latin typeface="Corbel"/>
              </a:rPr>
              <a:t>Click to edit the title text format</a:t>
            </a: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456840" y="2179800"/>
            <a:ext cx="82170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17"/>
          </p:nvPr>
        </p:nvSpPr>
        <p:spPr>
          <a:xfrm>
            <a:off x="457200" y="6356520"/>
            <a:ext cx="1968480" cy="3520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200" spc="-1" strike="noStrike">
                <a:solidFill>
                  <a:srgbClr val="adae99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D78184-7010-4E25-8DF8-7A6F25259FDB}" type="datetime">
              <a:rPr b="0" lang="fr-FR" sz="1200" spc="-1" strike="noStrike">
                <a:solidFill>
                  <a:srgbClr val="adae99"/>
                </a:solidFill>
                <a:latin typeface="Times New Roman"/>
                <a:ea typeface="Segoe U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 Box 4"/>
          <p:cNvSpPr/>
          <p:nvPr/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sldNum" idx="18"/>
          </p:nvPr>
        </p:nvSpPr>
        <p:spPr>
          <a:xfrm>
            <a:off x="8152920" y="6356520"/>
            <a:ext cx="520920" cy="3520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fr-FR" sz="1400" spc="-1" strike="noStrike">
                <a:solidFill>
                  <a:srgbClr val="adae99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1B957FE3-9DA1-4C89-ACEB-58B232924BA2}" type="slidenum">
              <a:rPr b="0" lang="fr-FR" sz="1400" spc="-1" strike="noStrike">
                <a:solidFill>
                  <a:srgbClr val="adae99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37.xml"/><Relationship Id="rId10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5.png"/><Relationship Id="rId4" Type="http://schemas.openxmlformats.org/officeDocument/2006/relationships/image" Target="../media/image11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slideLayout" Target="../slideLayouts/slideLayout37.xml"/><Relationship Id="rId11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1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6.png"/><Relationship Id="rId5" Type="http://schemas.openxmlformats.org/officeDocument/2006/relationships/image" Target="../media/image20.png"/><Relationship Id="rId6" Type="http://schemas.openxmlformats.org/officeDocument/2006/relationships/image" Target="../media/image21.jpeg"/><Relationship Id="rId7" Type="http://schemas.openxmlformats.org/officeDocument/2006/relationships/slideLayout" Target="../slideLayouts/slideLayout37.xml"/><Relationship Id="rId8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8383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0" name="Group 1"/>
          <p:cNvGrpSpPr/>
          <p:nvPr/>
        </p:nvGrpSpPr>
        <p:grpSpPr>
          <a:xfrm>
            <a:off x="396720" y="5224320"/>
            <a:ext cx="8485200" cy="1335240"/>
            <a:chOff x="396720" y="5224320"/>
            <a:chExt cx="8485200" cy="1335240"/>
          </a:xfrm>
        </p:grpSpPr>
        <p:pic>
          <p:nvPicPr>
            <p:cNvPr id="591" name="Picture 2" descr=""/>
            <p:cNvPicPr/>
            <p:nvPr/>
          </p:nvPicPr>
          <p:blipFill>
            <a:blip r:embed="rId1"/>
            <a:stretch/>
          </p:blipFill>
          <p:spPr>
            <a:xfrm>
              <a:off x="396720" y="5224320"/>
              <a:ext cx="8485200" cy="133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2" name="Text Box 3"/>
            <p:cNvSpPr/>
            <p:nvPr/>
          </p:nvSpPr>
          <p:spPr>
            <a:xfrm>
              <a:off x="396720" y="5224320"/>
              <a:ext cx="8485200" cy="13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pic>
        <p:nvPicPr>
          <p:cNvPr id="593" name="Picture 4" descr=""/>
          <p:cNvPicPr/>
          <p:nvPr/>
        </p:nvPicPr>
        <p:blipFill>
          <a:blip r:embed="rId2"/>
          <a:stretch/>
        </p:blipFill>
        <p:spPr>
          <a:xfrm>
            <a:off x="1440" y="0"/>
            <a:ext cx="9142560" cy="3344760"/>
          </a:xfrm>
          <a:prstGeom prst="rect">
            <a:avLst/>
          </a:prstGeom>
          <a:ln w="0">
            <a:noFill/>
          </a:ln>
        </p:spPr>
      </p:pic>
      <p:sp>
        <p:nvSpPr>
          <p:cNvPr id="594" name="Text Box 5"/>
          <p:cNvSpPr/>
          <p:nvPr/>
        </p:nvSpPr>
        <p:spPr>
          <a:xfrm>
            <a:off x="1440" y="0"/>
            <a:ext cx="9142560" cy="33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5" name="Text Box 6"/>
          <p:cNvSpPr/>
          <p:nvPr/>
        </p:nvSpPr>
        <p:spPr>
          <a:xfrm>
            <a:off x="1441440" y="3767040"/>
            <a:ext cx="640872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63000" bIns="63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3600" spc="-1" strike="noStrike">
                <a:solidFill>
                  <a:srgbClr val="ffffcc"/>
                </a:solidFill>
                <a:latin typeface="Calibri"/>
              </a:rPr>
              <a:t>Notions de base sur les réseaux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6" name="Text Box 7"/>
          <p:cNvSpPr/>
          <p:nvPr/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2F1A3F-B912-47A4-986D-9203A5EEEA3C}" type="slidenum">
              <a:rPr b="0" lang="fr-FR" sz="11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7" name="Picture 1" descr=""/>
          <p:cNvPicPr/>
          <p:nvPr/>
        </p:nvPicPr>
        <p:blipFill>
          <a:blip r:embed="rId1"/>
          <a:stretch/>
        </p:blipFill>
        <p:spPr>
          <a:xfrm>
            <a:off x="396720" y="6419880"/>
            <a:ext cx="8204400" cy="682560"/>
          </a:xfrm>
          <a:prstGeom prst="rect">
            <a:avLst/>
          </a:prstGeom>
          <a:ln w="0">
            <a:noFill/>
          </a:ln>
        </p:spPr>
      </p:pic>
      <p:sp>
        <p:nvSpPr>
          <p:cNvPr id="598" name="Text Box 2"/>
          <p:cNvSpPr/>
          <p:nvPr/>
        </p:nvSpPr>
        <p:spPr>
          <a:xfrm>
            <a:off x="1655640" y="828720"/>
            <a:ext cx="217440" cy="399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9" name="Text Box 3"/>
          <p:cNvSpPr/>
          <p:nvPr/>
        </p:nvSpPr>
        <p:spPr>
          <a:xfrm>
            <a:off x="1511280" y="-171360"/>
            <a:ext cx="640872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63000" bIns="63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3600" spc="-1" strike="noStrike">
                <a:solidFill>
                  <a:srgbClr val="ffffcc"/>
                </a:solidFill>
                <a:latin typeface="Calibri"/>
              </a:rPr>
              <a:t>Notions de base sur les réseaux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600" name="Group 4"/>
          <p:cNvGrpSpPr/>
          <p:nvPr/>
        </p:nvGrpSpPr>
        <p:grpSpPr>
          <a:xfrm>
            <a:off x="5616720" y="1584360"/>
            <a:ext cx="3373200" cy="1573200"/>
            <a:chOff x="5616720" y="1584360"/>
            <a:chExt cx="3373200" cy="1573200"/>
          </a:xfrm>
        </p:grpSpPr>
        <p:grpSp>
          <p:nvGrpSpPr>
            <p:cNvPr id="601" name="Group 5"/>
            <p:cNvGrpSpPr/>
            <p:nvPr/>
          </p:nvGrpSpPr>
          <p:grpSpPr>
            <a:xfrm>
              <a:off x="6408720" y="1800360"/>
              <a:ext cx="1717560" cy="819000"/>
              <a:chOff x="6408720" y="1800360"/>
              <a:chExt cx="1717560" cy="819000"/>
            </a:xfrm>
          </p:grpSpPr>
          <p:pic>
            <p:nvPicPr>
              <p:cNvPr id="602" name="Picture 6" descr=""/>
              <p:cNvPicPr/>
              <p:nvPr/>
            </p:nvPicPr>
            <p:blipFill>
              <a:blip r:embed="rId2"/>
              <a:stretch/>
            </p:blipFill>
            <p:spPr>
              <a:xfrm>
                <a:off x="7296120" y="1800360"/>
                <a:ext cx="830160" cy="819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3" name="Text Box 7"/>
              <p:cNvSpPr/>
              <p:nvPr/>
            </p:nvSpPr>
            <p:spPr>
              <a:xfrm>
                <a:off x="6408720" y="1909800"/>
                <a:ext cx="928800" cy="62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noAutofit/>
              </a:bodyPr>
              <a:p>
                <a:pPr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1800" spc="-1" strike="noStrike">
                    <a:solidFill>
                      <a:srgbClr val="ffffff"/>
                    </a:solidFill>
                    <a:latin typeface="Calibri"/>
                  </a:rPr>
                  <a:t>internet</a:t>
                </a: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604" name="Oval 8"/>
            <p:cNvSpPr/>
            <p:nvPr/>
          </p:nvSpPr>
          <p:spPr>
            <a:xfrm>
              <a:off x="5616720" y="1584360"/>
              <a:ext cx="3373200" cy="1573200"/>
            </a:xfrm>
            <a:prstGeom prst="ellipse">
              <a:avLst/>
            </a:prstGeom>
            <a:noFill/>
            <a:ln w="36000">
              <a:solidFill>
                <a:srgbClr val="c500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05" name="Text Box 9"/>
            <p:cNvSpPr/>
            <p:nvPr/>
          </p:nvSpPr>
          <p:spPr>
            <a:xfrm>
              <a:off x="6696000" y="2664000"/>
              <a:ext cx="168912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63000" bIns="630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1800" spc="-1" strike="noStrike">
                  <a:solidFill>
                    <a:srgbClr val="ff0000"/>
                  </a:solidFill>
                  <a:latin typeface="Calibri"/>
                </a:rPr>
                <a:t>Réseau Internet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606" name="Text Box 10"/>
          <p:cNvSpPr/>
          <p:nvPr/>
        </p:nvSpPr>
        <p:spPr>
          <a:xfrm>
            <a:off x="4199040" y="5575320"/>
            <a:ext cx="113328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7" name="Text Box 11"/>
          <p:cNvSpPr/>
          <p:nvPr/>
        </p:nvSpPr>
        <p:spPr>
          <a:xfrm>
            <a:off x="1685880" y="571680"/>
            <a:ext cx="6666120" cy="7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ffff99"/>
                </a:solidFill>
                <a:latin typeface="Calibri"/>
              </a:rPr>
              <a:t>Un réseau informatique est un ensemble d'équipements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ffff99"/>
                </a:solidFill>
                <a:latin typeface="Calibri"/>
              </a:rPr>
              <a:t>reliés entre eux pour échanger des informations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8" name="Text Box 12"/>
          <p:cNvSpPr/>
          <p:nvPr/>
        </p:nvSpPr>
        <p:spPr>
          <a:xfrm>
            <a:off x="911160" y="4179960"/>
            <a:ext cx="196848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Sous réseau salle 1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9" name="Text Box 13"/>
          <p:cNvSpPr/>
          <p:nvPr/>
        </p:nvSpPr>
        <p:spPr>
          <a:xfrm>
            <a:off x="3672000" y="4176720"/>
            <a:ext cx="196848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Sous réseau salle 2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610" name="Group 14"/>
          <p:cNvGrpSpPr/>
          <p:nvPr/>
        </p:nvGrpSpPr>
        <p:grpSpPr>
          <a:xfrm>
            <a:off x="144360" y="1871640"/>
            <a:ext cx="5821560" cy="4381560"/>
            <a:chOff x="144360" y="1871640"/>
            <a:chExt cx="5821560" cy="4381560"/>
          </a:xfrm>
        </p:grpSpPr>
        <p:sp>
          <p:nvSpPr>
            <p:cNvPr id="611" name="Text Box 15"/>
            <p:cNvSpPr/>
            <p:nvPr/>
          </p:nvSpPr>
          <p:spPr>
            <a:xfrm>
              <a:off x="936720" y="1871640"/>
              <a:ext cx="350208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63000" bIns="630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1800" spc="-1" strike="noStrike">
                  <a:solidFill>
                    <a:srgbClr val="ff0000"/>
                  </a:solidFill>
                  <a:latin typeface="Calibri"/>
                </a:rPr>
                <a:t>Réseau pédagogique établissement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pic>
          <p:nvPicPr>
            <p:cNvPr id="612" name="Picture 16" descr=""/>
            <p:cNvPicPr/>
            <p:nvPr/>
          </p:nvPicPr>
          <p:blipFill>
            <a:blip r:embed="rId3"/>
            <a:stretch/>
          </p:blipFill>
          <p:spPr>
            <a:xfrm>
              <a:off x="2505240" y="2658960"/>
              <a:ext cx="1123920" cy="157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3" name="Text Box 17"/>
            <p:cNvSpPr/>
            <p:nvPr/>
          </p:nvSpPr>
          <p:spPr>
            <a:xfrm>
              <a:off x="2448000" y="2371680"/>
              <a:ext cx="121428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Calibri"/>
                </a:rPr>
                <a:t>serveur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14" name="Oval 18"/>
            <p:cNvSpPr/>
            <p:nvPr/>
          </p:nvSpPr>
          <p:spPr>
            <a:xfrm>
              <a:off x="723960" y="4579920"/>
              <a:ext cx="2220840" cy="1139760"/>
            </a:xfrm>
            <a:prstGeom prst="ellipse">
              <a:avLst/>
            </a:prstGeom>
            <a:solidFill>
              <a:srgbClr val="729fcf"/>
            </a:solidFill>
            <a:ln w="9360">
              <a:solidFill>
                <a:srgbClr val="c500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pic>
          <p:nvPicPr>
            <p:cNvPr id="615" name="Picture 19" descr=""/>
            <p:cNvPicPr/>
            <p:nvPr/>
          </p:nvPicPr>
          <p:blipFill>
            <a:blip r:embed="rId4"/>
            <a:stretch/>
          </p:blipFill>
          <p:spPr>
            <a:xfrm>
              <a:off x="1020600" y="4748040"/>
              <a:ext cx="603360" cy="5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6" name="Picture 20" descr=""/>
            <p:cNvPicPr/>
            <p:nvPr/>
          </p:nvPicPr>
          <p:blipFill>
            <a:blip r:embed="rId5"/>
            <a:stretch/>
          </p:blipFill>
          <p:spPr>
            <a:xfrm>
              <a:off x="1835280" y="5113440"/>
              <a:ext cx="60300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7" name="Text Box 21"/>
            <p:cNvSpPr/>
            <p:nvPr/>
          </p:nvSpPr>
          <p:spPr>
            <a:xfrm>
              <a:off x="995400" y="5318280"/>
              <a:ext cx="9396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Salle 1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18" name="Oval 22"/>
            <p:cNvSpPr/>
            <p:nvPr/>
          </p:nvSpPr>
          <p:spPr>
            <a:xfrm>
              <a:off x="3456000" y="4545000"/>
              <a:ext cx="2004840" cy="1112760"/>
            </a:xfrm>
            <a:prstGeom prst="ellipse">
              <a:avLst/>
            </a:prstGeom>
            <a:solidFill>
              <a:srgbClr val="729fcf"/>
            </a:solidFill>
            <a:ln w="9360">
              <a:solidFill>
                <a:srgbClr val="c500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pic>
          <p:nvPicPr>
            <p:cNvPr id="619" name="Picture 23" descr=""/>
            <p:cNvPicPr/>
            <p:nvPr/>
          </p:nvPicPr>
          <p:blipFill>
            <a:blip r:embed="rId6"/>
            <a:stretch/>
          </p:blipFill>
          <p:spPr>
            <a:xfrm>
              <a:off x="3816360" y="4916520"/>
              <a:ext cx="566640" cy="54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0" name="Picture 24" descr=""/>
            <p:cNvPicPr/>
            <p:nvPr/>
          </p:nvPicPr>
          <p:blipFill>
            <a:blip r:embed="rId7"/>
            <a:stretch/>
          </p:blipFill>
          <p:spPr>
            <a:xfrm>
              <a:off x="4784760" y="4697280"/>
              <a:ext cx="566640" cy="54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1" name="Text Box 25"/>
            <p:cNvSpPr/>
            <p:nvPr/>
          </p:nvSpPr>
          <p:spPr>
            <a:xfrm>
              <a:off x="4245120" y="5327640"/>
              <a:ext cx="78552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Salle 2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22" name="Oval 26"/>
            <p:cNvSpPr/>
            <p:nvPr/>
          </p:nvSpPr>
          <p:spPr>
            <a:xfrm>
              <a:off x="144360" y="2303640"/>
              <a:ext cx="5821560" cy="3949560"/>
            </a:xfrm>
            <a:prstGeom prst="ellipse">
              <a:avLst/>
            </a:prstGeom>
            <a:noFill/>
            <a:ln w="36000">
              <a:solidFill>
                <a:srgbClr val="c500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pic>
          <p:nvPicPr>
            <p:cNvPr id="623" name="Picture 27" descr=""/>
            <p:cNvPicPr/>
            <p:nvPr/>
          </p:nvPicPr>
          <p:blipFill>
            <a:blip r:embed="rId8"/>
            <a:stretch/>
          </p:blipFill>
          <p:spPr>
            <a:xfrm>
              <a:off x="1735200" y="4680000"/>
              <a:ext cx="617400" cy="4269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4" name="Picture 1" descr=""/>
          <p:cNvPicPr/>
          <p:nvPr/>
        </p:nvPicPr>
        <p:blipFill>
          <a:blip r:embed="rId1"/>
          <a:stretch/>
        </p:blipFill>
        <p:spPr>
          <a:xfrm>
            <a:off x="396720" y="6419880"/>
            <a:ext cx="8204400" cy="682560"/>
          </a:xfrm>
          <a:prstGeom prst="rect">
            <a:avLst/>
          </a:prstGeom>
          <a:ln w="0">
            <a:noFill/>
          </a:ln>
        </p:spPr>
      </p:pic>
      <p:sp>
        <p:nvSpPr>
          <p:cNvPr id="625" name="Text Box 2"/>
          <p:cNvSpPr/>
          <p:nvPr/>
        </p:nvSpPr>
        <p:spPr>
          <a:xfrm>
            <a:off x="6934320" y="63993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D44095-563B-4555-98A5-3094723FC329}" type="slidenum">
              <a:rPr b="0" lang="fr-FR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626" name="Group 3"/>
          <p:cNvGrpSpPr/>
          <p:nvPr/>
        </p:nvGrpSpPr>
        <p:grpSpPr>
          <a:xfrm>
            <a:off x="5832360" y="896760"/>
            <a:ext cx="1717560" cy="819360"/>
            <a:chOff x="5832360" y="896760"/>
            <a:chExt cx="1717560" cy="819360"/>
          </a:xfrm>
        </p:grpSpPr>
        <p:pic>
          <p:nvPicPr>
            <p:cNvPr id="627" name="Picture 4" descr=""/>
            <p:cNvPicPr/>
            <p:nvPr/>
          </p:nvPicPr>
          <p:blipFill>
            <a:blip r:embed="rId2"/>
            <a:stretch/>
          </p:blipFill>
          <p:spPr>
            <a:xfrm>
              <a:off x="6719040" y="896760"/>
              <a:ext cx="830880" cy="81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8" name="Text Box 5"/>
            <p:cNvSpPr/>
            <p:nvPr/>
          </p:nvSpPr>
          <p:spPr>
            <a:xfrm>
              <a:off x="5832360" y="1008000"/>
              <a:ext cx="932760" cy="35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Calibri"/>
                </a:rPr>
                <a:t>internet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629" name="Group 6"/>
          <p:cNvGrpSpPr/>
          <p:nvPr/>
        </p:nvGrpSpPr>
        <p:grpSpPr>
          <a:xfrm>
            <a:off x="4149720" y="1363680"/>
            <a:ext cx="1398600" cy="930240"/>
            <a:chOff x="4149720" y="1363680"/>
            <a:chExt cx="1398600" cy="930240"/>
          </a:xfrm>
        </p:grpSpPr>
        <p:pic>
          <p:nvPicPr>
            <p:cNvPr id="630" name="Picture 7" descr=""/>
            <p:cNvPicPr/>
            <p:nvPr/>
          </p:nvPicPr>
          <p:blipFill>
            <a:blip r:embed="rId3"/>
            <a:stretch/>
          </p:blipFill>
          <p:spPr>
            <a:xfrm>
              <a:off x="4176720" y="1612800"/>
              <a:ext cx="1371600" cy="68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1" name="Text Box 8"/>
            <p:cNvSpPr/>
            <p:nvPr/>
          </p:nvSpPr>
          <p:spPr>
            <a:xfrm>
              <a:off x="4149720" y="1363680"/>
              <a:ext cx="87948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Calibri"/>
                </a:rPr>
                <a:t>routeur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632" name="Group 9"/>
          <p:cNvGrpSpPr/>
          <p:nvPr/>
        </p:nvGrpSpPr>
        <p:grpSpPr>
          <a:xfrm>
            <a:off x="1655640" y="863640"/>
            <a:ext cx="1500480" cy="2370240"/>
            <a:chOff x="1655640" y="863640"/>
            <a:chExt cx="1500480" cy="2370240"/>
          </a:xfrm>
        </p:grpSpPr>
        <p:pic>
          <p:nvPicPr>
            <p:cNvPr id="633" name="Picture 10" descr=""/>
            <p:cNvPicPr/>
            <p:nvPr/>
          </p:nvPicPr>
          <p:blipFill>
            <a:blip r:embed="rId4"/>
            <a:stretch/>
          </p:blipFill>
          <p:spPr>
            <a:xfrm>
              <a:off x="1728720" y="1228680"/>
              <a:ext cx="1427400" cy="200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4" name="Text Box 11"/>
            <p:cNvSpPr/>
            <p:nvPr/>
          </p:nvSpPr>
          <p:spPr>
            <a:xfrm>
              <a:off x="1655640" y="863640"/>
              <a:ext cx="86832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Calibri"/>
                </a:rPr>
                <a:t>serveur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635" name="Group 12"/>
          <p:cNvGrpSpPr/>
          <p:nvPr/>
        </p:nvGrpSpPr>
        <p:grpSpPr>
          <a:xfrm>
            <a:off x="4176720" y="3095640"/>
            <a:ext cx="2058840" cy="1284120"/>
            <a:chOff x="4176720" y="3095640"/>
            <a:chExt cx="2058840" cy="1284120"/>
          </a:xfrm>
        </p:grpSpPr>
        <p:pic>
          <p:nvPicPr>
            <p:cNvPr id="636" name="Picture 13" descr=""/>
            <p:cNvPicPr/>
            <p:nvPr/>
          </p:nvPicPr>
          <p:blipFill>
            <a:blip r:embed="rId5"/>
            <a:stretch/>
          </p:blipFill>
          <p:spPr>
            <a:xfrm>
              <a:off x="4176720" y="3362400"/>
              <a:ext cx="2058840" cy="101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7" name="Text Box 14"/>
            <p:cNvSpPr/>
            <p:nvPr/>
          </p:nvSpPr>
          <p:spPr>
            <a:xfrm>
              <a:off x="4478400" y="3095640"/>
              <a:ext cx="76680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Calibri"/>
                </a:rPr>
                <a:t>switch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638" name="Oval 15"/>
          <p:cNvSpPr/>
          <p:nvPr/>
        </p:nvSpPr>
        <p:spPr>
          <a:xfrm>
            <a:off x="431640" y="4379760"/>
            <a:ext cx="3527640" cy="1955880"/>
          </a:xfrm>
          <a:prstGeom prst="ellipse">
            <a:avLst/>
          </a:prstGeom>
          <a:solidFill>
            <a:srgbClr val="729fcf"/>
          </a:solidFill>
          <a:ln w="9360">
            <a:solidFill>
              <a:srgbClr val="c500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39" name="Picture 16" descr=""/>
          <p:cNvPicPr/>
          <p:nvPr/>
        </p:nvPicPr>
        <p:blipFill>
          <a:blip r:embed="rId6"/>
          <a:stretch/>
        </p:blipFill>
        <p:spPr>
          <a:xfrm>
            <a:off x="901800" y="4668840"/>
            <a:ext cx="969840" cy="969840"/>
          </a:xfrm>
          <a:prstGeom prst="rect">
            <a:avLst/>
          </a:prstGeom>
          <a:ln w="0">
            <a:noFill/>
          </a:ln>
        </p:spPr>
      </p:pic>
      <p:pic>
        <p:nvPicPr>
          <p:cNvPr id="640" name="Picture 17" descr=""/>
          <p:cNvPicPr/>
          <p:nvPr/>
        </p:nvPicPr>
        <p:blipFill>
          <a:blip r:embed="rId7"/>
          <a:stretch/>
        </p:blipFill>
        <p:spPr>
          <a:xfrm>
            <a:off x="2054160" y="5172120"/>
            <a:ext cx="970200" cy="969840"/>
          </a:xfrm>
          <a:prstGeom prst="rect">
            <a:avLst/>
          </a:prstGeom>
          <a:ln w="0">
            <a:noFill/>
          </a:ln>
        </p:spPr>
      </p:pic>
      <p:sp>
        <p:nvSpPr>
          <p:cNvPr id="641" name="Text Box 18"/>
          <p:cNvSpPr/>
          <p:nvPr/>
        </p:nvSpPr>
        <p:spPr>
          <a:xfrm>
            <a:off x="1152360" y="5688000"/>
            <a:ext cx="78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alle 1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642" name="Group 19"/>
          <p:cNvGrpSpPr/>
          <p:nvPr/>
        </p:nvGrpSpPr>
        <p:grpSpPr>
          <a:xfrm>
            <a:off x="5688000" y="4608360"/>
            <a:ext cx="3373560" cy="1944720"/>
            <a:chOff x="5688000" y="4608360"/>
            <a:chExt cx="3373560" cy="1944720"/>
          </a:xfrm>
        </p:grpSpPr>
        <p:sp>
          <p:nvSpPr>
            <p:cNvPr id="643" name="Oval 20"/>
            <p:cNvSpPr/>
            <p:nvPr/>
          </p:nvSpPr>
          <p:spPr>
            <a:xfrm>
              <a:off x="5688000" y="4608360"/>
              <a:ext cx="3373560" cy="1944720"/>
            </a:xfrm>
            <a:prstGeom prst="ellipse">
              <a:avLst/>
            </a:prstGeom>
            <a:solidFill>
              <a:srgbClr val="729fcf"/>
            </a:solidFill>
            <a:ln w="9360">
              <a:solidFill>
                <a:srgbClr val="c500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pic>
          <p:nvPicPr>
            <p:cNvPr id="644" name="Picture 21" descr=""/>
            <p:cNvPicPr/>
            <p:nvPr/>
          </p:nvPicPr>
          <p:blipFill>
            <a:blip r:embed="rId8"/>
            <a:stretch/>
          </p:blipFill>
          <p:spPr>
            <a:xfrm>
              <a:off x="6445080" y="5234040"/>
              <a:ext cx="959040" cy="95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5" name="Picture 22" descr=""/>
            <p:cNvPicPr/>
            <p:nvPr/>
          </p:nvPicPr>
          <p:blipFill>
            <a:blip r:embed="rId9"/>
            <a:stretch/>
          </p:blipFill>
          <p:spPr>
            <a:xfrm>
              <a:off x="7920000" y="4873680"/>
              <a:ext cx="959040" cy="95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6" name="Text Box 23"/>
            <p:cNvSpPr/>
            <p:nvPr/>
          </p:nvSpPr>
          <p:spPr>
            <a:xfrm>
              <a:off x="7415280" y="5987880"/>
              <a:ext cx="770040" cy="35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Salle 2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647" name="Line 24"/>
          <p:cNvSpPr/>
          <p:nvPr/>
        </p:nvSpPr>
        <p:spPr>
          <a:xfrm>
            <a:off x="3743280" y="4896000"/>
            <a:ext cx="1440000" cy="1440"/>
          </a:xfrm>
          <a:prstGeom prst="line">
            <a:avLst/>
          </a:prstGeom>
          <a:ln w="36000">
            <a:solidFill>
              <a:srgbClr val="c500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8" name="Line 25"/>
          <p:cNvSpPr/>
          <p:nvPr/>
        </p:nvSpPr>
        <p:spPr>
          <a:xfrm>
            <a:off x="5184720" y="4176720"/>
            <a:ext cx="1800" cy="720720"/>
          </a:xfrm>
          <a:prstGeom prst="line">
            <a:avLst/>
          </a:prstGeom>
          <a:ln w="36000">
            <a:solidFill>
              <a:srgbClr val="c500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9" name="Line 26"/>
          <p:cNvSpPr/>
          <p:nvPr/>
        </p:nvSpPr>
        <p:spPr>
          <a:xfrm>
            <a:off x="5616720" y="4032360"/>
            <a:ext cx="1440" cy="863640"/>
          </a:xfrm>
          <a:prstGeom prst="line">
            <a:avLst/>
          </a:prstGeom>
          <a:ln w="36000">
            <a:solidFill>
              <a:srgbClr val="c500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0" name="Line 27"/>
          <p:cNvSpPr/>
          <p:nvPr/>
        </p:nvSpPr>
        <p:spPr>
          <a:xfrm flipH="1">
            <a:off x="5603400" y="4896000"/>
            <a:ext cx="598680" cy="1440"/>
          </a:xfrm>
          <a:prstGeom prst="line">
            <a:avLst/>
          </a:prstGeom>
          <a:ln w="36000">
            <a:solidFill>
              <a:srgbClr val="c500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1" name="Line 28"/>
          <p:cNvSpPr/>
          <p:nvPr/>
        </p:nvSpPr>
        <p:spPr>
          <a:xfrm>
            <a:off x="3168720" y="2879640"/>
            <a:ext cx="2160360" cy="1800"/>
          </a:xfrm>
          <a:prstGeom prst="line">
            <a:avLst/>
          </a:prstGeom>
          <a:ln w="36000">
            <a:solidFill>
              <a:srgbClr val="c500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2" name="Line 29"/>
          <p:cNvSpPr/>
          <p:nvPr/>
        </p:nvSpPr>
        <p:spPr>
          <a:xfrm>
            <a:off x="5327640" y="2879640"/>
            <a:ext cx="1440" cy="647640"/>
          </a:xfrm>
          <a:prstGeom prst="line">
            <a:avLst/>
          </a:prstGeom>
          <a:ln w="36000">
            <a:solidFill>
              <a:srgbClr val="c500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3" name="Line 30"/>
          <p:cNvSpPr/>
          <p:nvPr/>
        </p:nvSpPr>
        <p:spPr>
          <a:xfrm>
            <a:off x="3168720" y="1871640"/>
            <a:ext cx="1008000" cy="1440"/>
          </a:xfrm>
          <a:prstGeom prst="line">
            <a:avLst/>
          </a:prstGeom>
          <a:ln w="36000">
            <a:solidFill>
              <a:srgbClr val="c500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4" name="Line 31"/>
          <p:cNvSpPr/>
          <p:nvPr/>
        </p:nvSpPr>
        <p:spPr>
          <a:xfrm flipV="1">
            <a:off x="5472000" y="1428840"/>
            <a:ext cx="1246320" cy="382320"/>
          </a:xfrm>
          <a:prstGeom prst="line">
            <a:avLst/>
          </a:prstGeom>
          <a:ln w="36000">
            <a:solidFill>
              <a:srgbClr val="c500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5" name="Text Box 32"/>
          <p:cNvSpPr/>
          <p:nvPr/>
        </p:nvSpPr>
        <p:spPr>
          <a:xfrm>
            <a:off x="5688000" y="1944720"/>
            <a:ext cx="3421080" cy="11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63000" bIns="63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66"/>
                </a:solidFill>
                <a:latin typeface="Calibri"/>
              </a:rPr>
              <a:t>Pour communiquer entr'eux,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66"/>
                </a:solidFill>
                <a:latin typeface="Calibri"/>
              </a:rPr>
              <a:t>les éléments du réseau ont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66"/>
                </a:solidFill>
                <a:latin typeface="Calibri"/>
              </a:rPr>
              <a:t>besoin d'adresses :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6" name="Text Box 33"/>
          <p:cNvSpPr/>
          <p:nvPr/>
        </p:nvSpPr>
        <p:spPr>
          <a:xfrm>
            <a:off x="6912000" y="3024360"/>
            <a:ext cx="1933560" cy="461880"/>
          </a:xfrm>
          <a:prstGeom prst="rect">
            <a:avLst/>
          </a:prstGeom>
          <a:noFill/>
          <a:ln w="360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200" spc="-1" strike="noStrike">
                <a:solidFill>
                  <a:srgbClr val="ffff66"/>
                </a:solidFill>
                <a:latin typeface="Calibri"/>
              </a:rPr>
              <a:t>Les adresses IP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7" name="Text Box 34"/>
          <p:cNvSpPr/>
          <p:nvPr/>
        </p:nvSpPr>
        <p:spPr>
          <a:xfrm>
            <a:off x="1655640" y="828720"/>
            <a:ext cx="1441440" cy="399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ffff99"/>
                </a:solidFill>
                <a:latin typeface="Calibri"/>
              </a:rPr>
              <a:t>172.16.0.253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8" name="Text Box 35"/>
          <p:cNvSpPr/>
          <p:nvPr/>
        </p:nvSpPr>
        <p:spPr>
          <a:xfrm>
            <a:off x="949320" y="4535640"/>
            <a:ext cx="120960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172.16.1.1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9" name="Text Box 36"/>
          <p:cNvSpPr/>
          <p:nvPr/>
        </p:nvSpPr>
        <p:spPr>
          <a:xfrm>
            <a:off x="1944720" y="5040360"/>
            <a:ext cx="120960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172.16.1.2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0" name="Text Box 37"/>
          <p:cNvSpPr/>
          <p:nvPr/>
        </p:nvSpPr>
        <p:spPr>
          <a:xfrm>
            <a:off x="5918040" y="5111640"/>
            <a:ext cx="120996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172.16.2.1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1" name="Text Box 38"/>
          <p:cNvSpPr/>
          <p:nvPr/>
        </p:nvSpPr>
        <p:spPr>
          <a:xfrm>
            <a:off x="7429680" y="4834080"/>
            <a:ext cx="120960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172.16.2.2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2" name="Text Box 39"/>
          <p:cNvSpPr/>
          <p:nvPr/>
        </p:nvSpPr>
        <p:spPr>
          <a:xfrm>
            <a:off x="1511280" y="-171360"/>
            <a:ext cx="640872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63000" bIns="63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3600" spc="-1" strike="noStrike">
                <a:solidFill>
                  <a:srgbClr val="ffffcc"/>
                </a:solidFill>
                <a:latin typeface="Calibri"/>
              </a:rPr>
              <a:t>Notions de base sur les réseaux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3" name="Text Box 40"/>
          <p:cNvSpPr/>
          <p:nvPr/>
        </p:nvSpPr>
        <p:spPr>
          <a:xfrm>
            <a:off x="6624720" y="3527280"/>
            <a:ext cx="237636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Composée de 4 nombres </a:t>
            </a:r>
            <a:br>
              <a:rPr sz="1800"/>
            </a:b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(entre 0 et 255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4" name="Text Box 41"/>
          <p:cNvSpPr/>
          <p:nvPr/>
        </p:nvSpPr>
        <p:spPr>
          <a:xfrm>
            <a:off x="8423280" y="546120"/>
            <a:ext cx="647640" cy="390600"/>
          </a:xfrm>
          <a:prstGeom prst="rect">
            <a:avLst/>
          </a:prstGeom>
          <a:noFill/>
          <a:ln w="360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ffff66"/>
                </a:solidFill>
                <a:latin typeface="Calibri"/>
              </a:rPr>
              <a:t>DN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6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6" dur="2000"/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9" dur="20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Text Box 1"/>
          <p:cNvSpPr/>
          <p:nvPr/>
        </p:nvSpPr>
        <p:spPr>
          <a:xfrm>
            <a:off x="1152360" y="762120"/>
            <a:ext cx="1390680" cy="461880"/>
          </a:xfrm>
          <a:prstGeom prst="rect">
            <a:avLst/>
          </a:prstGeom>
          <a:noFill/>
          <a:ln w="360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200" spc="-1" strike="noStrike">
                <a:solidFill>
                  <a:srgbClr val="ffff66"/>
                </a:solidFill>
                <a:latin typeface="Calibri"/>
              </a:rPr>
              <a:t>adresse IP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6" name="Text Box 2"/>
          <p:cNvSpPr/>
          <p:nvPr/>
        </p:nvSpPr>
        <p:spPr>
          <a:xfrm>
            <a:off x="3075120" y="792000"/>
            <a:ext cx="376380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Composée de 4 nombres entre 0 et 25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7" name="Text Box 3"/>
          <p:cNvSpPr/>
          <p:nvPr/>
        </p:nvSpPr>
        <p:spPr>
          <a:xfrm>
            <a:off x="1828800" y="1714680"/>
            <a:ext cx="6307200" cy="9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Pour connaître son adresse IP, ouvrir une console de commande :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Aller dans le menu démarrer,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puis taper </a:t>
            </a:r>
            <a:r>
              <a:rPr b="1" i="1" lang="fr-FR" sz="1800" spc="-1" strike="noStrike">
                <a:solidFill>
                  <a:srgbClr val="ffffff"/>
                </a:solidFill>
                <a:latin typeface="Calibri"/>
              </a:rPr>
              <a:t>cmd</a:t>
            </a: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 dans la zone de recherche suivi de Entrée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68" name="Picture 4" descr=""/>
          <p:cNvPicPr/>
          <p:nvPr/>
        </p:nvPicPr>
        <p:blipFill>
          <a:blip r:embed="rId1"/>
          <a:stretch/>
        </p:blipFill>
        <p:spPr>
          <a:xfrm>
            <a:off x="1582560" y="3081240"/>
            <a:ext cx="6553440" cy="1743120"/>
          </a:xfrm>
          <a:prstGeom prst="rect">
            <a:avLst/>
          </a:prstGeom>
          <a:ln w="0">
            <a:noFill/>
          </a:ln>
        </p:spPr>
      </p:pic>
      <p:sp>
        <p:nvSpPr>
          <p:cNvPr id="669" name="Text Box 5"/>
          <p:cNvSpPr/>
          <p:nvPr/>
        </p:nvSpPr>
        <p:spPr>
          <a:xfrm>
            <a:off x="2816280" y="5214960"/>
            <a:ext cx="301608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Taper </a:t>
            </a:r>
            <a:r>
              <a:rPr b="0" i="1" lang="fr-FR" sz="1800" spc="-1" strike="noStrike">
                <a:solidFill>
                  <a:srgbClr val="ffffff"/>
                </a:solidFill>
                <a:latin typeface="Calibri"/>
              </a:rPr>
              <a:t>ipconfig</a:t>
            </a: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 suivi de Entrée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0" name="Text Box 6"/>
          <p:cNvSpPr/>
          <p:nvPr/>
        </p:nvSpPr>
        <p:spPr>
          <a:xfrm>
            <a:off x="1511280" y="-169920"/>
            <a:ext cx="640872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63000" bIns="63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3600" spc="-1" strike="noStrike">
                <a:solidFill>
                  <a:srgbClr val="ffffcc"/>
                </a:solidFill>
                <a:latin typeface="Calibri"/>
              </a:rPr>
              <a:t>Notions de base sur les réseaux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1" name="Picture 1" descr=""/>
          <p:cNvPicPr/>
          <p:nvPr/>
        </p:nvPicPr>
        <p:blipFill>
          <a:blip r:embed="rId1"/>
          <a:stretch/>
        </p:blipFill>
        <p:spPr>
          <a:xfrm>
            <a:off x="396720" y="6419880"/>
            <a:ext cx="8204400" cy="682560"/>
          </a:xfrm>
          <a:prstGeom prst="rect">
            <a:avLst/>
          </a:prstGeom>
          <a:ln w="0">
            <a:noFill/>
          </a:ln>
        </p:spPr>
      </p:pic>
      <p:pic>
        <p:nvPicPr>
          <p:cNvPr id="672" name="Picture 2" descr=""/>
          <p:cNvPicPr/>
          <p:nvPr/>
        </p:nvPicPr>
        <p:blipFill>
          <a:blip r:embed="rId2"/>
          <a:stretch/>
        </p:blipFill>
        <p:spPr>
          <a:xfrm>
            <a:off x="34920" y="765000"/>
            <a:ext cx="776160" cy="1079640"/>
          </a:xfrm>
          <a:prstGeom prst="rect">
            <a:avLst/>
          </a:prstGeom>
          <a:ln w="0">
            <a:noFill/>
          </a:ln>
        </p:spPr>
      </p:pic>
      <p:sp>
        <p:nvSpPr>
          <p:cNvPr id="673" name="Text Box 3"/>
          <p:cNvSpPr/>
          <p:nvPr/>
        </p:nvSpPr>
        <p:spPr>
          <a:xfrm>
            <a:off x="6934320" y="63993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AF5A3E-C744-4EF7-A165-91F2C7EC470E}" type="slidenum">
              <a:rPr b="0" lang="fr-FR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74" name="Picture 4" descr=""/>
          <p:cNvPicPr/>
          <p:nvPr/>
        </p:nvPicPr>
        <p:blipFill>
          <a:blip r:embed="rId3"/>
          <a:stretch/>
        </p:blipFill>
        <p:spPr>
          <a:xfrm>
            <a:off x="576360" y="720720"/>
            <a:ext cx="6846840" cy="3456000"/>
          </a:xfrm>
          <a:prstGeom prst="rect">
            <a:avLst/>
          </a:prstGeom>
          <a:ln w="0">
            <a:noFill/>
          </a:ln>
        </p:spPr>
      </p:pic>
      <p:sp>
        <p:nvSpPr>
          <p:cNvPr id="675" name="Text Box 5"/>
          <p:cNvSpPr/>
          <p:nvPr/>
        </p:nvSpPr>
        <p:spPr>
          <a:xfrm>
            <a:off x="7524720" y="1085760"/>
            <a:ext cx="147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66ff33"/>
                </a:solidFill>
                <a:latin typeface="Calibri"/>
              </a:rPr>
              <a:t>adresse IP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66ff33"/>
                </a:solidFill>
                <a:latin typeface="Calibri"/>
              </a:rPr>
              <a:t>de la machin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6" name="Line 6"/>
          <p:cNvSpPr/>
          <p:nvPr/>
        </p:nvSpPr>
        <p:spPr>
          <a:xfrm flipV="1">
            <a:off x="5327640" y="1428480"/>
            <a:ext cx="2232000" cy="166680"/>
          </a:xfrm>
          <a:prstGeom prst="line">
            <a:avLst/>
          </a:prstGeom>
          <a:ln cap="sq" w="9360">
            <a:solidFill>
              <a:srgbClr val="61fe2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7" name="Text Box 7"/>
          <p:cNvSpPr/>
          <p:nvPr/>
        </p:nvSpPr>
        <p:spPr>
          <a:xfrm>
            <a:off x="7632720" y="2727360"/>
            <a:ext cx="116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fr-FR" sz="1800" spc="-1" strike="noStrike">
                <a:solidFill>
                  <a:srgbClr val="ffff00"/>
                </a:solidFill>
                <a:latin typeface="Calibri"/>
              </a:rPr>
              <a:t>passerel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8" name="Line 8"/>
          <p:cNvSpPr/>
          <p:nvPr/>
        </p:nvSpPr>
        <p:spPr>
          <a:xfrm>
            <a:off x="5256360" y="1871640"/>
            <a:ext cx="2376360" cy="1079640"/>
          </a:xfrm>
          <a:prstGeom prst="line">
            <a:avLst/>
          </a:prstGeom>
          <a:ln cap="sq" w="936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9" name="Text Box 9"/>
          <p:cNvSpPr/>
          <p:nvPr/>
        </p:nvSpPr>
        <p:spPr>
          <a:xfrm>
            <a:off x="1511280" y="-169920"/>
            <a:ext cx="640872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63000" bIns="63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3600" spc="-1" strike="noStrike">
                <a:solidFill>
                  <a:srgbClr val="ffffcc"/>
                </a:solidFill>
                <a:latin typeface="Calibri"/>
              </a:rPr>
              <a:t>Notions de base sur les réseaux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0" name="Text Box 10"/>
          <p:cNvSpPr/>
          <p:nvPr/>
        </p:nvSpPr>
        <p:spPr>
          <a:xfrm>
            <a:off x="1295280" y="4378320"/>
            <a:ext cx="7147080" cy="9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Le masque 255.255.0.0 nous indique que les 2 premiers nombres (172.16)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correspondent à l’adresse du réseau,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et que les 2 derniers (40.100) désignent la machine dans ce réseau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1" name="Line 11"/>
          <p:cNvSpPr/>
          <p:nvPr/>
        </p:nvSpPr>
        <p:spPr>
          <a:xfrm>
            <a:off x="5184720" y="1728720"/>
            <a:ext cx="2519280" cy="360360"/>
          </a:xfrm>
          <a:prstGeom prst="line">
            <a:avLst/>
          </a:prstGeom>
          <a:ln cap="sq" w="93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2" name="Text Box 12"/>
          <p:cNvSpPr/>
          <p:nvPr/>
        </p:nvSpPr>
        <p:spPr>
          <a:xfrm>
            <a:off x="7623360" y="1792440"/>
            <a:ext cx="12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Masque d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Sous réseau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3" name="Text Box 13"/>
          <p:cNvSpPr/>
          <p:nvPr/>
        </p:nvSpPr>
        <p:spPr>
          <a:xfrm>
            <a:off x="1254240" y="5445000"/>
            <a:ext cx="410184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Le troisième chiffre peut varier de 0 à 254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Le dernier chiffre peut varier de 1 à 254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6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6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Text Box 1"/>
          <p:cNvSpPr/>
          <p:nvPr/>
        </p:nvSpPr>
        <p:spPr>
          <a:xfrm>
            <a:off x="1511280" y="-169920"/>
            <a:ext cx="640872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63000" bIns="63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3600" spc="-1" strike="noStrike">
                <a:solidFill>
                  <a:srgbClr val="ffffcc"/>
                </a:solidFill>
                <a:latin typeface="Calibri"/>
              </a:rPr>
              <a:t>Notions de base sur les réseaux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5" name="Text Box 2"/>
          <p:cNvSpPr/>
          <p:nvPr/>
        </p:nvSpPr>
        <p:spPr>
          <a:xfrm>
            <a:off x="1224000" y="779400"/>
            <a:ext cx="5884920" cy="20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Pour une organisation claire du réseau on utilise :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- le troisième chiffre pour désigner la salle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- le dernier chiffre pour désigner la machin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Exemple :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salle </a:t>
            </a: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101</a:t>
            </a: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 qui comporte </a:t>
            </a:r>
            <a:r>
              <a:rPr b="0" lang="fr-FR" sz="1800" spc="-1" strike="noStrike">
                <a:solidFill>
                  <a:srgbClr val="00ff00"/>
                </a:solidFill>
                <a:latin typeface="Calibri"/>
              </a:rPr>
              <a:t>25</a:t>
            </a: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 ordinateurs :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Adresses IP des ordinateurs de </a:t>
            </a:r>
            <a:r>
              <a:rPr b="0" lang="fr-FR" sz="1800" spc="-1" strike="noStrike">
                <a:solidFill>
                  <a:srgbClr val="ffff00"/>
                </a:solidFill>
                <a:latin typeface="Calibri"/>
              </a:rPr>
              <a:t>172.16</a:t>
            </a: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.</a:t>
            </a: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101</a:t>
            </a:r>
            <a:r>
              <a:rPr b="0" lang="fr-FR" sz="1800" spc="-1" strike="noStrike">
                <a:solidFill>
                  <a:srgbClr val="00ff00"/>
                </a:solidFill>
                <a:latin typeface="Calibri"/>
              </a:rPr>
              <a:t>.1</a:t>
            </a: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 à </a:t>
            </a:r>
            <a:r>
              <a:rPr b="0" lang="fr-FR" sz="1800" spc="-1" strike="noStrike">
                <a:solidFill>
                  <a:srgbClr val="ffff00"/>
                </a:solidFill>
                <a:latin typeface="Calibri"/>
              </a:rPr>
              <a:t>172.16.</a:t>
            </a: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101</a:t>
            </a:r>
            <a:r>
              <a:rPr b="0" lang="fr-FR" sz="1800" spc="-1" strike="noStrike">
                <a:solidFill>
                  <a:srgbClr val="00ff00"/>
                </a:solidFill>
                <a:latin typeface="Calibri"/>
              </a:rPr>
              <a:t>.2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6" name="Text Box 3"/>
          <p:cNvSpPr/>
          <p:nvPr/>
        </p:nvSpPr>
        <p:spPr>
          <a:xfrm>
            <a:off x="1243080" y="3009960"/>
            <a:ext cx="524520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Le poste maître sera différencié avec le dernier chiffr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Calibri"/>
              </a:rPr>
              <a:t>172.16</a:t>
            </a: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.</a:t>
            </a: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101</a:t>
            </a:r>
            <a:r>
              <a:rPr b="0" lang="fr-FR" sz="1800" spc="-1" strike="noStrike">
                <a:solidFill>
                  <a:srgbClr val="00ff00"/>
                </a:solidFill>
                <a:latin typeface="Calibri"/>
              </a:rPr>
              <a:t>.100</a:t>
            </a: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7" name="Text Box 4"/>
          <p:cNvSpPr/>
          <p:nvPr/>
        </p:nvSpPr>
        <p:spPr>
          <a:xfrm>
            <a:off x="1235160" y="3887640"/>
            <a:ext cx="5030640" cy="6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L'imprimante sera différenciée avec le dernier chiffr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Calibri"/>
              </a:rPr>
              <a:t>172.16</a:t>
            </a: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.</a:t>
            </a: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101</a:t>
            </a:r>
            <a:r>
              <a:rPr b="0" lang="fr-FR" sz="1800" spc="-1" strike="noStrike">
                <a:solidFill>
                  <a:srgbClr val="00ff00"/>
                </a:solidFill>
                <a:latin typeface="Calibri"/>
              </a:rPr>
              <a:t>.250</a:t>
            </a: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6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00"/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6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Text Box 1"/>
          <p:cNvSpPr/>
          <p:nvPr/>
        </p:nvSpPr>
        <p:spPr>
          <a:xfrm>
            <a:off x="1511280" y="-169920"/>
            <a:ext cx="640872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63000" bIns="63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3600" spc="-1" strike="noStrike">
                <a:solidFill>
                  <a:srgbClr val="ffffcc"/>
                </a:solidFill>
                <a:latin typeface="Calibri"/>
              </a:rPr>
              <a:t>Notions de base sur les réseaux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9" name="Text Box 2"/>
          <p:cNvSpPr/>
          <p:nvPr/>
        </p:nvSpPr>
        <p:spPr>
          <a:xfrm>
            <a:off x="3456000" y="647640"/>
            <a:ext cx="561672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63000" bIns="63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Pour vérifier la connexion , on va envoyer une commande de test vers une machine du réseau ou vers soi même :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Le </a:t>
            </a:r>
            <a:r>
              <a:rPr b="1" i="1" lang="fr-FR" sz="1800" spc="-1" strike="noStrike">
                <a:solidFill>
                  <a:srgbClr val="ffffff"/>
                </a:solidFill>
                <a:latin typeface="Calibri"/>
              </a:rPr>
              <a:t>ping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690" name="Group 3"/>
          <p:cNvGrpSpPr/>
          <p:nvPr/>
        </p:nvGrpSpPr>
        <p:grpSpPr>
          <a:xfrm>
            <a:off x="1440000" y="1084320"/>
            <a:ext cx="1428480" cy="2004840"/>
            <a:chOff x="1440000" y="1084320"/>
            <a:chExt cx="1428480" cy="2004840"/>
          </a:xfrm>
        </p:grpSpPr>
        <p:pic>
          <p:nvPicPr>
            <p:cNvPr id="691" name="Picture 4" descr=""/>
            <p:cNvPicPr/>
            <p:nvPr/>
          </p:nvPicPr>
          <p:blipFill>
            <a:blip r:embed="rId1"/>
            <a:stretch/>
          </p:blipFill>
          <p:spPr>
            <a:xfrm>
              <a:off x="1440000" y="1084320"/>
              <a:ext cx="1428480" cy="2004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2" name="Oval 5"/>
          <p:cNvSpPr/>
          <p:nvPr/>
        </p:nvSpPr>
        <p:spPr>
          <a:xfrm>
            <a:off x="431640" y="3816360"/>
            <a:ext cx="4896000" cy="2519280"/>
          </a:xfrm>
          <a:prstGeom prst="ellipse">
            <a:avLst/>
          </a:prstGeom>
          <a:solidFill>
            <a:srgbClr val="729fcf"/>
          </a:solidFill>
          <a:ln w="9360">
            <a:solidFill>
              <a:srgbClr val="c500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93" name="Picture 6" descr=""/>
          <p:cNvPicPr/>
          <p:nvPr/>
        </p:nvPicPr>
        <p:blipFill>
          <a:blip r:embed="rId2"/>
          <a:stretch/>
        </p:blipFill>
        <p:spPr>
          <a:xfrm>
            <a:off x="792000" y="4430880"/>
            <a:ext cx="970200" cy="969840"/>
          </a:xfrm>
          <a:prstGeom prst="rect">
            <a:avLst/>
          </a:prstGeom>
          <a:ln w="0">
            <a:noFill/>
          </a:ln>
        </p:spPr>
      </p:pic>
      <p:pic>
        <p:nvPicPr>
          <p:cNvPr id="694" name="Picture 7" descr=""/>
          <p:cNvPicPr/>
          <p:nvPr/>
        </p:nvPicPr>
        <p:blipFill>
          <a:blip r:embed="rId3"/>
          <a:stretch/>
        </p:blipFill>
        <p:spPr>
          <a:xfrm>
            <a:off x="2735280" y="5222880"/>
            <a:ext cx="969840" cy="969840"/>
          </a:xfrm>
          <a:prstGeom prst="rect">
            <a:avLst/>
          </a:prstGeom>
          <a:ln w="0">
            <a:noFill/>
          </a:ln>
        </p:spPr>
      </p:pic>
      <p:sp>
        <p:nvSpPr>
          <p:cNvPr id="695" name="Text Box 8"/>
          <p:cNvSpPr/>
          <p:nvPr/>
        </p:nvSpPr>
        <p:spPr>
          <a:xfrm>
            <a:off x="1368360" y="684360"/>
            <a:ext cx="1441440" cy="399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ffff99"/>
                </a:solidFill>
                <a:latin typeface="Calibri"/>
              </a:rPr>
              <a:t>172.16.0.253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6" name="Text Box 9"/>
          <p:cNvSpPr/>
          <p:nvPr/>
        </p:nvSpPr>
        <p:spPr>
          <a:xfrm>
            <a:off x="1079640" y="4176720"/>
            <a:ext cx="120960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172.16.1.1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7" name="Text Box 10"/>
          <p:cNvSpPr/>
          <p:nvPr/>
        </p:nvSpPr>
        <p:spPr>
          <a:xfrm>
            <a:off x="2749680" y="5040360"/>
            <a:ext cx="120960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172.16.1.2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698" name="Group 11"/>
          <p:cNvGrpSpPr/>
          <p:nvPr/>
        </p:nvGrpSpPr>
        <p:grpSpPr>
          <a:xfrm>
            <a:off x="3186000" y="2016000"/>
            <a:ext cx="2059200" cy="1284480"/>
            <a:chOff x="3186000" y="2016000"/>
            <a:chExt cx="2059200" cy="1284480"/>
          </a:xfrm>
        </p:grpSpPr>
        <p:pic>
          <p:nvPicPr>
            <p:cNvPr id="699" name="Picture 12" descr=""/>
            <p:cNvPicPr/>
            <p:nvPr/>
          </p:nvPicPr>
          <p:blipFill>
            <a:blip r:embed="rId4"/>
            <a:stretch/>
          </p:blipFill>
          <p:spPr>
            <a:xfrm>
              <a:off x="3186000" y="2281320"/>
              <a:ext cx="2059200" cy="101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0" name="Text Box 13"/>
            <p:cNvSpPr/>
            <p:nvPr/>
          </p:nvSpPr>
          <p:spPr>
            <a:xfrm>
              <a:off x="3487680" y="2016000"/>
              <a:ext cx="766800" cy="35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Calibri"/>
                </a:rPr>
                <a:t>switch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701" name="Line 15"/>
          <p:cNvSpPr/>
          <p:nvPr/>
        </p:nvSpPr>
        <p:spPr>
          <a:xfrm>
            <a:off x="2376360" y="1224000"/>
            <a:ext cx="1764000" cy="1566720"/>
          </a:xfrm>
          <a:prstGeom prst="line">
            <a:avLst/>
          </a:prstGeom>
          <a:ln w="36000">
            <a:solidFill>
              <a:srgbClr val="ffff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2" name="Line 16"/>
          <p:cNvSpPr/>
          <p:nvPr/>
        </p:nvSpPr>
        <p:spPr>
          <a:xfrm flipV="1">
            <a:off x="1944720" y="3212640"/>
            <a:ext cx="2195640" cy="1622520"/>
          </a:xfrm>
          <a:prstGeom prst="line">
            <a:avLst/>
          </a:prstGeom>
          <a:ln w="36000">
            <a:solidFill>
              <a:srgbClr val="ffff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3" name="Text Box 17"/>
          <p:cNvSpPr/>
          <p:nvPr/>
        </p:nvSpPr>
        <p:spPr>
          <a:xfrm>
            <a:off x="5881680" y="1560600"/>
            <a:ext cx="2325600" cy="5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1800" spc="-1" strike="noStrike">
                <a:solidFill>
                  <a:srgbClr val="ff0000"/>
                </a:solidFill>
                <a:latin typeface="Calibri"/>
              </a:rPr>
              <a:t>ping 127.0.0.1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ff0000"/>
                </a:solidFill>
                <a:latin typeface="Calibri"/>
              </a:rPr>
              <a:t>=&gt; Vérifier le protocole IP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4" name="Text Box 18"/>
          <p:cNvSpPr/>
          <p:nvPr/>
        </p:nvSpPr>
        <p:spPr>
          <a:xfrm>
            <a:off x="5904000" y="2232000"/>
            <a:ext cx="230328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1800" spc="-1" strike="noStrike">
                <a:solidFill>
                  <a:srgbClr val="ff0000"/>
                </a:solidFill>
                <a:latin typeface="Calibri"/>
              </a:rPr>
              <a:t>ping </a:t>
            </a:r>
            <a:r>
              <a:rPr b="1" i="1" lang="fr-FR" sz="1800" spc="-1" strike="noStrike" u="sng">
                <a:solidFill>
                  <a:srgbClr val="ff0000"/>
                </a:solidFill>
                <a:uFillTx/>
                <a:latin typeface="Calibri"/>
              </a:rPr>
              <a:t>adresse du ipconfig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ff0000"/>
                </a:solidFill>
                <a:latin typeface="Calibri"/>
              </a:rPr>
              <a:t>=&gt; Vérifier la carte réseau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5" name="Text Box 20"/>
          <p:cNvSpPr/>
          <p:nvPr/>
        </p:nvSpPr>
        <p:spPr>
          <a:xfrm>
            <a:off x="5975280" y="3614760"/>
            <a:ext cx="2664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1800" spc="-1" strike="noStrike">
                <a:solidFill>
                  <a:srgbClr val="ffff66"/>
                </a:solidFill>
                <a:latin typeface="Calibri"/>
              </a:rPr>
              <a:t>ping 172.16.0.253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ffff66"/>
                </a:solidFill>
                <a:latin typeface="Calibri"/>
              </a:rPr>
              <a:t>=&gt; Vérifier la liaison au serveur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0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Text Box 1"/>
          <p:cNvSpPr/>
          <p:nvPr/>
        </p:nvSpPr>
        <p:spPr>
          <a:xfrm>
            <a:off x="1511280" y="-169920"/>
            <a:ext cx="640872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63000" bIns="63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3600" spc="-1" strike="noStrike">
                <a:solidFill>
                  <a:srgbClr val="ffffcc"/>
                </a:solidFill>
                <a:latin typeface="Calibri"/>
              </a:rPr>
              <a:t>Notions de base sur les réseaux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7" name="Text Box 2"/>
          <p:cNvSpPr/>
          <p:nvPr/>
        </p:nvSpPr>
        <p:spPr>
          <a:xfrm>
            <a:off x="4535640" y="647640"/>
            <a:ext cx="453708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63000" bIns="63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ouvrir une console de commande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et taper : </a:t>
            </a:r>
            <a:r>
              <a:rPr b="1" i="1" lang="fr-FR" sz="1800" spc="-1" strike="noStrike">
                <a:solidFill>
                  <a:srgbClr val="ffffff"/>
                </a:solidFill>
                <a:latin typeface="Calibri"/>
              </a:rPr>
              <a:t>ping 127.0.0.1</a:t>
            </a: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708" name="Group 3"/>
          <p:cNvGrpSpPr/>
          <p:nvPr/>
        </p:nvGrpSpPr>
        <p:grpSpPr>
          <a:xfrm>
            <a:off x="1440000" y="1084320"/>
            <a:ext cx="1428480" cy="2004840"/>
            <a:chOff x="1440000" y="1084320"/>
            <a:chExt cx="1428480" cy="2004840"/>
          </a:xfrm>
        </p:grpSpPr>
        <p:pic>
          <p:nvPicPr>
            <p:cNvPr id="709" name="Picture 4" descr=""/>
            <p:cNvPicPr/>
            <p:nvPr/>
          </p:nvPicPr>
          <p:blipFill>
            <a:blip r:embed="rId1"/>
            <a:stretch/>
          </p:blipFill>
          <p:spPr>
            <a:xfrm>
              <a:off x="1440000" y="1084320"/>
              <a:ext cx="1428480" cy="2004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0" name="Oval 5"/>
          <p:cNvSpPr/>
          <p:nvPr/>
        </p:nvSpPr>
        <p:spPr>
          <a:xfrm>
            <a:off x="431640" y="3816360"/>
            <a:ext cx="4896000" cy="2519280"/>
          </a:xfrm>
          <a:prstGeom prst="ellipse">
            <a:avLst/>
          </a:prstGeom>
          <a:solidFill>
            <a:srgbClr val="729fcf"/>
          </a:solidFill>
          <a:ln w="9360">
            <a:solidFill>
              <a:srgbClr val="c500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11" name="Picture 6" descr=""/>
          <p:cNvPicPr/>
          <p:nvPr/>
        </p:nvPicPr>
        <p:blipFill>
          <a:blip r:embed="rId2"/>
          <a:stretch/>
        </p:blipFill>
        <p:spPr>
          <a:xfrm>
            <a:off x="792000" y="4430880"/>
            <a:ext cx="970200" cy="969840"/>
          </a:xfrm>
          <a:prstGeom prst="rect">
            <a:avLst/>
          </a:prstGeom>
          <a:ln w="0">
            <a:noFill/>
          </a:ln>
        </p:spPr>
      </p:pic>
      <p:pic>
        <p:nvPicPr>
          <p:cNvPr id="712" name="Picture 7" descr=""/>
          <p:cNvPicPr/>
          <p:nvPr/>
        </p:nvPicPr>
        <p:blipFill>
          <a:blip r:embed="rId3"/>
          <a:stretch/>
        </p:blipFill>
        <p:spPr>
          <a:xfrm>
            <a:off x="2735280" y="5222880"/>
            <a:ext cx="969840" cy="969840"/>
          </a:xfrm>
          <a:prstGeom prst="rect">
            <a:avLst/>
          </a:prstGeom>
          <a:ln w="0">
            <a:noFill/>
          </a:ln>
        </p:spPr>
      </p:pic>
      <p:sp>
        <p:nvSpPr>
          <p:cNvPr id="713" name="Text Box 8"/>
          <p:cNvSpPr/>
          <p:nvPr/>
        </p:nvSpPr>
        <p:spPr>
          <a:xfrm>
            <a:off x="1368360" y="684360"/>
            <a:ext cx="1441440" cy="399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ffff99"/>
                </a:solidFill>
                <a:latin typeface="Calibri"/>
              </a:rPr>
              <a:t>172.16.0.253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4" name="Text Box 9"/>
          <p:cNvSpPr/>
          <p:nvPr/>
        </p:nvSpPr>
        <p:spPr>
          <a:xfrm>
            <a:off x="1079640" y="4176720"/>
            <a:ext cx="120960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172.16.1.1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5" name="Text Box 10"/>
          <p:cNvSpPr/>
          <p:nvPr/>
        </p:nvSpPr>
        <p:spPr>
          <a:xfrm>
            <a:off x="2749680" y="5040360"/>
            <a:ext cx="120960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172.16.1.2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716" name="Group 11"/>
          <p:cNvGrpSpPr/>
          <p:nvPr/>
        </p:nvGrpSpPr>
        <p:grpSpPr>
          <a:xfrm>
            <a:off x="3186000" y="2016000"/>
            <a:ext cx="2059200" cy="1284480"/>
            <a:chOff x="3186000" y="2016000"/>
            <a:chExt cx="2059200" cy="1284480"/>
          </a:xfrm>
        </p:grpSpPr>
        <p:pic>
          <p:nvPicPr>
            <p:cNvPr id="717" name="Picture 12" descr=""/>
            <p:cNvPicPr/>
            <p:nvPr/>
          </p:nvPicPr>
          <p:blipFill>
            <a:blip r:embed="rId4"/>
            <a:stretch/>
          </p:blipFill>
          <p:spPr>
            <a:xfrm>
              <a:off x="3186000" y="2281320"/>
              <a:ext cx="2059200" cy="101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 Box 13"/>
            <p:cNvSpPr/>
            <p:nvPr/>
          </p:nvSpPr>
          <p:spPr>
            <a:xfrm>
              <a:off x="3487680" y="2016000"/>
              <a:ext cx="766800" cy="35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Calibri"/>
                </a:rPr>
                <a:t>switch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pic>
        <p:nvPicPr>
          <p:cNvPr id="719" name="Picture 14" descr=""/>
          <p:cNvPicPr/>
          <p:nvPr/>
        </p:nvPicPr>
        <p:blipFill>
          <a:blip r:embed="rId5"/>
          <a:stretch/>
        </p:blipFill>
        <p:spPr>
          <a:xfrm>
            <a:off x="3743280" y="1333440"/>
            <a:ext cx="5256360" cy="26002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15" descr=""/>
          <p:cNvPicPr/>
          <p:nvPr/>
        </p:nvPicPr>
        <p:blipFill>
          <a:blip r:embed="rId6"/>
          <a:stretch/>
        </p:blipFill>
        <p:spPr>
          <a:xfrm>
            <a:off x="3743280" y="4270320"/>
            <a:ext cx="5303880" cy="1273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3T18:31:53Z</dcterms:created>
  <dc:creator>Fred</dc:creator>
  <dc:description/>
  <dc:language>en-US</dc:language>
  <cp:lastModifiedBy>Administrateur Windows</cp:lastModifiedBy>
  <dcterms:modified xsi:type="dcterms:W3CDTF">2014-12-09T12:17:27Z</dcterms:modified>
  <cp:revision>174</cp:revision>
  <dc:subject/>
  <dc:title>ACCOMPAGNEMENT  DES ENSEIGNANTS RESSOURCES TICE</dc:title>
</cp:coreProperties>
</file>