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24.png" ContentType="image/png"/>
  <Override PartName="/ppt/media/image29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5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dt" idx="2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sldNum" idx="28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6C3BE-B155-4F35-83CE-818A5694B25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98338-83BA-42BB-8651-CEB4A7D8962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C2AC6-BBC7-4341-ACBF-F16C187826E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06852-542A-45BB-97C0-19C2F3DCD99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1BA36-F782-4454-BD58-3B2E016F7CC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6DF45-A84F-426B-A458-9BE137A24DF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C64FE-9D2C-4706-91EB-ED879F726A9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71C0A-B8EA-4EDC-B577-75ABD2C421D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591D5-E0A9-47C9-ABFA-32B386DEA21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5ABA4-3A7A-4D1A-99D7-ECA4A23B855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F4255-4786-4BA2-8708-873D23B898D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B3EED-AF18-47EE-B8EE-3EDA0010A81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1004B-5E9E-45DC-B789-BD78F75189E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7DA46-2BB1-4438-A9D7-053F395D408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0B4D5-9D8C-4CA9-8BE4-C757F8912C8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CC603-EA7A-4F19-92BB-67A6C4AF822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B0061-C2F0-45E3-A96D-4038207C915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687FA-3F1B-4322-ABAC-2DB93C6B22E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87C94-DF73-4492-84E1-4456EC5ABBA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88BC6-4E9D-404C-8442-41BB1DD968E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4CB12-1928-470D-96E4-98BDA199C5C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1536E-CE6D-4800-8657-564A836A768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35417-24BD-4495-89C6-E529EAD6F81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4BA37-CF58-494B-80E6-B93A7787DC5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46EE0-9694-4C67-AEB1-6EE3AD64158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CCEF2-C6B7-4872-85D2-B86029D3EB0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40592-6915-48CF-AA9E-11433210CD6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A8090-3706-4F4E-B210-AFEC9A5610C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5FFB9-5027-4EF6-9BCC-8A82FAC13DC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1BDBA-CCA2-4154-84F6-67FF718861B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00FB8-5033-4D42-BAFC-0D7C91EA28F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DCE90-A1C7-4981-A0F5-A6031A801DC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3F568-3738-4864-A848-A172C76250A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D932B-C5FE-4201-BF7B-EFF1DF7DE19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42E0F-0932-4B63-996F-30878BB3C2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F9875-6202-4221-9965-B9357FB8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59308-0765-4D4D-9CB1-7AA334CA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F9928-1F49-4B9B-8708-D6143BDEA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54A3A-5AA3-4D34-91A9-5008A8120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7646D-DF38-4C30-8E9A-FF902E36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62259-CF4A-4DAF-8BF1-8CDE0733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D1C4F-0845-456B-BB69-02D8A693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F51B4-AB19-4C41-B083-FEB905D7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8611C-69AA-447B-A434-2654F373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C3A1E-BDD5-44E9-A3BD-32857267DC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F14E9B-801E-4C77-8F7E-3F13AC8C20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CB167-B816-45B2-BAF5-5EDBB6F3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A1044D-DC92-40D9-98DE-3035B56E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76094C-BF59-4B6C-A29A-BDBBBD37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58793A-640F-4E4D-AF5E-79801511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B9E70A-C306-47AD-9747-F181A60A9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0FB3E9-E7F3-436F-ADF2-C8A297AAF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0CBD1A-D104-47FC-A9DA-84770AB3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1C6413-B892-43BC-8A26-69E780AF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9193F2-C43D-4BBA-80DF-1029BAFB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789FF2-192B-4033-9517-7228DEFC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06C203-0BB1-4E05-A825-A1546DF1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FD4B2-888B-4CF0-AE26-7F09D73801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53F71A-4A79-41DF-AEE9-8AFD836F83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DBB460-9286-4D79-90AF-A97F77144E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595977-5C0C-4284-8BFD-14E633AF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655FF1-1F23-407A-A463-13FD4624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CA4B32-1970-4ACC-8007-A25ECEF8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024619-CF7C-4429-9B97-2CA3BA7D6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D02DBB-6DB8-4091-B01C-D2B36A041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EDB639-8FA4-424A-B47E-E50250D5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01454D-2F9C-4350-907C-713893D3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174A43-4262-44E6-AF93-C135AAF4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72916-8B59-4C4A-9E8A-04AE130CB1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2D21FD-293A-4278-936A-148A81B1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C6E81B-E6C5-4A39-BBB5-37B7D505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06B5A5-507D-47E2-8587-28497A26C1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70907-AE38-439B-96C1-C4BFE8C2D3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DBD60-09CF-472A-A10C-12F366C6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5D3D6-734C-4BDC-BFF3-6AD87DE7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A5CB5-C9FA-4322-9552-65FADE75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B804A-C9C8-40E3-971C-209CFF6E1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065E9-99E2-4861-903D-FDF361EB0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EE9F5-C27C-4B38-B751-E373F820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80C68-BFD6-420A-8919-CB79C1FE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59381-4D8B-41D0-B05A-5D78423C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4F03B-8EA4-49CD-85FE-23DE6317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84B35-5446-4793-8372-F7D762CD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602E0-B8CF-4F13-BB6E-66EF450B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5D706-1DEE-4D4C-BE4B-D6AE14BD2B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2A6FA5-516C-4EFE-916F-AEADEC687E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CE1265-9A31-4BA8-96A3-11C4FC63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4F9411-0AE9-42E8-9D46-191D2E3C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457772-BF8F-4465-9772-808D99B6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7102C4-B5A2-411F-ABCD-A0542A86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7CC43-DE6C-4BF6-804A-5C72A063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4B9D5E-CB07-448A-B30E-D0E08D079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7FA767-C2C0-4830-9EDF-1BC9C951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E8B0D8-44AB-4ED7-BAB3-BD9C7705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754BD8-32DE-41D3-9B78-50D556C5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7B4ED8-DDE1-41D8-96BC-5BD884CB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9A0838-4D03-42E0-98F8-EC9E0EBC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9844F5-8BD8-44E7-A37B-6602767A37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4D3A0-09ED-4C7A-AEF5-835E5E0A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EA9EF-E56E-4F33-A033-88F12ACF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D98F9-962D-46DD-8C09-35FB3DEE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FD3EA-795F-4EAA-84AE-384BB314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50A30-7828-4DC1-A5B2-BF387CDB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34545-9D81-4F38-873B-244F3DAC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7F65B-9B50-4888-8B39-9BF356D5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27F08-B1D6-4313-9F74-B5012C41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26BDC-F460-426D-82AA-929B9DE4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CC604-14A4-406E-85FF-C2DC771B5B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EC30-7ED7-42B5-870C-04959A2E3C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1BB7-8A20-4441-AE30-9FB7A7C0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10FB-12AE-4AD4-B8A2-81FC6315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37D7-8F84-495B-8BBE-77A4901A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C7C8-8D57-494D-8D49-24F660A5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FB738-CF83-4424-B433-7F076DC7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57BE-948D-4E06-8315-6A0EC15E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406D-D4D8-4F64-BC59-93E9C6D6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5477-50AB-4656-B73E-83FCD7A7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42AC-C1EF-44A8-8B9B-947209D3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AD97-B7B3-4E8A-AA8C-477EF95A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6321-12D7-416F-B6C6-6E287D6A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FEB7-A250-4B50-9C1F-736DA82EC8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B18025-B0F9-41B0-B0A4-B3992CDA65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B0048E-1F14-4638-AFCA-40FBFF68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BBB544-F777-410B-8B3F-91A6867F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47083-B039-4610-8CF7-23960793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867D73-3A61-46DD-9667-75CE5584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755170-5148-497B-B820-DCACCEEB7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C89A3D-A12D-4F8E-8D0C-7E3D504AC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FADAFB-D100-4081-9291-AFBB1F8F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D526FB-7500-4C9A-8B86-5D576690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35A46B-03A5-4C5B-BD6C-859C1CE3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243227-A769-4E43-B2DC-C6A74D05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B5C2BA-E42E-46A6-B21E-5FE418C5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D1B69D-6BFC-41F8-962D-4A0180086E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CA4E37-6C06-4900-94BB-DE532831F1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04C4F-DBE6-442A-A909-F6933CDE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59A162-2EDF-4D31-8E57-1EBE9C84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E2D2BC-0369-4B14-9B10-2996A090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0F649F-16C6-40C3-93F0-F504D3B6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230B34-18EE-45E6-9AAA-B408EE44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14BA86-D1FE-4CB1-8E18-F3A1B4FA2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77A001-D593-4851-8921-EB53317D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43DD7F-8099-4A24-B1CC-C19442DF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72381E-572E-40DD-A2DB-BB1FD4CC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2DF3B6-F00C-4640-80E4-663CCE3F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25DF38-36DF-4BBB-8D93-08194E1F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C205A-4F34-4DF1-A3FB-CE58EFE31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9A86EF-C9F5-4352-9ACA-871AEEE57D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E1500-7463-48C0-81DC-E26B530512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9A3B7-D507-4720-9FAF-E1DD78EF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D2854-5B1C-4668-925E-855FB10C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4672E-691A-4557-AB98-9CDB9C12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98BC8-3233-4185-B5D0-9D766228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95B92-CF8C-46EE-A227-5320F7E99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4D0F3-3CE2-4BC8-902C-95CB255E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73E86-BC5D-4268-859E-94E5670F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2E5CE-09E5-4FC7-889C-CCD5033A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5551E-F26B-492F-91B6-AB969DEC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F86FF-22EB-45AF-8318-3A5A6919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FCEDF-8EF1-4E2C-9EAF-4A4B0257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3BAE0-2131-4245-BBC5-C9685B880C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66634C-4C00-4BF9-8800-33E2522CFF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35A9CC-2609-47F9-AB75-8A49511D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230EA3-DE2D-4B10-9C3E-32B5A851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5A7565-205A-42B3-A9BF-741AA203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646E86-69CA-41A4-A23F-566F905F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507C1A-B18C-43AF-BD05-43A16CFD1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5037BD-8139-484D-9375-7FC5553C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EA433-6086-42F0-81C8-AEE77CBD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775E52-74DE-4337-A685-CEF2002D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4BB806-E7BD-46E7-B81A-2DF4CB01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FCA55F-5282-47B4-8164-297FEEF6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392B97-D83A-4265-BF26-A02DD993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AC9C15-542F-44D5-BAA5-6057F7E578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5005F6-CEBA-40BC-B29A-12A09B4A99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143518-739B-4004-940C-903413C5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2D5837-8043-4C27-850F-D83AC9E7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B6081D-4571-405C-AFD7-CDE79726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7334BF-5140-4775-B9B4-F4B519C5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5050E-3749-49DF-A7F7-4EF75EBB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816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C81C93-D918-43DB-ABF0-08BADF33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B286A0-B6BE-48B2-AE26-D0E19A0D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B8ABC0-A60C-4263-84D2-B013F2EB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2F60F2-DCAD-4918-9714-CC9F8C46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432792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522299-ED89-4E0C-9872-CA646670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520" y="21794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3520" y="432792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64A169-4511-41BD-9543-6125BB71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28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1360" y="21794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28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1360" y="432792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277948-1F4B-4559-BADD-B1790500C3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29929-E5F0-42A1-8163-7CB7EEF397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F25E3-A386-418F-8C36-D53498FD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51AB5-D54F-4B06-B48C-67841A88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3280"/>
            <a:ext cx="152244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B71CD1-35EF-43CC-8EF1-BAAF95147890}" type="datetime">
              <a:rPr b="0" lang="fr-F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8/07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6094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543440" y="6353280"/>
            <a:ext cx="98892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D7DA76-7EC7-44DF-9F3B-C39D12A160D7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ffffbc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19"/>
          </p:nvPr>
        </p:nvSpPr>
        <p:spPr>
          <a:xfrm>
            <a:off x="45684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14FE3-5A42-4FE1-B4E1-0A48D0F169C2}" type="datetime">
              <a: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sldNum" idx="20"/>
          </p:nvPr>
        </p:nvSpPr>
        <p:spPr>
          <a:xfrm>
            <a:off x="8153280" y="6356160"/>
            <a:ext cx="5320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309BAC8-6410-4241-9048-499779E1B978}" type="slidenum">
              <a: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ffffbc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1"/>
          </p:nvPr>
        </p:nvSpPr>
        <p:spPr>
          <a:xfrm>
            <a:off x="45684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4AE10-644D-4064-83A0-95D5C2D6B64C}" type="datetime">
              <a: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22"/>
          </p:nvPr>
        </p:nvSpPr>
        <p:spPr>
          <a:xfrm>
            <a:off x="8153280" y="6356160"/>
            <a:ext cx="5320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ADBA294-43B3-447D-A32B-4AC541C3E730}" type="slidenum">
              <a: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1"/>
          <p:cNvGrpSpPr/>
          <p:nvPr/>
        </p:nvGrpSpPr>
        <p:grpSpPr>
          <a:xfrm>
            <a:off x="0" y="0"/>
            <a:ext cx="9147240" cy="6854760"/>
            <a:chOff x="0" y="0"/>
            <a:chExt cx="9147240" cy="6854760"/>
          </a:xfrm>
        </p:grpSpPr>
        <p:sp>
          <p:nvSpPr>
            <p:cNvPr id="482" name="Rectangle 2"/>
            <p:cNvSpPr/>
            <p:nvPr/>
          </p:nvSpPr>
          <p:spPr>
            <a:xfrm>
              <a:off x="0" y="0"/>
              <a:ext cx="836640" cy="6854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3" name="Line 3"/>
            <p:cNvSpPr/>
            <p:nvPr/>
          </p:nvSpPr>
          <p:spPr>
            <a:xfrm>
              <a:off x="0" y="366840"/>
              <a:ext cx="914256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4" name="Line 4"/>
            <p:cNvSpPr/>
            <p:nvPr/>
          </p:nvSpPr>
          <p:spPr>
            <a:xfrm>
              <a:off x="0" y="452520"/>
              <a:ext cx="914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5" name="Line 5"/>
            <p:cNvSpPr/>
            <p:nvPr/>
          </p:nvSpPr>
          <p:spPr>
            <a:xfrm>
              <a:off x="0" y="6305400"/>
              <a:ext cx="91425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6" name="Line 6"/>
            <p:cNvSpPr/>
            <p:nvPr/>
          </p:nvSpPr>
          <p:spPr>
            <a:xfrm>
              <a:off x="0" y="6419880"/>
              <a:ext cx="914724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68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770960" cy="459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23"/>
          </p:nvPr>
        </p:nvSpPr>
        <p:spPr>
          <a:xfrm>
            <a:off x="1066680" y="639900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F6D8A-5A67-4A4D-A6AB-0A77ABC30850}" type="datetime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Text Box 10"/>
          <p:cNvSpPr/>
          <p:nvPr/>
        </p:nvSpPr>
        <p:spPr>
          <a:xfrm>
            <a:off x="350532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24"/>
          </p:nvPr>
        </p:nvSpPr>
        <p:spPr>
          <a:xfrm>
            <a:off x="6933960" y="639900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076A6-FBBB-404C-BF71-CB667B749A08}" type="slidenum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1"/>
          <p:cNvGrpSpPr/>
          <p:nvPr/>
        </p:nvGrpSpPr>
        <p:grpSpPr>
          <a:xfrm>
            <a:off x="0" y="0"/>
            <a:ext cx="9147240" cy="6854760"/>
            <a:chOff x="0" y="0"/>
            <a:chExt cx="9147240" cy="6854760"/>
          </a:xfrm>
        </p:grpSpPr>
        <p:sp>
          <p:nvSpPr>
            <p:cNvPr id="529" name="Rectangle 2"/>
            <p:cNvSpPr/>
            <p:nvPr/>
          </p:nvSpPr>
          <p:spPr>
            <a:xfrm>
              <a:off x="0" y="0"/>
              <a:ext cx="836640" cy="6854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0" name="Line 3"/>
            <p:cNvSpPr/>
            <p:nvPr/>
          </p:nvSpPr>
          <p:spPr>
            <a:xfrm>
              <a:off x="0" y="366840"/>
              <a:ext cx="914256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1" name="Line 4"/>
            <p:cNvSpPr/>
            <p:nvPr/>
          </p:nvSpPr>
          <p:spPr>
            <a:xfrm>
              <a:off x="0" y="452520"/>
              <a:ext cx="914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2" name="Line 5"/>
            <p:cNvSpPr/>
            <p:nvPr/>
          </p:nvSpPr>
          <p:spPr>
            <a:xfrm>
              <a:off x="0" y="6305400"/>
              <a:ext cx="91425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3" name="Line 6"/>
            <p:cNvSpPr/>
            <p:nvPr/>
          </p:nvSpPr>
          <p:spPr>
            <a:xfrm>
              <a:off x="0" y="6419880"/>
              <a:ext cx="914724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668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770960" cy="459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25"/>
          </p:nvPr>
        </p:nvSpPr>
        <p:spPr>
          <a:xfrm>
            <a:off x="1066680" y="639900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11C87-FE68-462A-9B61-1B3A5E277B78}" type="datetime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350532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Num" idx="26"/>
          </p:nvPr>
        </p:nvSpPr>
        <p:spPr>
          <a:xfrm>
            <a:off x="6933960" y="639900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41534-7CEA-4CC6-B971-15FD0357E856}" type="slidenum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1"/>
          <p:cNvGrpSpPr/>
          <p:nvPr/>
        </p:nvGrpSpPr>
        <p:grpSpPr>
          <a:xfrm>
            <a:off x="0" y="798480"/>
            <a:ext cx="9142560" cy="5904720"/>
            <a:chOff x="0" y="798480"/>
            <a:chExt cx="9142560" cy="5904720"/>
          </a:xfrm>
        </p:grpSpPr>
        <p:pic>
          <p:nvPicPr>
            <p:cNvPr id="43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798480"/>
              <a:ext cx="9142560" cy="59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3"/>
            <p:cNvSpPr/>
            <p:nvPr/>
          </p:nvSpPr>
          <p:spPr>
            <a:xfrm rot="10800000">
              <a:off x="0" y="1143360"/>
              <a:ext cx="9142560" cy="555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45" name="Group 4"/>
          <p:cNvGrpSpPr/>
          <p:nvPr/>
        </p:nvGrpSpPr>
        <p:grpSpPr>
          <a:xfrm>
            <a:off x="0" y="987480"/>
            <a:ext cx="9142560" cy="4831560"/>
            <a:chOff x="0" y="987480"/>
            <a:chExt cx="9142560" cy="4831560"/>
          </a:xfrm>
        </p:grpSpPr>
        <p:pic>
          <p:nvPicPr>
            <p:cNvPr id="46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987480"/>
              <a:ext cx="9142560" cy="483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6"/>
            <p:cNvSpPr/>
            <p:nvPr/>
          </p:nvSpPr>
          <p:spPr>
            <a:xfrm rot="10800000">
              <a:off x="0" y="1342080"/>
              <a:ext cx="9142560" cy="447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ffffbc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45684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B4E0B-55C7-4683-8D17-917DC18F6BB6}" type="datetime">
              <a: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8153280" y="6356160"/>
            <a:ext cx="5320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D7453BB-4E44-4612-955C-50A5E190E098}" type="slidenum">
              <a: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1"/>
          <p:cNvGrpSpPr/>
          <p:nvPr/>
        </p:nvGrpSpPr>
        <p:grpSpPr>
          <a:xfrm>
            <a:off x="0" y="0"/>
            <a:ext cx="9147240" cy="6854760"/>
            <a:chOff x="0" y="0"/>
            <a:chExt cx="9147240" cy="6854760"/>
          </a:xfrm>
        </p:grpSpPr>
        <p:sp>
          <p:nvSpPr>
            <p:cNvPr id="90" name="Rectangle 2"/>
            <p:cNvSpPr/>
            <p:nvPr/>
          </p:nvSpPr>
          <p:spPr>
            <a:xfrm>
              <a:off x="0" y="0"/>
              <a:ext cx="836640" cy="6854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Line 3"/>
            <p:cNvSpPr/>
            <p:nvPr/>
          </p:nvSpPr>
          <p:spPr>
            <a:xfrm>
              <a:off x="0" y="366840"/>
              <a:ext cx="914724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Line 4"/>
            <p:cNvSpPr/>
            <p:nvPr/>
          </p:nvSpPr>
          <p:spPr>
            <a:xfrm>
              <a:off x="0" y="452520"/>
              <a:ext cx="91425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0" y="6305400"/>
              <a:ext cx="914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Line 6"/>
            <p:cNvSpPr/>
            <p:nvPr/>
          </p:nvSpPr>
          <p:spPr>
            <a:xfrm>
              <a:off x="0" y="6419880"/>
              <a:ext cx="914724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770960" cy="459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5"/>
          </p:nvPr>
        </p:nvSpPr>
        <p:spPr>
          <a:xfrm>
            <a:off x="1066680" y="639900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06577-5C42-4230-9DD1-6E5875CB834D}" type="datetime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350532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6"/>
          </p:nvPr>
        </p:nvSpPr>
        <p:spPr>
          <a:xfrm>
            <a:off x="6933960" y="639900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0D679-BFD7-4368-BD32-B5044A1B98DF}" type="slidenum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"/>
          <p:cNvGrpSpPr/>
          <p:nvPr/>
        </p:nvGrpSpPr>
        <p:grpSpPr>
          <a:xfrm>
            <a:off x="0" y="0"/>
            <a:ext cx="9147240" cy="6854760"/>
            <a:chOff x="0" y="0"/>
            <a:chExt cx="9147240" cy="6854760"/>
          </a:xfrm>
        </p:grpSpPr>
        <p:sp>
          <p:nvSpPr>
            <p:cNvPr id="137" name="Rectangle 2"/>
            <p:cNvSpPr/>
            <p:nvPr/>
          </p:nvSpPr>
          <p:spPr>
            <a:xfrm>
              <a:off x="0" y="0"/>
              <a:ext cx="836640" cy="6854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8" name="Line 3"/>
            <p:cNvSpPr/>
            <p:nvPr/>
          </p:nvSpPr>
          <p:spPr>
            <a:xfrm>
              <a:off x="0" y="366840"/>
              <a:ext cx="914724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9" name="Line 4"/>
            <p:cNvSpPr/>
            <p:nvPr/>
          </p:nvSpPr>
          <p:spPr>
            <a:xfrm>
              <a:off x="0" y="452520"/>
              <a:ext cx="91425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0" name="Line 5"/>
            <p:cNvSpPr/>
            <p:nvPr/>
          </p:nvSpPr>
          <p:spPr>
            <a:xfrm>
              <a:off x="0" y="6305400"/>
              <a:ext cx="914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>
              <a:off x="0" y="6419880"/>
              <a:ext cx="9147240" cy="0"/>
            </a:xfrm>
            <a:prstGeom prst="line">
              <a:avLst/>
            </a:prstGeom>
            <a:ln cap="sq"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770960" cy="459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1066680" y="639900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7BBC6-F958-4F40-9A84-91245DEE4A9E}" type="datetime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350532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8"/>
          </p:nvPr>
        </p:nvSpPr>
        <p:spPr>
          <a:xfrm>
            <a:off x="6933960" y="639900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ED13D-267C-477D-AC86-1C0C9BE48E0C}" type="slidenum">
              <a:rPr b="0" lang="fr-FR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" descr="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9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3E041A4-0138-4782-A4CE-55CCD8C2484A}" type="datetime">
              <a: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rPr>
              <a:t>28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0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AEE29CBF-9D65-4AFF-9CA6-7B20B1F75036}" type="slidenum">
              <a: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1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CCECD2C-2958-4963-842E-708B369AB211}" type="datetime">
              <a: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rPr>
              <a:t>28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2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72A54B70-265C-4388-88B9-4186E6188EE7}" type="slidenum">
              <a: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DDABDC8-C5D0-4BC3-AAA2-BAB9FE87533A}" type="datetime">
              <a:rPr b="0" lang="fr-FR" sz="1000" spc="-1" strike="noStrike">
                <a:solidFill>
                  <a:srgbClr val="ffffff"/>
                </a:solidFill>
                <a:latin typeface="Times New Roman"/>
                <a:ea typeface="Segoe UI"/>
              </a:rPr>
              <a:t>28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418E1E6F-C626-4A82-9B0F-E92F4672A668}" type="slidenum">
              <a:rPr b="0" lang="fr-FR" sz="11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1"/>
          <p:cNvGrpSpPr/>
          <p:nvPr/>
        </p:nvGrpSpPr>
        <p:grpSpPr>
          <a:xfrm>
            <a:off x="0" y="798480"/>
            <a:ext cx="9142560" cy="5904720"/>
            <a:chOff x="0" y="798480"/>
            <a:chExt cx="9142560" cy="5904720"/>
          </a:xfrm>
        </p:grpSpPr>
        <p:pic>
          <p:nvPicPr>
            <p:cNvPr id="309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798480"/>
              <a:ext cx="9142560" cy="59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3"/>
            <p:cNvSpPr/>
            <p:nvPr/>
          </p:nvSpPr>
          <p:spPr>
            <a:xfrm rot="10800000">
              <a:off x="0" y="1143360"/>
              <a:ext cx="9142560" cy="555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11" name="Group 4"/>
          <p:cNvGrpSpPr/>
          <p:nvPr/>
        </p:nvGrpSpPr>
        <p:grpSpPr>
          <a:xfrm>
            <a:off x="0" y="987480"/>
            <a:ext cx="9142560" cy="4831560"/>
            <a:chOff x="0" y="987480"/>
            <a:chExt cx="9142560" cy="4831560"/>
          </a:xfrm>
        </p:grpSpPr>
        <p:pic>
          <p:nvPicPr>
            <p:cNvPr id="312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987480"/>
              <a:ext cx="9142560" cy="483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6"/>
            <p:cNvSpPr/>
            <p:nvPr/>
          </p:nvSpPr>
          <p:spPr>
            <a:xfrm rot="10800000">
              <a:off x="0" y="1342080"/>
              <a:ext cx="9142560" cy="447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14" name="Group 7"/>
          <p:cNvGrpSpPr/>
          <p:nvPr/>
        </p:nvGrpSpPr>
        <p:grpSpPr>
          <a:xfrm>
            <a:off x="0" y="1176480"/>
            <a:ext cx="9142560" cy="3777840"/>
            <a:chOff x="0" y="1176480"/>
            <a:chExt cx="9142560" cy="3777840"/>
          </a:xfrm>
        </p:grpSpPr>
        <p:pic>
          <p:nvPicPr>
            <p:cNvPr id="315" name="Picture 8" descr=""/>
            <p:cNvPicPr/>
            <p:nvPr/>
          </p:nvPicPr>
          <p:blipFill>
            <a:blip r:embed="rId5"/>
            <a:stretch/>
          </p:blipFill>
          <p:spPr>
            <a:xfrm>
              <a:off x="0" y="1176480"/>
              <a:ext cx="9142560" cy="377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 Box 9"/>
            <p:cNvSpPr/>
            <p:nvPr/>
          </p:nvSpPr>
          <p:spPr>
            <a:xfrm rot="10800000">
              <a:off x="0" y="1521720"/>
              <a:ext cx="9142560" cy="34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ffffbc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5"/>
          </p:nvPr>
        </p:nvSpPr>
        <p:spPr>
          <a:xfrm>
            <a:off x="45684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397F2-B71D-4ECA-9F55-856C898B2E2D}" type="datetime">
              <a: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3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16"/>
          </p:nvPr>
        </p:nvSpPr>
        <p:spPr>
          <a:xfrm>
            <a:off x="8153280" y="6356160"/>
            <a:ext cx="5320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68A2DAC-A504-4F3B-849F-10F4D3980700}" type="slidenum">
              <a: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816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ffffbc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bc"/>
              </a:solidFill>
              <a:latin typeface="Corbe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217944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7"/>
          </p:nvPr>
        </p:nvSpPr>
        <p:spPr>
          <a:xfrm>
            <a:off x="456840" y="6356160"/>
            <a:ext cx="19796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AEEDB-CB27-4964-B3C8-327DEE503276}" type="datetime">
              <a:rPr b="0" lang="fr-FR" sz="1200" spc="-1" strike="noStrike">
                <a:solidFill>
                  <a:srgbClr val="adae99"/>
                </a:solidFill>
                <a:latin typeface="Times New Roman"/>
                <a:ea typeface="Segoe U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sldNum" idx="18"/>
          </p:nvPr>
        </p:nvSpPr>
        <p:spPr>
          <a:xfrm>
            <a:off x="8153280" y="6356160"/>
            <a:ext cx="5320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0DE0190-C060-4792-8CAB-7BD47D231A7E}" type="slidenum">
              <a:rPr b="0" lang="fr-FR" sz="1400" spc="-1" strike="noStrike">
                <a:solidFill>
                  <a:srgbClr val="adae99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hyperlink" Target="https://serveur:9999/" TargetMode="External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35.png"/><Relationship Id="rId5" Type="http://schemas.openxmlformats.org/officeDocument/2006/relationships/image" Target="../media/image9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37.png"/><Relationship Id="rId5" Type="http://schemas.openxmlformats.org/officeDocument/2006/relationships/image" Target="../media/image9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43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hyperlink" Target="http://webdaip.ac-lille.fr/daipetab" TargetMode="External"/><Relationship Id="rId5" Type="http://schemas.openxmlformats.org/officeDocument/2006/relationships/hyperlink" Target="http://webdaip.ac-lille.fr/daipetab" TargetMode="External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hyperlink" Target="http://www3.ac-lille.fr/crid-systeme/" TargetMode="External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Group 1"/>
          <p:cNvGrpSpPr/>
          <p:nvPr/>
        </p:nvGrpSpPr>
        <p:grpSpPr>
          <a:xfrm>
            <a:off x="396720" y="5224320"/>
            <a:ext cx="8496360" cy="1346400"/>
            <a:chOff x="396720" y="5224320"/>
            <a:chExt cx="8496360" cy="1346400"/>
          </a:xfrm>
        </p:grpSpPr>
        <p:pic>
          <p:nvPicPr>
            <p:cNvPr id="584" name="Picture 2" descr=""/>
            <p:cNvPicPr/>
            <p:nvPr/>
          </p:nvPicPr>
          <p:blipFill>
            <a:blip r:embed="rId1"/>
            <a:stretch/>
          </p:blipFill>
          <p:spPr>
            <a:xfrm>
              <a:off x="396720" y="5224320"/>
              <a:ext cx="849636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 Box 3"/>
            <p:cNvSpPr/>
            <p:nvPr/>
          </p:nvSpPr>
          <p:spPr>
            <a:xfrm>
              <a:off x="396720" y="5224320"/>
              <a:ext cx="8496360" cy="13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586" name="Group 4"/>
          <p:cNvGrpSpPr/>
          <p:nvPr/>
        </p:nvGrpSpPr>
        <p:grpSpPr>
          <a:xfrm>
            <a:off x="0" y="-23760"/>
            <a:ext cx="9142560" cy="3344760"/>
            <a:chOff x="0" y="-23760"/>
            <a:chExt cx="9142560" cy="3344760"/>
          </a:xfrm>
        </p:grpSpPr>
        <p:pic>
          <p:nvPicPr>
            <p:cNvPr id="587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-23760"/>
              <a:ext cx="9142560" cy="33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Text Box 6"/>
            <p:cNvSpPr/>
            <p:nvPr/>
          </p:nvSpPr>
          <p:spPr>
            <a:xfrm>
              <a:off x="0" y="-23760"/>
              <a:ext cx="9142560" cy="33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89" name="Text Box 7"/>
          <p:cNvSpPr/>
          <p:nvPr/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72A5D7-D38E-4C78-9E8A-D9A9FAE31B3D}" type="slidenum">
              <a:rPr b="0" lang="fr-FR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660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662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895D38-A4B9-4A69-AF3F-DE5A2C04AA10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5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8" descr=""/>
          <p:cNvPicPr/>
          <p:nvPr/>
        </p:nvPicPr>
        <p:blipFill>
          <a:blip r:embed="rId5"/>
          <a:stretch/>
        </p:blipFill>
        <p:spPr>
          <a:xfrm>
            <a:off x="7716960" y="860400"/>
            <a:ext cx="969840" cy="96984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9" descr=""/>
          <p:cNvPicPr/>
          <p:nvPr/>
        </p:nvPicPr>
        <p:blipFill>
          <a:blip r:embed="rId6"/>
          <a:stretch/>
        </p:blipFill>
        <p:spPr>
          <a:xfrm>
            <a:off x="1592280" y="2247840"/>
            <a:ext cx="6124680" cy="4172040"/>
          </a:xfrm>
          <a:prstGeom prst="rect">
            <a:avLst/>
          </a:prstGeom>
          <a:ln w="0">
            <a:noFill/>
          </a:ln>
        </p:spPr>
      </p:pic>
      <p:sp>
        <p:nvSpPr>
          <p:cNvPr id="668" name="Text Box 10"/>
          <p:cNvSpPr/>
          <p:nvPr/>
        </p:nvSpPr>
        <p:spPr>
          <a:xfrm>
            <a:off x="1908000" y="42372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Calibri"/>
                <a:ea typeface="Arial"/>
              </a:rPr>
              <a:t>eleves.csv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9" name="Rectangle à coins arrondis 1"/>
          <p:cNvSpPr/>
          <p:nvPr/>
        </p:nvSpPr>
        <p:spPr>
          <a:xfrm>
            <a:off x="1908000" y="4237200"/>
            <a:ext cx="1368720" cy="487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671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673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675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E69A5A-B755-49B4-89C2-94344DA65A2A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6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5"/>
          <a:stretch/>
        </p:blipFill>
        <p:spPr>
          <a:xfrm>
            <a:off x="7886880" y="828720"/>
            <a:ext cx="969840" cy="969840"/>
          </a:xfrm>
          <a:prstGeom prst="rect">
            <a:avLst/>
          </a:prstGeom>
          <a:ln w="0">
            <a:noFill/>
          </a:ln>
        </p:spPr>
      </p:pic>
      <p:sp>
        <p:nvSpPr>
          <p:cNvPr id="678" name="ZoneTexte 1"/>
          <p:cNvSpPr/>
          <p:nvPr/>
        </p:nvSpPr>
        <p:spPr>
          <a:xfrm>
            <a:off x="1155600" y="2637000"/>
            <a:ext cx="3457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hoisir le format de connexion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Menu Fichi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réer les comptes à partir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d’un fichier cs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e logiciel crée deux fichiers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omptesAajouter.tx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Troncatures.tx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Dans le répertoire d’installation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de SconetKwartz.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Fichiers à déplacer dans le dossier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istes des utilisateurs de Winadm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9" name="Picture 10" descr=""/>
          <p:cNvPicPr/>
          <p:nvPr/>
        </p:nvPicPr>
        <p:blipFill>
          <a:blip r:embed="rId6"/>
          <a:stretch/>
        </p:blipFill>
        <p:spPr>
          <a:xfrm>
            <a:off x="4835520" y="2625840"/>
            <a:ext cx="4156200" cy="34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681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683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DA6D59-72EB-4545-B2FC-A4124483F2CD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6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8" descr=""/>
          <p:cNvPicPr/>
          <p:nvPr/>
        </p:nvPicPr>
        <p:blipFill>
          <a:blip r:embed="rId5"/>
          <a:stretch/>
        </p:blipFill>
        <p:spPr>
          <a:xfrm>
            <a:off x="7380360" y="1536840"/>
            <a:ext cx="969840" cy="969840"/>
          </a:xfrm>
          <a:prstGeom prst="rect">
            <a:avLst/>
          </a:prstGeom>
          <a:ln w="0">
            <a:noFill/>
          </a:ln>
        </p:spPr>
      </p:pic>
      <p:sp>
        <p:nvSpPr>
          <p:cNvPr id="688" name="Text Box 9"/>
          <p:cNvSpPr/>
          <p:nvPr/>
        </p:nvSpPr>
        <p:spPr>
          <a:xfrm>
            <a:off x="1316520" y="2349360"/>
            <a:ext cx="652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’est dans l’interface de kwartz control qu’on va utiliser ces fichiers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9" name="Picture 10" descr=""/>
          <p:cNvPicPr/>
          <p:nvPr/>
        </p:nvPicPr>
        <p:blipFill>
          <a:blip r:embed="rId6"/>
          <a:stretch/>
        </p:blipFill>
        <p:spPr>
          <a:xfrm>
            <a:off x="1860480" y="3154320"/>
            <a:ext cx="5838840" cy="289548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11" descr=""/>
          <p:cNvPicPr/>
          <p:nvPr/>
        </p:nvPicPr>
        <p:blipFill>
          <a:blip r:embed="rId7"/>
          <a:stretch/>
        </p:blipFill>
        <p:spPr>
          <a:xfrm>
            <a:off x="1539720" y="2881440"/>
            <a:ext cx="2390760" cy="3168360"/>
          </a:xfrm>
          <a:prstGeom prst="rect">
            <a:avLst/>
          </a:prstGeom>
          <a:ln w="0">
            <a:noFill/>
          </a:ln>
        </p:spPr>
      </p:pic>
      <p:sp>
        <p:nvSpPr>
          <p:cNvPr id="691" name="Rectangle à coins arrondis 1"/>
          <p:cNvSpPr/>
          <p:nvPr/>
        </p:nvSpPr>
        <p:spPr>
          <a:xfrm>
            <a:off x="2050920" y="4869000"/>
            <a:ext cx="1368720" cy="28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693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695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697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7BD74C-4974-4431-BADA-71616B755E33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8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8" descr=""/>
          <p:cNvPicPr/>
          <p:nvPr/>
        </p:nvPicPr>
        <p:blipFill>
          <a:blip r:embed="rId5"/>
          <a:stretch/>
        </p:blipFill>
        <p:spPr>
          <a:xfrm>
            <a:off x="7380360" y="1536840"/>
            <a:ext cx="969840" cy="969840"/>
          </a:xfrm>
          <a:prstGeom prst="rect">
            <a:avLst/>
          </a:prstGeom>
          <a:ln w="0">
            <a:noFill/>
          </a:ln>
        </p:spPr>
      </p:pic>
      <p:sp>
        <p:nvSpPr>
          <p:cNvPr id="700" name="ZoneTexte 2"/>
          <p:cNvSpPr/>
          <p:nvPr/>
        </p:nvSpPr>
        <p:spPr>
          <a:xfrm>
            <a:off x="1647000" y="2852640"/>
            <a:ext cx="603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Ajouter les utilisateurs,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ompléter l’écran de création des groupes, liste de diffusion, …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Attendre la création des groupes et des utilisateur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1" descr=""/>
          <p:cNvPicPr/>
          <p:nvPr/>
        </p:nvPicPr>
        <p:blipFill>
          <a:blip r:embed="rId1"/>
          <a:stretch/>
        </p:blipFill>
        <p:spPr>
          <a:xfrm>
            <a:off x="7380360" y="1536840"/>
            <a:ext cx="969840" cy="969840"/>
          </a:xfrm>
          <a:prstGeom prst="rect">
            <a:avLst/>
          </a:prstGeom>
          <a:ln w="0">
            <a:noFill/>
          </a:ln>
        </p:spPr>
      </p:pic>
      <p:grpSp>
        <p:nvGrpSpPr>
          <p:cNvPr id="702" name="Group 2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703" name="Picture 3" descr=""/>
            <p:cNvPicPr/>
            <p:nvPr/>
          </p:nvPicPr>
          <p:blipFill>
            <a:blip r:embed="rId2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Text Box 4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05" name="Picture 5" descr=""/>
          <p:cNvPicPr/>
          <p:nvPr/>
        </p:nvPicPr>
        <p:blipFill>
          <a:blip r:embed="rId3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6" descr=""/>
          <p:cNvPicPr/>
          <p:nvPr/>
        </p:nvPicPr>
        <p:blipFill>
          <a:blip r:embed="rId4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7" descr=""/>
          <p:cNvPicPr/>
          <p:nvPr/>
        </p:nvPicPr>
        <p:blipFill>
          <a:blip r:embed="rId5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8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82845F-A064-4157-9F35-8F6BBAEBB2AD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9" name="Text Box 9"/>
          <p:cNvSpPr/>
          <p:nvPr/>
        </p:nvSpPr>
        <p:spPr>
          <a:xfrm>
            <a:off x="1348560" y="3573360"/>
            <a:ext cx="6918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Tous les fichiers que SconetKwartz devra traiter devront être mis dans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son répertoire d’installation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e logiciel nécessite d’avoir les fichiers suivants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e fichier export (sans extension) pour une mise à jou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e fichier d’exportation des élèves de l’année N+1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(à récupérer à l’administration site Siècle base en cours …et à renomm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en eleves.csv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ancer SconetKwartz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0" name="ZoneTexte 1"/>
          <p:cNvSpPr/>
          <p:nvPr/>
        </p:nvSpPr>
        <p:spPr>
          <a:xfrm>
            <a:off x="1350720" y="2506680"/>
            <a:ext cx="629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A l’année N+1, FAIRE LA SAUVEGARDE COMPLETE DU SERVEU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Dans Kwartz-Control, Menu Utilisateurs, Générer le fichier export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(par défaut, il se trouve dans Listes des utilisateurs de Winadm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712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14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B27BF3-FF5E-4B46-916E-CB463A849591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7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8" descr=""/>
          <p:cNvPicPr/>
          <p:nvPr/>
        </p:nvPicPr>
        <p:blipFill>
          <a:blip r:embed="rId5"/>
          <a:stretch/>
        </p:blipFill>
        <p:spPr>
          <a:xfrm>
            <a:off x="7380360" y="1536840"/>
            <a:ext cx="969840" cy="96984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9" descr=""/>
          <p:cNvPicPr/>
          <p:nvPr/>
        </p:nvPicPr>
        <p:blipFill>
          <a:blip r:embed="rId6"/>
          <a:stretch/>
        </p:blipFill>
        <p:spPr>
          <a:xfrm>
            <a:off x="992160" y="2637000"/>
            <a:ext cx="7601040" cy="219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721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23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725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861B2A-DDC6-402C-BD11-160149C754BB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6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8" descr=""/>
          <p:cNvPicPr/>
          <p:nvPr/>
        </p:nvPicPr>
        <p:blipFill>
          <a:blip r:embed="rId5"/>
          <a:stretch/>
        </p:blipFill>
        <p:spPr>
          <a:xfrm>
            <a:off x="7380360" y="1536840"/>
            <a:ext cx="969840" cy="96984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9" descr=""/>
          <p:cNvPicPr/>
          <p:nvPr/>
        </p:nvPicPr>
        <p:blipFill>
          <a:blip r:embed="rId6"/>
          <a:stretch/>
        </p:blipFill>
        <p:spPr>
          <a:xfrm>
            <a:off x="1440000" y="2255760"/>
            <a:ext cx="6124320" cy="4172040"/>
          </a:xfrm>
          <a:prstGeom prst="rect">
            <a:avLst/>
          </a:prstGeom>
          <a:ln w="0">
            <a:noFill/>
          </a:ln>
        </p:spPr>
      </p:pic>
      <p:sp>
        <p:nvSpPr>
          <p:cNvPr id="729" name="Text Box 10"/>
          <p:cNvSpPr/>
          <p:nvPr/>
        </p:nvSpPr>
        <p:spPr>
          <a:xfrm>
            <a:off x="1692360" y="422424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eleves.csv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731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33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4D20D9-CC19-4142-AF3F-4428D08C50C8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6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8" descr=""/>
          <p:cNvPicPr/>
          <p:nvPr/>
        </p:nvPicPr>
        <p:blipFill>
          <a:blip r:embed="rId5"/>
          <a:stretch/>
        </p:blipFill>
        <p:spPr>
          <a:xfrm>
            <a:off x="7380360" y="1536840"/>
            <a:ext cx="969840" cy="969840"/>
          </a:xfrm>
          <a:prstGeom prst="rect">
            <a:avLst/>
          </a:prstGeom>
          <a:ln w="0">
            <a:noFill/>
          </a:ln>
        </p:spPr>
      </p:pic>
      <p:sp>
        <p:nvSpPr>
          <p:cNvPr id="738" name="Rectangle 9"/>
          <p:cNvSpPr/>
          <p:nvPr/>
        </p:nvSpPr>
        <p:spPr>
          <a:xfrm>
            <a:off x="816120" y="234936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On doit voir le fichier eleves.csv apparaît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hoisir dans le menu Fichiers la bonne op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Quand on choisit Mise à jour des comptes  à partir d’un fichier csv, il faut indiquer l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hemin du fichier export.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e logiciel va créer des fichiers au format txt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omptes Aajouter.tx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omptes Amodifier.tx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omptesAsupprimer.tx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Troncatures.tx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Doublons.tx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fr-FR" sz="1600" spc="-1" strike="noStrike">
                <a:solidFill>
                  <a:srgbClr val="ff0000"/>
                </a:solidFill>
                <a:latin typeface="Calibri"/>
                <a:ea typeface="Arial"/>
              </a:rPr>
              <a:t>(Fichiers à recopier dans Listes des Utilisateurs</a:t>
            </a:r>
            <a:r>
              <a:rPr b="0" lang="fr-FR" sz="1800" spc="-1" strike="noStrike">
                <a:solidFill>
                  <a:srgbClr val="ff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A la question sur le groupe Profs, choisir N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9" name="Picture 10" descr=""/>
          <p:cNvPicPr/>
          <p:nvPr/>
        </p:nvPicPr>
        <p:blipFill>
          <a:blip r:embed="rId6"/>
          <a:stretch/>
        </p:blipFill>
        <p:spPr>
          <a:xfrm>
            <a:off x="5184720" y="2708280"/>
            <a:ext cx="4392720" cy="361620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10" descr=""/>
          <p:cNvPicPr/>
          <p:nvPr/>
        </p:nvPicPr>
        <p:blipFill>
          <a:blip r:embed="rId7"/>
          <a:stretch/>
        </p:blipFill>
        <p:spPr>
          <a:xfrm>
            <a:off x="5337000" y="2860560"/>
            <a:ext cx="4392720" cy="361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742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44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53E7D1-0666-41E5-9243-4A155CDBBBE1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7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8" descr=""/>
          <p:cNvPicPr/>
          <p:nvPr/>
        </p:nvPicPr>
        <p:blipFill>
          <a:blip r:embed="rId5"/>
          <a:stretch/>
        </p:blipFill>
        <p:spPr>
          <a:xfrm>
            <a:off x="7380360" y="1536840"/>
            <a:ext cx="969840" cy="969840"/>
          </a:xfrm>
          <a:prstGeom prst="rect">
            <a:avLst/>
          </a:prstGeom>
          <a:ln w="0">
            <a:noFill/>
          </a:ln>
        </p:spPr>
      </p:pic>
      <p:sp>
        <p:nvSpPr>
          <p:cNvPr id="749" name="Text Box 9"/>
          <p:cNvSpPr/>
          <p:nvPr/>
        </p:nvSpPr>
        <p:spPr>
          <a:xfrm>
            <a:off x="1303200" y="2349360"/>
            <a:ext cx="715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Il faut d’abord </a:t>
            </a:r>
            <a:r>
              <a:rPr b="0" lang="fr-FR" sz="1800" spc="-1" strike="noStrike">
                <a:solidFill>
                  <a:srgbClr val="ffff00"/>
                </a:solidFill>
                <a:latin typeface="Calibri"/>
                <a:ea typeface="Arial"/>
              </a:rPr>
              <a:t>les copier dans le dossier Listes des utilisateurs de winadm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C’est dans l’interface de kwartz control qu’on va utiliser ces fichiers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0" name="Picture 10" descr=""/>
          <p:cNvPicPr/>
          <p:nvPr/>
        </p:nvPicPr>
        <p:blipFill>
          <a:blip r:embed="rId6"/>
          <a:stretch/>
        </p:blipFill>
        <p:spPr>
          <a:xfrm>
            <a:off x="1860480" y="3154320"/>
            <a:ext cx="5838840" cy="289548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11" descr=""/>
          <p:cNvPicPr/>
          <p:nvPr/>
        </p:nvPicPr>
        <p:blipFill>
          <a:blip r:embed="rId7"/>
          <a:stretch/>
        </p:blipFill>
        <p:spPr>
          <a:xfrm>
            <a:off x="2462040" y="3017880"/>
            <a:ext cx="239112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753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55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757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8DCF64-10FB-426D-A9C5-2534B388D4F4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8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8" descr=""/>
          <p:cNvPicPr/>
          <p:nvPr/>
        </p:nvPicPr>
        <p:blipFill>
          <a:blip r:embed="rId5"/>
          <a:stretch/>
        </p:blipFill>
        <p:spPr>
          <a:xfrm>
            <a:off x="7380360" y="1536840"/>
            <a:ext cx="969840" cy="96984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9" descr=""/>
          <p:cNvPicPr/>
          <p:nvPr/>
        </p:nvPicPr>
        <p:blipFill>
          <a:blip r:embed="rId6"/>
          <a:stretch/>
        </p:blipFill>
        <p:spPr>
          <a:xfrm>
            <a:off x="1736640" y="2924280"/>
            <a:ext cx="60962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591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593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6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7"/>
          <p:cNvSpPr/>
          <p:nvPr/>
        </p:nvSpPr>
        <p:spPr>
          <a:xfrm>
            <a:off x="833400" y="3081240"/>
            <a:ext cx="83106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4000" spc="-1" strike="noStrike" u="sng">
                <a:solidFill>
                  <a:srgbClr val="ccccff"/>
                </a:solidFill>
                <a:uFillTx/>
                <a:latin typeface="Trebuchet MS"/>
                <a:ea typeface="Arial"/>
                <a:hlinkClick r:id="rId5"/>
              </a:rPr>
              <a:t>https://serveur:9999 </a:t>
            </a:r>
            <a:r>
              <a:rPr b="0" lang="fr-FR" sz="4000" spc="-1" strike="noStrike">
                <a:solidFill>
                  <a:srgbClr val="ffffff"/>
                </a:solidFill>
                <a:latin typeface="Trebuchet MS"/>
                <a:ea typeface="Arial"/>
              </a:rPr>
              <a:t>ou</a:t>
            </a:r>
            <a:r>
              <a:rPr b="0" lang="fr-FR" sz="4000" spc="-1" strike="noStrike">
                <a:solidFill>
                  <a:srgbClr val="0000ff"/>
                </a:solidFill>
                <a:latin typeface="Trebuchet MS"/>
                <a:ea typeface="Arial"/>
              </a:rPr>
              <a:t> </a:t>
            </a:r>
            <a:r>
              <a:rPr b="0" lang="fr-FR" sz="4000" spc="-1" strike="noStrike">
                <a:solidFill>
                  <a:srgbClr val="ffff00"/>
                </a:solidFill>
                <a:latin typeface="Trebuchet MS"/>
                <a:ea typeface="Arial"/>
              </a:rPr>
              <a:t>https://adresse_ip_serveur:9999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7" name="Text Box 8"/>
          <p:cNvSpPr/>
          <p:nvPr/>
        </p:nvSpPr>
        <p:spPr>
          <a:xfrm>
            <a:off x="2340000" y="4437000"/>
            <a:ext cx="633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rebuchet MS"/>
                <a:ea typeface="Arial"/>
              </a:rPr>
              <a:t>Version de kwartz 5.x.rx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rebuchet MS"/>
                <a:ea typeface="Arial"/>
              </a:rPr>
              <a:t>Login : kwartz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rebuchet MS"/>
                <a:ea typeface="Arial"/>
              </a:rPr>
              <a:t>Mdp : form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8" name="Picture 9" descr=""/>
          <p:cNvPicPr/>
          <p:nvPr/>
        </p:nvPicPr>
        <p:blipFill>
          <a:blip r:embed="rId6"/>
          <a:stretch/>
        </p:blipFill>
        <p:spPr>
          <a:xfrm>
            <a:off x="6110280" y="2230560"/>
            <a:ext cx="969840" cy="96984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10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D04AA2-6529-4DED-85E4-E0547ED6478D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762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64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766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FD19FA-5C14-48DE-AC1E-60171C3677F6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7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8" descr=""/>
          <p:cNvPicPr/>
          <p:nvPr/>
        </p:nvPicPr>
        <p:blipFill>
          <a:blip r:embed="rId5"/>
          <a:stretch/>
        </p:blipFill>
        <p:spPr>
          <a:xfrm>
            <a:off x="7380360" y="1536840"/>
            <a:ext cx="969840" cy="96984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9" descr=""/>
          <p:cNvPicPr/>
          <p:nvPr/>
        </p:nvPicPr>
        <p:blipFill>
          <a:blip r:embed="rId6"/>
          <a:stretch/>
        </p:blipFill>
        <p:spPr>
          <a:xfrm>
            <a:off x="1692360" y="2852640"/>
            <a:ext cx="6324480" cy="27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1" descr=""/>
          <p:cNvPicPr/>
          <p:nvPr/>
        </p:nvPicPr>
        <p:blipFill>
          <a:blip r:embed="rId1"/>
          <a:stretch/>
        </p:blipFill>
        <p:spPr>
          <a:xfrm>
            <a:off x="6642000" y="1536840"/>
            <a:ext cx="970200" cy="969840"/>
          </a:xfrm>
          <a:prstGeom prst="rect">
            <a:avLst/>
          </a:prstGeom>
          <a:ln w="0">
            <a:noFill/>
          </a:ln>
        </p:spPr>
      </p:pic>
      <p:grpSp>
        <p:nvGrpSpPr>
          <p:cNvPr id="771" name="Group 2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772" name="Picture 3" descr=""/>
            <p:cNvPicPr/>
            <p:nvPr/>
          </p:nvPicPr>
          <p:blipFill>
            <a:blip r:embed="rId2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Text Box 4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74" name="Picture 5" descr=""/>
          <p:cNvPicPr/>
          <p:nvPr/>
        </p:nvPicPr>
        <p:blipFill>
          <a:blip r:embed="rId3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6" descr=""/>
          <p:cNvPicPr/>
          <p:nvPr/>
        </p:nvPicPr>
        <p:blipFill>
          <a:blip r:embed="rId4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7" descr=""/>
          <p:cNvPicPr/>
          <p:nvPr/>
        </p:nvPicPr>
        <p:blipFill>
          <a:blip r:embed="rId5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sp>
        <p:nvSpPr>
          <p:cNvPr id="777" name="Text Box 8"/>
          <p:cNvSpPr/>
          <p:nvPr/>
        </p:nvSpPr>
        <p:spPr>
          <a:xfrm>
            <a:off x="825480" y="2529000"/>
            <a:ext cx="55846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fr-FR" sz="1200" spc="-1" strike="noStrike">
                <a:solidFill>
                  <a:srgbClr val="ffff00"/>
                </a:solidFill>
                <a:latin typeface="Calibri"/>
                <a:ea typeface="Arial"/>
              </a:rPr>
              <a:t>Transfert des fichiers dans « listes  utilisateurs » du compte Winadmi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8" name="Text Box 9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0D7637-3A95-4181-AF9B-19AC7E458FBC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Text Box 12"/>
          <p:cNvSpPr/>
          <p:nvPr/>
        </p:nvSpPr>
        <p:spPr>
          <a:xfrm>
            <a:off x="1212120" y="3257640"/>
            <a:ext cx="88326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Fichier élèves XM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Outil Base élève établissement sur le site académique, cliquez sur Mise à jour,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sélectionnez l'année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Puis allez dans Exportations, En XML, et sélectionnez Elèves sans adress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Vous obtiendrez alors le fichier ExportXML_ElevesSansAdresses.zip </a:t>
            </a:r>
            <a:br>
              <a:rPr sz="1400"/>
            </a:b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contenant le fichier ElevesSansAdress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Fichier personnel XM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Pour obtenir ce fichier, allez dans l'outil Gestion des structures et des services (STSWeb) sur le site académique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cliquez sur Mise à jour,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sélectionnez l'année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puis allez dans Exports, Services, et Exporter les services à destination d'un éditeur privé de logiciel de gestion des not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Vous obtiendrez alors le fichier services_RNE_AAAA.xm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Picture 1" descr=""/>
          <p:cNvPicPr/>
          <p:nvPr/>
        </p:nvPicPr>
        <p:blipFill>
          <a:blip r:embed="rId1"/>
          <a:stretch/>
        </p:blipFill>
        <p:spPr>
          <a:xfrm>
            <a:off x="8244000" y="820800"/>
            <a:ext cx="485640" cy="48420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2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3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783" name="Text Box 4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BB75AD-6029-476E-B8E1-5537901C124B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4" name="Picture 5" descr=""/>
          <p:cNvPicPr/>
          <p:nvPr/>
        </p:nvPicPr>
        <p:blipFill>
          <a:blip r:embed="rId4"/>
          <a:stretch/>
        </p:blipFill>
        <p:spPr>
          <a:xfrm>
            <a:off x="969840" y="2060640"/>
            <a:ext cx="7083720" cy="2614680"/>
          </a:xfrm>
          <a:prstGeom prst="rect">
            <a:avLst/>
          </a:prstGeom>
          <a:ln w="0">
            <a:noFill/>
          </a:ln>
        </p:spPr>
      </p:pic>
      <p:grpSp>
        <p:nvGrpSpPr>
          <p:cNvPr id="785" name="Group 6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786" name="Picture 7" descr=""/>
            <p:cNvPicPr/>
            <p:nvPr/>
          </p:nvPicPr>
          <p:blipFill>
            <a:blip r:embed="rId5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Text Box 8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88" name="Picture 9" descr=""/>
          <p:cNvPicPr/>
          <p:nvPr/>
        </p:nvPicPr>
        <p:blipFill>
          <a:blip r:embed="rId6"/>
          <a:stretch/>
        </p:blipFill>
        <p:spPr>
          <a:xfrm>
            <a:off x="4221000" y="4724280"/>
            <a:ext cx="990720" cy="9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9" name="Picture 1" descr=""/>
          <p:cNvPicPr/>
          <p:nvPr/>
        </p:nvPicPr>
        <p:blipFill>
          <a:blip r:embed="rId1"/>
          <a:stretch/>
        </p:blipFill>
        <p:spPr>
          <a:xfrm>
            <a:off x="8244000" y="820800"/>
            <a:ext cx="485640" cy="48420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2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3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792" name="Text Box 4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2D7C24-0536-4A4A-ADA8-3D91432BB77E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3" name="Picture 5" descr=""/>
          <p:cNvPicPr/>
          <p:nvPr/>
        </p:nvPicPr>
        <p:blipFill>
          <a:blip r:embed="rId4"/>
          <a:stretch/>
        </p:blipFill>
        <p:spPr>
          <a:xfrm>
            <a:off x="878040" y="1560600"/>
            <a:ext cx="2614320" cy="1609560"/>
          </a:xfrm>
          <a:prstGeom prst="rect">
            <a:avLst/>
          </a:prstGeom>
          <a:ln w="0">
            <a:noFill/>
          </a:ln>
        </p:spPr>
      </p:pic>
      <p:grpSp>
        <p:nvGrpSpPr>
          <p:cNvPr id="794" name="Group 6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795" name="Picture 7" descr=""/>
            <p:cNvPicPr/>
            <p:nvPr/>
          </p:nvPicPr>
          <p:blipFill>
            <a:blip r:embed="rId5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Text Box 8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797" name="Picture 9" descr=""/>
          <p:cNvPicPr/>
          <p:nvPr/>
        </p:nvPicPr>
        <p:blipFill>
          <a:blip r:embed="rId6"/>
          <a:stretch/>
        </p:blipFill>
        <p:spPr>
          <a:xfrm>
            <a:off x="3367080" y="1700280"/>
            <a:ext cx="5776920" cy="45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799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4"/>
          <a:stretch/>
        </p:blipFill>
        <p:spPr>
          <a:xfrm>
            <a:off x="865080" y="1554120"/>
            <a:ext cx="8053560" cy="639720"/>
          </a:xfrm>
          <a:prstGeom prst="rect">
            <a:avLst/>
          </a:prstGeom>
          <a:ln w="0">
            <a:noFill/>
          </a:ln>
        </p:spPr>
      </p:pic>
      <p:sp>
        <p:nvSpPr>
          <p:cNvPr id="804" name="Text Box 7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9A5F89-267F-4E1A-BB34-DD38FAE02F65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Text Box 8"/>
          <p:cNvSpPr/>
          <p:nvPr/>
        </p:nvSpPr>
        <p:spPr>
          <a:xfrm>
            <a:off x="825480" y="2003400"/>
            <a:ext cx="8209080" cy="40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Mise à jour à distance sur le serveur KWARTZ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A faire régulièrement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6" name="Picture 9" descr=""/>
          <p:cNvPicPr/>
          <p:nvPr/>
        </p:nvPicPr>
        <p:blipFill>
          <a:blip r:embed="rId5"/>
          <a:stretch/>
        </p:blipFill>
        <p:spPr>
          <a:xfrm>
            <a:off x="1581120" y="2987640"/>
            <a:ext cx="5838840" cy="20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7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808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810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812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8C9A9E-06C5-47E7-9475-583A706A43C6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3" name="Text Box 7"/>
          <p:cNvSpPr/>
          <p:nvPr/>
        </p:nvSpPr>
        <p:spPr>
          <a:xfrm>
            <a:off x="166680" y="3137040"/>
            <a:ext cx="5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V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4" name="Picture 8" descr=""/>
          <p:cNvPicPr/>
          <p:nvPr/>
        </p:nvPicPr>
        <p:blipFill>
          <a:blip r:embed="rId4"/>
          <a:stretch/>
        </p:blipFill>
        <p:spPr>
          <a:xfrm>
            <a:off x="2556000" y="2003400"/>
            <a:ext cx="5397480" cy="428616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9" descr=""/>
          <p:cNvPicPr/>
          <p:nvPr/>
        </p:nvPicPr>
        <p:blipFill>
          <a:blip r:embed="rId5"/>
          <a:stretch/>
        </p:blipFill>
        <p:spPr>
          <a:xfrm>
            <a:off x="865080" y="1554120"/>
            <a:ext cx="8053560" cy="6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817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819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821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B86B30-3EBD-4C1D-BBF6-EDC6355903B0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2" name="Picture 7" descr=""/>
          <p:cNvPicPr/>
          <p:nvPr/>
        </p:nvPicPr>
        <p:blipFill>
          <a:blip r:embed="rId4"/>
          <a:stretch/>
        </p:blipFill>
        <p:spPr>
          <a:xfrm>
            <a:off x="2554200" y="2835360"/>
            <a:ext cx="4322880" cy="183996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8" descr=""/>
          <p:cNvPicPr/>
          <p:nvPr/>
        </p:nvPicPr>
        <p:blipFill>
          <a:blip r:embed="rId5"/>
          <a:stretch/>
        </p:blipFill>
        <p:spPr>
          <a:xfrm>
            <a:off x="4221000" y="4724280"/>
            <a:ext cx="990720" cy="9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825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6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827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6" descr=""/>
          <p:cNvPicPr/>
          <p:nvPr/>
        </p:nvPicPr>
        <p:blipFill>
          <a:blip r:embed="rId4"/>
          <a:stretch/>
        </p:blipFill>
        <p:spPr>
          <a:xfrm>
            <a:off x="865080" y="1444680"/>
            <a:ext cx="8053560" cy="9874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7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4C7D08-5A69-4BAE-A591-EFC5CF97CEC5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1" name="Text Box 8"/>
          <p:cNvSpPr/>
          <p:nvPr/>
        </p:nvSpPr>
        <p:spPr>
          <a:xfrm>
            <a:off x="122400" y="3576600"/>
            <a:ext cx="5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V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2" name="Picture 9" descr=""/>
          <p:cNvPicPr/>
          <p:nvPr/>
        </p:nvPicPr>
        <p:blipFill>
          <a:blip r:embed="rId5"/>
          <a:stretch/>
        </p:blipFill>
        <p:spPr>
          <a:xfrm>
            <a:off x="3276720" y="2060640"/>
            <a:ext cx="3860640" cy="42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834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836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6" descr=""/>
          <p:cNvPicPr/>
          <p:nvPr/>
        </p:nvPicPr>
        <p:blipFill>
          <a:blip r:embed="rId4"/>
          <a:stretch/>
        </p:blipFill>
        <p:spPr>
          <a:xfrm>
            <a:off x="865080" y="1444680"/>
            <a:ext cx="8053560" cy="98748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7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661575-915F-4576-9EA8-EDC77162A37E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0" name="Picture 8" descr=""/>
          <p:cNvPicPr/>
          <p:nvPr/>
        </p:nvPicPr>
        <p:blipFill>
          <a:blip r:embed="rId5"/>
          <a:stretch/>
        </p:blipFill>
        <p:spPr>
          <a:xfrm>
            <a:off x="1763640" y="2421000"/>
            <a:ext cx="6578640" cy="21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842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844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6" descr=""/>
          <p:cNvPicPr/>
          <p:nvPr/>
        </p:nvPicPr>
        <p:blipFill>
          <a:blip r:embed="rId4"/>
          <a:stretch/>
        </p:blipFill>
        <p:spPr>
          <a:xfrm>
            <a:off x="865080" y="1444680"/>
            <a:ext cx="8053560" cy="987480"/>
          </a:xfrm>
          <a:prstGeom prst="rect">
            <a:avLst/>
          </a:prstGeom>
          <a:ln w="0">
            <a:noFill/>
          </a:ln>
        </p:spPr>
      </p:pic>
      <p:sp>
        <p:nvSpPr>
          <p:cNvPr id="847" name="Text Box 7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82BC37-8FFB-4B10-8657-5B37899F1313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Text Box 8"/>
          <p:cNvSpPr/>
          <p:nvPr/>
        </p:nvSpPr>
        <p:spPr>
          <a:xfrm>
            <a:off x="122400" y="3576600"/>
            <a:ext cx="5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V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9" name="Picture 9" descr=""/>
          <p:cNvPicPr/>
          <p:nvPr/>
        </p:nvPicPr>
        <p:blipFill>
          <a:blip r:embed="rId5"/>
          <a:stretch/>
        </p:blipFill>
        <p:spPr>
          <a:xfrm>
            <a:off x="2909880" y="2165400"/>
            <a:ext cx="5694480" cy="40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1" descr=""/>
          <p:cNvPicPr/>
          <p:nvPr/>
        </p:nvPicPr>
        <p:blipFill>
          <a:blip r:embed="rId1"/>
          <a:stretch/>
        </p:blipFill>
        <p:spPr>
          <a:xfrm>
            <a:off x="5940360" y="2022480"/>
            <a:ext cx="970200" cy="969840"/>
          </a:xfrm>
          <a:prstGeom prst="rect">
            <a:avLst/>
          </a:prstGeom>
          <a:ln w="0">
            <a:noFill/>
          </a:ln>
        </p:spPr>
      </p:pic>
      <p:grpSp>
        <p:nvGrpSpPr>
          <p:cNvPr id="601" name="Group 2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602" name="Picture 3" descr=""/>
            <p:cNvPicPr/>
            <p:nvPr/>
          </p:nvPicPr>
          <p:blipFill>
            <a:blip r:embed="rId2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Text Box 4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604" name="Picture 5" descr=""/>
          <p:cNvPicPr/>
          <p:nvPr/>
        </p:nvPicPr>
        <p:blipFill>
          <a:blip r:embed="rId3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6" descr=""/>
          <p:cNvPicPr/>
          <p:nvPr/>
        </p:nvPicPr>
        <p:blipFill>
          <a:blip r:embed="rId4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7" descr=""/>
          <p:cNvPicPr/>
          <p:nvPr/>
        </p:nvPicPr>
        <p:blipFill>
          <a:blip r:embed="rId5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8" descr=""/>
          <p:cNvPicPr/>
          <p:nvPr/>
        </p:nvPicPr>
        <p:blipFill>
          <a:blip r:embed="rId6"/>
          <a:stretch/>
        </p:blipFill>
        <p:spPr>
          <a:xfrm>
            <a:off x="1090440" y="2871720"/>
            <a:ext cx="7804440" cy="117648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9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58C604-9734-4125-8B7B-BFF48BB707D0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9" name="Picture 10" descr=""/>
          <p:cNvPicPr/>
          <p:nvPr/>
        </p:nvPicPr>
        <p:blipFill>
          <a:blip r:embed="rId7"/>
          <a:stretch/>
        </p:blipFill>
        <p:spPr>
          <a:xfrm>
            <a:off x="3780000" y="3776760"/>
            <a:ext cx="971280" cy="9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0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851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853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6" descr=""/>
          <p:cNvPicPr/>
          <p:nvPr/>
        </p:nvPicPr>
        <p:blipFill>
          <a:blip r:embed="rId4"/>
          <a:stretch/>
        </p:blipFill>
        <p:spPr>
          <a:xfrm>
            <a:off x="865080" y="1444680"/>
            <a:ext cx="8053560" cy="639720"/>
          </a:xfrm>
          <a:prstGeom prst="rect">
            <a:avLst/>
          </a:prstGeom>
          <a:ln w="0">
            <a:noFill/>
          </a:ln>
        </p:spPr>
      </p:pic>
      <p:sp>
        <p:nvSpPr>
          <p:cNvPr id="856" name="Text Box 7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90777A-2D38-4A00-A43D-07A7A6B3193F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7" name="Picture 8" descr=""/>
          <p:cNvPicPr/>
          <p:nvPr/>
        </p:nvPicPr>
        <p:blipFill>
          <a:blip r:embed="rId5"/>
          <a:stretch/>
        </p:blipFill>
        <p:spPr>
          <a:xfrm>
            <a:off x="1187280" y="1873080"/>
            <a:ext cx="3063960" cy="157824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9" descr=""/>
          <p:cNvPicPr/>
          <p:nvPr/>
        </p:nvPicPr>
        <p:blipFill>
          <a:blip r:embed="rId6"/>
          <a:stretch/>
        </p:blipFill>
        <p:spPr>
          <a:xfrm>
            <a:off x="1393920" y="3510000"/>
            <a:ext cx="7524720" cy="27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860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862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863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864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F88FA0-52CA-4922-A53A-FF83C5D9F0FF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5" name="Picture 7" descr=""/>
          <p:cNvPicPr/>
          <p:nvPr/>
        </p:nvPicPr>
        <p:blipFill>
          <a:blip r:embed="rId4"/>
          <a:stretch/>
        </p:blipFill>
        <p:spPr>
          <a:xfrm>
            <a:off x="2554200" y="2835360"/>
            <a:ext cx="4322880" cy="18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6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867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869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6" descr=""/>
          <p:cNvPicPr/>
          <p:nvPr/>
        </p:nvPicPr>
        <p:blipFill>
          <a:blip r:embed="rId4"/>
          <a:stretch/>
        </p:blipFill>
        <p:spPr>
          <a:xfrm>
            <a:off x="865080" y="1554120"/>
            <a:ext cx="8053560" cy="639720"/>
          </a:xfrm>
          <a:prstGeom prst="rect">
            <a:avLst/>
          </a:prstGeom>
          <a:ln w="0">
            <a:noFill/>
          </a:ln>
        </p:spPr>
      </p:pic>
      <p:sp>
        <p:nvSpPr>
          <p:cNvPr id="872" name="Text Box 7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4C16A8-8D56-4CE9-BCB1-D8E3230124DE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874800" y="1916280"/>
            <a:ext cx="15364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Le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rappor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22400" y="3576600"/>
            <a:ext cx="5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V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5" name="Picture 10" descr=""/>
          <p:cNvPicPr/>
          <p:nvPr/>
        </p:nvPicPr>
        <p:blipFill>
          <a:blip r:embed="rId5"/>
          <a:stretch/>
        </p:blipFill>
        <p:spPr>
          <a:xfrm>
            <a:off x="2700360" y="2003400"/>
            <a:ext cx="6161040" cy="41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1"/>
          <p:cNvGrpSpPr/>
          <p:nvPr/>
        </p:nvGrpSpPr>
        <p:grpSpPr>
          <a:xfrm>
            <a:off x="176040" y="-6480"/>
            <a:ext cx="8790120" cy="1382760"/>
            <a:chOff x="176040" y="-6480"/>
            <a:chExt cx="8790120" cy="1382760"/>
          </a:xfrm>
        </p:grpSpPr>
        <p:pic>
          <p:nvPicPr>
            <p:cNvPr id="877" name="Picture 2" descr=""/>
            <p:cNvPicPr/>
            <p:nvPr/>
          </p:nvPicPr>
          <p:blipFill>
            <a:blip r:embed="rId1"/>
            <a:stretch/>
          </p:blipFill>
          <p:spPr>
            <a:xfrm>
              <a:off x="176040" y="-6480"/>
              <a:ext cx="8790120" cy="13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8" name="Text Box 3"/>
            <p:cNvSpPr/>
            <p:nvPr/>
          </p:nvSpPr>
          <p:spPr>
            <a:xfrm>
              <a:off x="176040" y="-6480"/>
              <a:ext cx="8790120" cy="13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879" name="Picture 4" descr=""/>
          <p:cNvPicPr/>
          <p:nvPr/>
        </p:nvPicPr>
        <p:blipFill>
          <a:blip r:embed="rId2"/>
          <a:stretch/>
        </p:blipFill>
        <p:spPr>
          <a:xfrm>
            <a:off x="901800" y="6345360"/>
            <a:ext cx="8205840" cy="68400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5" descr=""/>
          <p:cNvPicPr/>
          <p:nvPr/>
        </p:nvPicPr>
        <p:blipFill>
          <a:blip r:embed="rId3"/>
          <a:stretch/>
        </p:blipFill>
        <p:spPr>
          <a:xfrm>
            <a:off x="146160" y="1163520"/>
            <a:ext cx="5930640" cy="854280"/>
          </a:xfrm>
          <a:prstGeom prst="rect">
            <a:avLst/>
          </a:prstGeom>
          <a:ln w="0">
            <a:noFill/>
          </a:ln>
        </p:spPr>
      </p:pic>
      <p:sp>
        <p:nvSpPr>
          <p:cNvPr id="881" name="Text Box 6"/>
          <p:cNvSpPr/>
          <p:nvPr/>
        </p:nvSpPr>
        <p:spPr>
          <a:xfrm>
            <a:off x="342720" y="1773360"/>
            <a:ext cx="709524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2000" spc="-1" strike="noStrike" u="sng">
                <a:solidFill>
                  <a:srgbClr val="ffff00"/>
                </a:solidFill>
                <a:uFillTx/>
                <a:latin typeface="Calibri"/>
              </a:rPr>
              <a:t>Pour les collèges </a:t>
            </a: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Pour le HARD et infrastructure réseau : VDIS « LA CAMIF »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Pour les USAGES : Le B.A.I.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- N° 820.208.201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- Par Internet : 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http://webdaip.ac-lille.fr/daipetab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2000" spc="-1" strike="noStrike" u="sng">
                <a:solidFill>
                  <a:srgbClr val="ffff00"/>
                </a:solidFill>
                <a:uFillTx/>
                <a:latin typeface="Calibri"/>
              </a:rPr>
              <a:t>Pour les Lycées </a:t>
            </a: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Pour le HARD et l’infrastructure réseau : Les UTIL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Pour les USAGES : Le B.A.I.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- N° 820.208.201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- Par Internet : </a:t>
            </a:r>
            <a:r>
              <a:rPr b="0" lang="fr-FR" sz="16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http://webdaip.ac-lille.fr/daipetab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0d0d0d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2" name="Picture 7" descr=""/>
          <p:cNvPicPr/>
          <p:nvPr/>
        </p:nvPicPr>
        <p:blipFill>
          <a:blip r:embed="rId6"/>
          <a:stretch/>
        </p:blipFill>
        <p:spPr>
          <a:xfrm>
            <a:off x="6080040" y="1197000"/>
            <a:ext cx="2190960" cy="66672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8" descr=""/>
          <p:cNvPicPr/>
          <p:nvPr/>
        </p:nvPicPr>
        <p:blipFill>
          <a:blip r:embed="rId7"/>
          <a:stretch/>
        </p:blipFill>
        <p:spPr>
          <a:xfrm>
            <a:off x="324000" y="5572080"/>
            <a:ext cx="8570880" cy="858960"/>
          </a:xfrm>
          <a:prstGeom prst="rect">
            <a:avLst/>
          </a:prstGeom>
          <a:ln w="0">
            <a:noFill/>
          </a:ln>
        </p:spPr>
      </p:pic>
      <p:sp>
        <p:nvSpPr>
          <p:cNvPr id="884" name="Text Box 9"/>
          <p:cNvSpPr/>
          <p:nvPr/>
        </p:nvSpPr>
        <p:spPr>
          <a:xfrm>
            <a:off x="980640" y="6114960"/>
            <a:ext cx="324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http://www3.ac-lille.fr/crid-systeme/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Text Box 10"/>
          <p:cNvSpPr/>
          <p:nvPr/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49399A-3650-48BE-9F77-5EC2F840B0CE}" type="slidenum">
              <a:rPr b="0" lang="fr-FR" sz="1400" spc="-1" strike="noStrike">
                <a:solidFill>
                  <a:srgbClr val="adae9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1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D97B17-A676-46FF-9E7B-A15DBAA9B7A9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1" name="Text Box 2"/>
          <p:cNvSpPr/>
          <p:nvPr/>
        </p:nvSpPr>
        <p:spPr>
          <a:xfrm>
            <a:off x="826920" y="461880"/>
            <a:ext cx="83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Dans un réseau Kwartz, un utilisateur doit faire partie d’un groupe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Nous allons donc créer un groupe.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Menu Utilisateurs, Gestion des groupes, Ajouter un groupe,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2" name="Text Box 3"/>
          <p:cNvSpPr/>
          <p:nvPr/>
        </p:nvSpPr>
        <p:spPr>
          <a:xfrm>
            <a:off x="3116520" y="0"/>
            <a:ext cx="28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Calibri"/>
                <a:ea typeface="Arial"/>
              </a:rPr>
              <a:t>Création d’un group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3" name="Picture 4" descr=""/>
          <p:cNvPicPr/>
          <p:nvPr/>
        </p:nvPicPr>
        <p:blipFill>
          <a:blip r:embed="rId1"/>
          <a:stretch/>
        </p:blipFill>
        <p:spPr>
          <a:xfrm>
            <a:off x="1392120" y="1387440"/>
            <a:ext cx="6264360" cy="47322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5" descr=""/>
          <p:cNvPicPr/>
          <p:nvPr/>
        </p:nvPicPr>
        <p:blipFill>
          <a:blip r:embed="rId2"/>
          <a:stretch/>
        </p:blipFill>
        <p:spPr>
          <a:xfrm>
            <a:off x="1177920" y="1501920"/>
            <a:ext cx="7792920" cy="47322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6" descr=""/>
          <p:cNvPicPr/>
          <p:nvPr/>
        </p:nvPicPr>
        <p:blipFill>
          <a:blip r:embed="rId3"/>
          <a:stretch/>
        </p:blipFill>
        <p:spPr>
          <a:xfrm>
            <a:off x="880920" y="52560"/>
            <a:ext cx="176400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1" descr=""/>
          <p:cNvPicPr/>
          <p:nvPr/>
        </p:nvPicPr>
        <p:blipFill>
          <a:blip r:embed="rId1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2" descr=""/>
          <p:cNvPicPr/>
          <p:nvPr/>
        </p:nvPicPr>
        <p:blipFill>
          <a:blip r:embed="rId2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3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5AEAE1-9C95-47FE-ACDE-405CC54EF849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9" name="Picture 4" descr=""/>
          <p:cNvPicPr/>
          <p:nvPr/>
        </p:nvPicPr>
        <p:blipFill>
          <a:blip r:embed="rId3"/>
          <a:stretch/>
        </p:blipFill>
        <p:spPr>
          <a:xfrm>
            <a:off x="1036800" y="768240"/>
            <a:ext cx="8051760" cy="5065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5" descr=""/>
          <p:cNvPicPr/>
          <p:nvPr/>
        </p:nvPicPr>
        <p:blipFill>
          <a:blip r:embed="rId4"/>
          <a:stretch/>
        </p:blipFill>
        <p:spPr>
          <a:xfrm>
            <a:off x="219240" y="1467000"/>
            <a:ext cx="4760640" cy="47815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6" descr=""/>
          <p:cNvPicPr/>
          <p:nvPr/>
        </p:nvPicPr>
        <p:blipFill>
          <a:blip r:embed="rId5"/>
          <a:stretch/>
        </p:blipFill>
        <p:spPr>
          <a:xfrm>
            <a:off x="5129280" y="1468440"/>
            <a:ext cx="3960720" cy="4707000"/>
          </a:xfrm>
          <a:prstGeom prst="rect">
            <a:avLst/>
          </a:prstGeom>
          <a:ln w="0">
            <a:noFill/>
          </a:ln>
        </p:spPr>
      </p:pic>
      <p:sp>
        <p:nvSpPr>
          <p:cNvPr id="622" name="ZoneTexte 1"/>
          <p:cNvSpPr/>
          <p:nvPr/>
        </p:nvSpPr>
        <p:spPr>
          <a:xfrm>
            <a:off x="1095480" y="11206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Menu Utilisateurs, Affecter un compte utilisateur au groupe : …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1" descr=""/>
          <p:cNvPicPr/>
          <p:nvPr/>
        </p:nvPicPr>
        <p:blipFill>
          <a:blip r:embed="rId1"/>
          <a:stretch/>
        </p:blipFill>
        <p:spPr>
          <a:xfrm>
            <a:off x="5940360" y="2022480"/>
            <a:ext cx="970200" cy="969840"/>
          </a:xfrm>
          <a:prstGeom prst="rect">
            <a:avLst/>
          </a:prstGeom>
          <a:ln w="0">
            <a:noFill/>
          </a:ln>
        </p:spPr>
      </p:pic>
      <p:grpSp>
        <p:nvGrpSpPr>
          <p:cNvPr id="624" name="Group 2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625" name="Picture 3" descr=""/>
            <p:cNvPicPr/>
            <p:nvPr/>
          </p:nvPicPr>
          <p:blipFill>
            <a:blip r:embed="rId2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Text Box 4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627" name="Picture 5" descr=""/>
          <p:cNvPicPr/>
          <p:nvPr/>
        </p:nvPicPr>
        <p:blipFill>
          <a:blip r:embed="rId3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6" descr=""/>
          <p:cNvPicPr/>
          <p:nvPr/>
        </p:nvPicPr>
        <p:blipFill>
          <a:blip r:embed="rId4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7" descr=""/>
          <p:cNvPicPr/>
          <p:nvPr/>
        </p:nvPicPr>
        <p:blipFill>
          <a:blip r:embed="rId5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8" descr=""/>
          <p:cNvPicPr/>
          <p:nvPr/>
        </p:nvPicPr>
        <p:blipFill>
          <a:blip r:embed="rId6"/>
          <a:stretch/>
        </p:blipFill>
        <p:spPr>
          <a:xfrm>
            <a:off x="1090440" y="3498840"/>
            <a:ext cx="7804440" cy="148104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9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6FC7F9-C621-403B-AE9F-EA1336B77A32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1" descr=""/>
          <p:cNvPicPr/>
          <p:nvPr/>
        </p:nvPicPr>
        <p:blipFill>
          <a:blip r:embed="rId1"/>
          <a:stretch/>
        </p:blipFill>
        <p:spPr>
          <a:xfrm>
            <a:off x="7661160" y="2060640"/>
            <a:ext cx="970200" cy="969840"/>
          </a:xfrm>
          <a:prstGeom prst="rect">
            <a:avLst/>
          </a:prstGeom>
          <a:ln w="0">
            <a:noFill/>
          </a:ln>
        </p:spPr>
      </p:pic>
      <p:grpSp>
        <p:nvGrpSpPr>
          <p:cNvPr id="633" name="Group 2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634" name="Picture 3" descr=""/>
            <p:cNvPicPr/>
            <p:nvPr/>
          </p:nvPicPr>
          <p:blipFill>
            <a:blip r:embed="rId2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Text Box 4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636" name="Picture 5" descr=""/>
          <p:cNvPicPr/>
          <p:nvPr/>
        </p:nvPicPr>
        <p:blipFill>
          <a:blip r:embed="rId3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6" descr=""/>
          <p:cNvPicPr/>
          <p:nvPr/>
        </p:nvPicPr>
        <p:blipFill>
          <a:blip r:embed="rId4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7" descr=""/>
          <p:cNvPicPr/>
          <p:nvPr/>
        </p:nvPicPr>
        <p:blipFill>
          <a:blip r:embed="rId5"/>
          <a:stretch/>
        </p:blipFill>
        <p:spPr>
          <a:xfrm>
            <a:off x="828720" y="1627200"/>
            <a:ext cx="7802640" cy="1481040"/>
          </a:xfrm>
          <a:prstGeom prst="rect">
            <a:avLst/>
          </a:prstGeom>
          <a:ln w="0">
            <a:noFill/>
          </a:ln>
        </p:spPr>
      </p:pic>
      <p:sp>
        <p:nvSpPr>
          <p:cNvPr id="639" name="Text Box 8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710A76-71B9-419B-8052-42282ED4A3B5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0" name="Text Box 9"/>
          <p:cNvSpPr/>
          <p:nvPr/>
        </p:nvSpPr>
        <p:spPr>
          <a:xfrm>
            <a:off x="1607400" y="3141720"/>
            <a:ext cx="615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On va utiliser un logiciel gratuit qui va nous permettre de fai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’importation des nouveaux arrivant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a modification des comptes (passage d’une classe à une autre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a suppression des comptes devenus inutil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On utilisera SconetKwartz téléchargeable à l’adresse suivante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http://geometrix.free.fr/jgressier/iri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642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644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5D7643-6C0C-4E38-904B-C3457D1FEA5C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7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8" descr=""/>
          <p:cNvPicPr/>
          <p:nvPr/>
        </p:nvPicPr>
        <p:blipFill>
          <a:blip r:embed="rId5"/>
          <a:stretch/>
        </p:blipFill>
        <p:spPr>
          <a:xfrm>
            <a:off x="7380360" y="1536840"/>
            <a:ext cx="969840" cy="969840"/>
          </a:xfrm>
          <a:prstGeom prst="rect">
            <a:avLst/>
          </a:prstGeom>
          <a:ln w="0">
            <a:noFill/>
          </a:ln>
        </p:spPr>
      </p:pic>
      <p:sp>
        <p:nvSpPr>
          <p:cNvPr id="649" name="ZoneTexte 1"/>
          <p:cNvSpPr/>
          <p:nvPr/>
        </p:nvSpPr>
        <p:spPr>
          <a:xfrm>
            <a:off x="1356840" y="2506680"/>
            <a:ext cx="6520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e serveur étant « neuf », on va créer les utilisateurs d’une année N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Extraire le fichier des élèves avec Siècle à l’administration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e renommer eleves.csv. 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e placer dans le répertoire d’installation de SconetKwartz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Lancer SconetKwartz,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Group 1"/>
          <p:cNvGrpSpPr/>
          <p:nvPr/>
        </p:nvGrpSpPr>
        <p:grpSpPr>
          <a:xfrm>
            <a:off x="871560" y="347760"/>
            <a:ext cx="7966080" cy="1423800"/>
            <a:chOff x="871560" y="347760"/>
            <a:chExt cx="7966080" cy="1423800"/>
          </a:xfrm>
        </p:grpSpPr>
        <p:pic>
          <p:nvPicPr>
            <p:cNvPr id="651" name="Picture 2" descr=""/>
            <p:cNvPicPr/>
            <p:nvPr/>
          </p:nvPicPr>
          <p:blipFill>
            <a:blip r:embed="rId1"/>
            <a:stretch/>
          </p:blipFill>
          <p:spPr>
            <a:xfrm>
              <a:off x="871560" y="347760"/>
              <a:ext cx="7966080" cy="14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Text Box 3"/>
            <p:cNvSpPr/>
            <p:nvPr/>
          </p:nvSpPr>
          <p:spPr>
            <a:xfrm>
              <a:off x="871560" y="347760"/>
              <a:ext cx="796608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653" name="Picture 4" descr=""/>
          <p:cNvPicPr/>
          <p:nvPr/>
        </p:nvPicPr>
        <p:blipFill>
          <a:blip r:embed="rId2"/>
          <a:stretch/>
        </p:blipFill>
        <p:spPr>
          <a:xfrm>
            <a:off x="396720" y="6419880"/>
            <a:ext cx="8204400" cy="6825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5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776160" cy="107964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6"/>
          <p:cNvSpPr/>
          <p:nvPr/>
        </p:nvSpPr>
        <p:spPr>
          <a:xfrm>
            <a:off x="69343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103523-799A-4E4F-8EF5-66F0A9AF6DA0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6" name="Picture 7" descr=""/>
          <p:cNvPicPr/>
          <p:nvPr/>
        </p:nvPicPr>
        <p:blipFill>
          <a:blip r:embed="rId4"/>
          <a:stretch/>
        </p:blipFill>
        <p:spPr>
          <a:xfrm>
            <a:off x="944640" y="1627200"/>
            <a:ext cx="6724440" cy="75564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8" descr=""/>
          <p:cNvPicPr/>
          <p:nvPr/>
        </p:nvPicPr>
        <p:blipFill>
          <a:blip r:embed="rId5"/>
          <a:stretch/>
        </p:blipFill>
        <p:spPr>
          <a:xfrm>
            <a:off x="7380360" y="1536840"/>
            <a:ext cx="969840" cy="96984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9" descr=""/>
          <p:cNvPicPr/>
          <p:nvPr/>
        </p:nvPicPr>
        <p:blipFill>
          <a:blip r:embed="rId6"/>
          <a:stretch/>
        </p:blipFill>
        <p:spPr>
          <a:xfrm>
            <a:off x="992160" y="2637000"/>
            <a:ext cx="7601040" cy="219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8:31:53Z</dcterms:created>
  <dc:creator>Fred</dc:creator>
  <dc:description/>
  <dc:language>en-US</dc:language>
  <cp:lastModifiedBy>Administrateur Windows</cp:lastModifiedBy>
  <dcterms:modified xsi:type="dcterms:W3CDTF">2014-12-10T08:00:58Z</dcterms:modified>
  <cp:revision>179</cp:revision>
  <dc:subject/>
  <dc:title>ACCOMPAGNEMENT  DES ENSEIGNANTS RESSOURCES TICE</dc:title>
</cp:coreProperties>
</file>