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8AD8-D0A2-4C0E-897C-C6006620CBD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96000-1EC1-43B4-B8E6-1632867B3A3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815B-3E51-4BCE-AC85-55DC5DB3CB1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40B45-7E5C-41C8-A930-FFA996699C2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600E0-9F56-443F-B63F-220A8246F2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086B9-71EF-46A8-B20D-A717EE90A85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04980-B700-473E-B81C-EC17C73CA17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E2B26-9AEF-4006-9648-4D7B49359E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11F97-B19F-43CE-AAE0-1C5314C161B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D7F32-8FCE-4D26-95A8-4EA1691B91B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86D3A-6C2F-4AE1-ADBB-5FAC754E69F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987B3-84C0-4BD9-B6E5-808EF8977AA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715D5-4DF6-4D85-9D07-CF28E16803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89B0E-9122-4646-B9E6-136F894C982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AB6C6-FF4B-44FD-81D4-7EDFE9D1FC7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2621-9F29-4D99-AB07-80115A8C24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578A7-91FA-4A8B-A1B9-E8BBD26948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2A9C7-B87A-4679-A0A1-425C961B237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0EA60-9E00-4ADA-B468-FE9B0D38A75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CA4D2-C1CF-467C-8BFF-4B7745E924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35EC6-68AC-4BE3-89B9-DF351AED13C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B12C9-320F-4491-BC21-0CBCD9DF45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0AE0-E770-4D7F-8F7A-ABC594F278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FBA8-0409-4912-9734-417F2CB305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CFFE1-D829-4248-8E7F-935D3E96710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22F7-EA57-443C-A341-255DB191FA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18B5F-49F4-4532-B9DD-4745BA8A5C4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D3AC8-AA5A-4F8F-AC0E-1C758D9EF5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26E94-5708-4A0E-9C18-33FC26D1ECF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44BE-B23D-4353-AC5E-A9F09030D4F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41AC8-8FEF-42AF-A8A0-4500634B4B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2DCD7-2518-4483-A9B9-643296DF367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0220C-03AE-47CA-9A5A-995F4D2AF9C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7887B-5BD4-4593-B8BC-1B1FF96A26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DA57-CDE5-4E9F-8AC4-2B62C42205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3DF8-1FF9-4E2D-9973-8158216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C3E4-679F-4A1E-A14E-4BBB399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7A53-3928-46AD-A068-B095FCB6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EC83-9426-4262-A21D-BF32D2A7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CCD3-1215-4686-A524-A621896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D11F-3DB8-47DF-9075-A7B21C04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5080-2ED9-442C-827A-F0804EBE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8951-EAAC-4F32-B5F3-F8477052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F3AD5-B644-45B3-812D-836A946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939C-1465-409B-BD66-497A6E413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FBEF7-38B3-4FD1-BC66-2DF9E35B5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B557-9BFC-4454-ACF4-466B54D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76825-8B4E-4497-AD20-E39F662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44EC7-0E82-4B89-88DE-B9FDBC6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E1127-859B-4392-B672-63FDE40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C1066-312F-4CB7-A63A-52CC5632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AFD76-39AE-4FCC-A381-D7CAC0BF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056F5-FAB0-4E72-9688-DC6D2862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D8A3E-7022-478B-88A7-3043FFE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7599D-6256-4ABD-9D5C-ECE043D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A9844-A859-463E-8944-C6C93BB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7EEEA-29D5-4859-BD20-31D81EA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2085-883B-47CD-918B-B3C2E2B26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26125-EEEA-4902-95B8-9EA0373C2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909DB-BDC0-4ABE-BECA-3B5580E0B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6C564E-BBDA-4343-AAEC-F06F20BF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85475-4206-45F5-823D-257B817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59E59B-8905-4317-85C7-AA87E30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FD7554-1650-4AF1-B727-29FD8096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9A535-F74A-4F57-A56F-53AEF8E2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28E4D-A870-4973-97C9-F98444B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5D092-2368-4844-A0C0-0A85000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1595F4-AA9A-4C90-BCF5-6513308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39C73-6DE8-4350-BCF1-66EF78DA6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164E62-6DB9-462D-84CC-F0E48A8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B051F9-1C24-4B03-BEFD-5934B07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2E7B6-3DBD-4FE9-BAC3-01A92BBD9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D106A-5333-4D85-ACCF-9D0A28120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27B3-29BB-43D5-851D-E8BCE9FD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D6DD-DAFD-4543-B493-55BC16E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7D790-E4BC-4290-85CD-C2D67C54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2DBC-D99B-49C9-BECE-DC0869AD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2C879-C348-462F-8E59-C4D002AA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1094-195F-44E1-989C-B7093F5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A4018-FD19-46D9-B2D2-9185D3A1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A18D-AE7B-44F4-9934-1C784DE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37FD-07B2-483D-BA00-220BCB1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5E6C-BE06-4DBE-9990-E14F4418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76F35-2124-40E6-9572-2D5CCBE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3E4B-9A77-440F-8F6D-0D0BDC992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DA890-FC32-4D26-8EDD-ECB36C5BB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A8115-1EB2-4441-B810-3F17A95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3DD4A-8413-4CAD-8627-7A3711E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6DA04-F43E-4CDB-834C-1151683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729BB-CB21-45AD-AA9E-C11128F8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7ABA-1602-490D-BC08-20380C1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34126A-D0EA-410D-9354-4D903BCE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FA1CBE-16EB-4CC6-B85F-A10087D9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158E0-036E-427C-91EF-13B9C56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D2186-201B-4D65-BE94-64C23517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E85BC-6C8D-4BA8-A7A3-12B7837E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B9063D-1EBC-4F63-8AB1-E5DD006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25B62-FFD8-4470-AD48-5F850A8B5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E1BE-339D-4DC7-B6CA-14376BF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4709C-0DC2-4BB6-8BF0-1869D246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16623-22E8-4DC5-AFB3-DF9DCC41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FE93-27D9-40BB-B69B-C8B416C4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0077-A719-4D0E-B0FE-EC61E592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CB80-C2DF-4C7A-A69C-670400B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617F-03A0-4FE6-8082-2356B84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886B3-4D8D-4938-A6C8-203ED7B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7BC5A-C4F4-4CE2-B354-6F19723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4C37-26CA-49B5-8CE3-2593FF9C4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C4CC-ED0F-4D66-BBE3-FA90A482F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C59F-69DF-465E-891D-7DD87D1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DADA-BCD5-4446-BF62-68AAD01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31BA-8EA6-416D-8D34-FFC621C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A99-1D55-413A-90C1-AFB98462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6AAB-C682-4596-9FA6-DE78578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713-5D38-4E02-A890-3ECF6C6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6B3-147F-40AA-83DA-64CEFD3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8A88-F18D-4B49-8625-1685016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EE6B-5645-4527-A87E-B29C10D1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D04F-0630-4C58-9D22-E0FD73E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9629-E9B3-4996-B2B3-22E9528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9FB4-BD33-4CDE-9E56-E6437B617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4C572-4ACD-46FD-844D-DD0AA8932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97E6A-3B1C-42B3-9E1B-AE7C00C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1B5FB-338A-472F-B1F5-74013F3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AA62-0329-4EF6-B435-1D91D506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ADAF8-E2D8-4648-8524-84FAFB97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C9AA9-4F8B-4583-A5C3-18794043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EDF22-651F-418C-96BC-7ABC95FF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3F655-4139-4DBF-8AF7-79F7222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624D3-0E7A-4220-B54B-2BBE24F0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C0CDA-6AFD-4989-82D8-7C25556F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A1710-5179-4B3E-8BE4-93830E3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C0E7A-3668-4734-BC3C-2B3911F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688E7-1019-4EAE-85CC-0088E3711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660FB-1943-480F-AF14-9C7FAC3D1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454D-A6CA-48FE-BC04-6B0E61FB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EFE4C-D833-40B7-BB78-E235598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217D1-5732-47D5-B0E1-0265AEB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F631E-DF55-44D3-ADE5-597F2E20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D4025-C324-4637-AA12-83D7E0BA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ACC62-6DB2-4A5D-8BDA-8F706930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7FEA6-B67B-426C-B93F-B683FE61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7F960-7C88-48B9-AEA7-495DB409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8883F-6D49-4F1E-911B-85862B12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8D870-8153-4785-B77D-4A1EA4C9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A9532-EF76-4FA4-83AC-5D61103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364A-F3D3-4A30-AFAE-BC6C0C95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5716A-6A56-4F99-BB5E-2291543A6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8BBF-7E2D-4957-8226-294BB7B73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2557-93CD-47B5-8F34-0F24686B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4524-A43E-48DD-A3BF-77A691E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55B5-4863-4EFE-8FE9-54D41D2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5178-04E4-4D46-A82A-B54F200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8169-83F2-4AF1-BFF8-A0D9FC18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872D-459B-46B3-BC49-B1861A5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0BA8-4CFF-4B45-B2D4-9DB68750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FB47-DA78-4197-AA9D-8C0DB6A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E041-5933-4080-A74A-FDCA2D6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14B06-FC48-46F2-AAD7-997CCAA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C1BD-307B-49BC-9473-E70F0DD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982D-2E19-44DD-ACF9-ED96766CE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F945F-2008-4C93-A836-8B5FC823F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ADD42-B854-4F4D-8F10-C4AA9B5D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EBA76-6700-4263-9336-2B392F3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0B9F2-A8D5-482E-A2C7-83E7ED2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CA221-84E6-47C8-814C-87EDF3E1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F48A4-D881-4F3E-A971-B7CC22A2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9359A-2B4D-4E98-91B4-656697F4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8F6F-7E3A-436F-AC11-9F934351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50F51-3C29-466B-B128-42B629B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6B514-A794-49B2-A5B3-9194F2A2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FA393-FDB3-443A-AA8C-58F3159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228ED-2351-4348-A9AD-6936294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ACC90-C295-4E1B-AB2B-71DB2095E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76BFD-0885-4A31-9497-40CA7D2E3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56BBA-6161-401D-BDA0-698D9AF7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0B139-5872-4151-A388-26579DB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91532-5D89-4ED5-AA4D-CB2D0D7F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FCFEBF-F637-449C-9DA7-244EC516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F920-BAF1-493F-8CBA-10D19AE2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618AA-E4E8-4504-8AEE-36952A72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B5565-F165-4EFA-87E3-2C91D35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CDCFBE-F848-48D4-AB17-3CDC3DF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DCE75-4072-4D6A-BB59-47F32A6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54DC5-DF3E-45CC-9F72-233ABBB1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EF2AA-5F21-408B-8792-03492D9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8EBB3-B968-40D8-AA31-B238D8B0C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C3BF-A53D-442B-8BB3-0A9033E2D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D989-2E03-4324-84A5-29961A26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D029-509A-4495-986D-C7008E5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3280"/>
            <a:ext cx="1522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F5FC1F-75A0-4144-AB63-3716B7A24DDD}" type="datetime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9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3280"/>
            <a:ext cx="988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0B72C1-D3CD-47E5-97A8-11B56A1F0D8A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8F5D5-EEEC-4E89-9D86-830D95C7AC69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AF4018B-B9CF-4E1C-A42C-E42364C566A6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D9619-152C-420D-B2FA-4148F5859420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809D7B-B6AB-4EAD-9021-2D28217E742B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5D6D9-D1B6-4526-816E-FC962877D531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D540D-9C1B-4E4D-9901-DB36FC2F0BF2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689D3-94DE-43BD-B2DA-64CCE11F7CC7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BDAAC-50AA-4BDA-B2E5-84709499DD3A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B203-781B-45F6-BAC8-8192A1EFE0AD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40E6B54-F10A-46CB-822C-3955320BD35A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E4D6E-6953-4133-A540-25F1DD0E4476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FEA35-E92B-4DA2-821A-F6A4A86EC064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17B0-D351-4B6B-AC0A-BDC3DC7E0979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3A587-54E9-4EF7-A46D-E4E58159966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4CD2B7-98B4-43DF-B7D8-ECF72C8F7E2D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5F81EDB5-7328-478B-9157-96B71D8F3CC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221431-8A90-451D-B750-8300ADCE659B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E67A8325-E82E-4662-90E8-09C6F02E8B02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9DDBE0-5F93-4CEA-A2AA-13E31F7D4B8B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79D474A-6C28-4C18-A9C3-90D46004000A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42560" cy="3777840"/>
            <a:chOff x="0" y="1176480"/>
            <a:chExt cx="9142560" cy="37778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0" y="1521720"/>
              <a:ext cx="9142560" cy="34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4F073-BAD1-46B9-88A8-93677CED72D7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E63D0F-1DCF-4F63-8CCF-5929A0947D81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B2EA7-4BD3-4A57-8366-5B79595BD68D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87047E8-5264-4A17-97FF-5E952118673C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s://serveur:9999/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9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hyperlink" Target="http://webdaip.ac-lille.fr/daipetab" TargetMode="External"/><Relationship Id="rId5" Type="http://schemas.openxmlformats.org/officeDocument/2006/relationships/hyperlink" Target="http://webdaip.ac-lille.fr/daipetab" TargetMode="External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hyperlink" Target="http://www3.ac-lille.fr/crid-systeme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1"/>
          <p:cNvGrpSpPr/>
          <p:nvPr/>
        </p:nvGrpSpPr>
        <p:grpSpPr>
          <a:xfrm>
            <a:off x="396720" y="5224320"/>
            <a:ext cx="8496360" cy="1346400"/>
            <a:chOff x="396720" y="5224320"/>
            <a:chExt cx="8496360" cy="1346400"/>
          </a:xfrm>
        </p:grpSpPr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96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"/>
            <p:cNvSpPr/>
            <p:nvPr/>
          </p:nvSpPr>
          <p:spPr>
            <a:xfrm>
              <a:off x="396720" y="5224320"/>
              <a:ext cx="849636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0" y="-23760"/>
            <a:ext cx="9142560" cy="3344760"/>
            <a:chOff x="0" y="-23760"/>
            <a:chExt cx="9142560" cy="3344760"/>
          </a:xfrm>
        </p:grpSpPr>
        <p:pic>
          <p:nvPicPr>
            <p:cNvPr id="58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3760"/>
              <a:ext cx="9142560" cy="33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6"/>
            <p:cNvSpPr/>
            <p:nvPr/>
          </p:nvSpPr>
          <p:spPr>
            <a:xfrm>
              <a:off x="0" y="-23760"/>
              <a:ext cx="914256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2224E-EFB3-4B8C-B3CA-5DFC18FE7BC5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FF5D0E-AE57-4891-8A2B-D6F82C07BC3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5"/>
          <a:stretch/>
        </p:blipFill>
        <p:spPr>
          <a:xfrm>
            <a:off x="7716960" y="86040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6"/>
          <a:stretch/>
        </p:blipFill>
        <p:spPr>
          <a:xfrm>
            <a:off x="1592280" y="2247840"/>
            <a:ext cx="6124680" cy="41720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1908000" y="423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  <a:ea typeface="Arial"/>
              </a:rPr>
              <a:t>eleves.cs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Rectangle à coins arrondis 1"/>
          <p:cNvSpPr/>
          <p:nvPr/>
        </p:nvSpPr>
        <p:spPr>
          <a:xfrm>
            <a:off x="1908000" y="4237200"/>
            <a:ext cx="1368720" cy="48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7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7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0F4E3F-9B9F-498A-A0C3-AA4089E77ED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5"/>
          <a:stretch/>
        </p:blipFill>
        <p:spPr>
          <a:xfrm>
            <a:off x="7886880" y="82872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78" name="ZoneTexte 1"/>
          <p:cNvSpPr/>
          <p:nvPr/>
        </p:nvSpPr>
        <p:spPr>
          <a:xfrm>
            <a:off x="1155600" y="2637000"/>
            <a:ext cx="345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le format de connexion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Fichi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réer les comptes à parti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’un fichier cs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crée deux fichier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le répertoire d’installa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e SconetKwartz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Fichiers à déplacer dans le dossie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9" name="Picture 10" descr=""/>
          <p:cNvPicPr/>
          <p:nvPr/>
        </p:nvPicPr>
        <p:blipFill>
          <a:blip r:embed="rId6"/>
          <a:stretch/>
        </p:blipFill>
        <p:spPr>
          <a:xfrm>
            <a:off x="4835520" y="2625840"/>
            <a:ext cx="41562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8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212E19-86A4-47FE-A3C8-2D27D7641DC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9"/>
          <p:cNvSpPr/>
          <p:nvPr/>
        </p:nvSpPr>
        <p:spPr>
          <a:xfrm>
            <a:off x="1316520" y="23493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9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"/>
          <p:cNvPicPr/>
          <p:nvPr/>
        </p:nvPicPr>
        <p:blipFill>
          <a:blip r:embed="rId7"/>
          <a:stretch/>
        </p:blipFill>
        <p:spPr>
          <a:xfrm>
            <a:off x="1539720" y="2881440"/>
            <a:ext cx="2390760" cy="316836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à coins arrondis 1"/>
          <p:cNvSpPr/>
          <p:nvPr/>
        </p:nvSpPr>
        <p:spPr>
          <a:xfrm>
            <a:off x="2050920" y="4869000"/>
            <a:ext cx="136872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9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FBBC91-E5AD-4CAB-8EDF-437F133BD55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00" name="ZoneTexte 2"/>
          <p:cNvSpPr/>
          <p:nvPr/>
        </p:nvSpPr>
        <p:spPr>
          <a:xfrm>
            <a:off x="1647000" y="285264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jouter les utilisateurs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léter l’écran de création des groupes, liste de diffusion, 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ttendre la création des groupes et des utilisateu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03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05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A6CEF2-38CF-43D4-AB87-6B3278295537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348560" y="3573360"/>
            <a:ext cx="691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ous les fichiers que SconetKwartz devra traiter devront être mis dan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son répertoire d’install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e logiciel nécessite d’avoir les fichiers suivant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export (sans extension) pour une mise à jo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d’exportation des élèves de l’année N+1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à récupérer à l’administration site Siècle base en cours …et à renom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n eleves.csv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ZoneTexte 1"/>
          <p:cNvSpPr/>
          <p:nvPr/>
        </p:nvSpPr>
        <p:spPr>
          <a:xfrm>
            <a:off x="1350720" y="2506680"/>
            <a:ext cx="62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’année N+1, FAIRE LA SAUVEGARDE COMPLETE DU SERVE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Kwartz-Control, Menu Utilisateurs, Générer le fichier export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par défaut, il se trouve dans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1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D7F939-08B8-480E-93BF-E1BE65719E9A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2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2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91A7C3-2833-437E-8CCC-166827EF0AB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6"/>
          <a:stretch/>
        </p:blipFill>
        <p:spPr>
          <a:xfrm>
            <a:off x="1440000" y="2255760"/>
            <a:ext cx="6124320" cy="41720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0"/>
          <p:cNvSpPr/>
          <p:nvPr/>
        </p:nvSpPr>
        <p:spPr>
          <a:xfrm>
            <a:off x="1692360" y="42242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leves.csv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3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D36A25-D497-45B5-B403-5F10092D87F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9"/>
          <p:cNvSpPr/>
          <p:nvPr/>
        </p:nvSpPr>
        <p:spPr>
          <a:xfrm>
            <a:off x="816120" y="2349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doit voir le fichier eleves.csv apparaî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dans le menu Fichiers la bonne op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Quand on choisit Mise à jour des comptes  à partir d’un fichier csv, il faut indiquer 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emin du fichier export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va créer des fichiers au format txt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modifi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supprim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oublon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(Fichiers à recopier dans Listes des Utilisateur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a question sur le groupe Profs, choisir N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5184720" y="2708280"/>
            <a:ext cx="4392720" cy="3616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"/>
          <p:cNvPicPr/>
          <p:nvPr/>
        </p:nvPicPr>
        <p:blipFill>
          <a:blip r:embed="rId7"/>
          <a:stretch/>
        </p:blipFill>
        <p:spPr>
          <a:xfrm>
            <a:off x="5337000" y="2860560"/>
            <a:ext cx="43927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5BC291-E092-4CBB-89E9-051506B02BE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9"/>
          <p:cNvSpPr/>
          <p:nvPr/>
        </p:nvSpPr>
        <p:spPr>
          <a:xfrm>
            <a:off x="1303200" y="23493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Il faut d’abord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  <a:ea typeface="Arial"/>
              </a:rPr>
              <a:t>les copier dans le dossier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0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1" descr=""/>
          <p:cNvPicPr/>
          <p:nvPr/>
        </p:nvPicPr>
        <p:blipFill>
          <a:blip r:embed="rId7"/>
          <a:stretch/>
        </p:blipFill>
        <p:spPr>
          <a:xfrm>
            <a:off x="2462040" y="3017880"/>
            <a:ext cx="23911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5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5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61A0E-74CF-4EAD-A932-D8BD2CAB526A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9" descr=""/>
          <p:cNvPicPr/>
          <p:nvPr/>
        </p:nvPicPr>
        <p:blipFill>
          <a:blip r:embed="rId6"/>
          <a:stretch/>
        </p:blipFill>
        <p:spPr>
          <a:xfrm>
            <a:off x="1736640" y="292428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7"/>
          <p:cNvSpPr/>
          <p:nvPr/>
        </p:nvSpPr>
        <p:spPr>
          <a:xfrm>
            <a:off x="833400" y="3081240"/>
            <a:ext cx="8310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 u="sng">
                <a:solidFill>
                  <a:srgbClr val="ccccff"/>
                </a:solidFill>
                <a:uFillTx/>
                <a:latin typeface="Trebuchet MS"/>
                <a:ea typeface="Arial"/>
                <a:hlinkClick r:id="rId5"/>
              </a:rPr>
              <a:t>https://serveur:9999 </a:t>
            </a:r>
            <a:r>
              <a:rPr b="0" lang="fr-FR" sz="4000" spc="-1" strike="noStrike">
                <a:solidFill>
                  <a:srgbClr val="ffffff"/>
                </a:solidFill>
                <a:latin typeface="Trebuchet MS"/>
                <a:ea typeface="Arial"/>
              </a:rPr>
              <a:t>ou</a:t>
            </a:r>
            <a:r>
              <a:rPr b="0" lang="fr-FR" sz="4000" spc="-1" strike="noStrike">
                <a:solidFill>
                  <a:srgbClr val="0000ff"/>
                </a:solidFill>
                <a:latin typeface="Trebuchet MS"/>
                <a:ea typeface="Arial"/>
              </a:rPr>
              <a:t> </a:t>
            </a:r>
            <a:r>
              <a:rPr b="0" lang="fr-FR" sz="4000" spc="-1" strike="noStrike">
                <a:solidFill>
                  <a:srgbClr val="ffff00"/>
                </a:solidFill>
                <a:latin typeface="Trebuchet MS"/>
                <a:ea typeface="Arial"/>
              </a:rPr>
              <a:t>https://adresse_ip_serveur:999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2340000" y="443700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Version de kwartz 5.x.r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Login : kwar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dp : 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6"/>
          <a:stretch/>
        </p:blipFill>
        <p:spPr>
          <a:xfrm>
            <a:off x="6110280" y="223056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0EBFB4-037C-4E80-A7EA-3842D748824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6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6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DB68E9-C315-4EEB-B83F-36787199388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9" descr=""/>
          <p:cNvPicPr/>
          <p:nvPr/>
        </p:nvPicPr>
        <p:blipFill>
          <a:blip r:embed="rId6"/>
          <a:stretch/>
        </p:blipFill>
        <p:spPr>
          <a:xfrm>
            <a:off x="1692360" y="2852640"/>
            <a:ext cx="63244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6642000" y="15368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7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8"/>
          <p:cNvSpPr/>
          <p:nvPr/>
        </p:nvSpPr>
        <p:spPr>
          <a:xfrm>
            <a:off x="825480" y="2529000"/>
            <a:ext cx="558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ffff00"/>
                </a:solidFill>
                <a:latin typeface="Calibri"/>
                <a:ea typeface="Arial"/>
              </a:rPr>
              <a:t>Transfert des fichiers dans « listes  utilisateurs » du compte Winadmi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924E88-8411-432E-A0B7-1575D8D70C54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1212120" y="3257640"/>
            <a:ext cx="883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élèves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Outil Base élève établissement sur le site académique, 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ations, En XML, et sélectionnez Elèves sans adress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ExportXML_ElevesSansAdresses.zip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ontenant le fichier ElevesSansAdress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personnel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our obtenir ce fichier, allez dans l'outil Gestion des structures et des services (STSWeb) sur le site académique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s, Services, et Exporter les services à destination d'un éditeur privé de logiciel de gestion des no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services_RNE_AAAA.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D4DB63-4418-4286-A48F-47DE7051B4A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4"/>
          <a:stretch/>
        </p:blipFill>
        <p:spPr>
          <a:xfrm>
            <a:off x="969840" y="2060640"/>
            <a:ext cx="70837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86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88" name="Picture 9" descr=""/>
          <p:cNvPicPr/>
          <p:nvPr/>
        </p:nvPicPr>
        <p:blipFill>
          <a:blip r:embed="rId6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09F8B-38B9-4A85-9EF8-68013AF8EA8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4"/>
          <a:stretch/>
        </p:blipFill>
        <p:spPr>
          <a:xfrm>
            <a:off x="878040" y="1560600"/>
            <a:ext cx="2614320" cy="16095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5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97" name="Picture 9" descr=""/>
          <p:cNvPicPr/>
          <p:nvPr/>
        </p:nvPicPr>
        <p:blipFill>
          <a:blip r:embed="rId6"/>
          <a:stretch/>
        </p:blipFill>
        <p:spPr>
          <a:xfrm>
            <a:off x="3367080" y="1700280"/>
            <a:ext cx="577692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9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0981E-F567-41CF-BC21-2EBFAD6D1FC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825480" y="2003400"/>
            <a:ext cx="820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e à jour à distance sur le serveur 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 faire régulièrem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Picture 9" descr=""/>
          <p:cNvPicPr/>
          <p:nvPr/>
        </p:nvPicPr>
        <p:blipFill>
          <a:blip r:embed="rId5"/>
          <a:stretch/>
        </p:blipFill>
        <p:spPr>
          <a:xfrm>
            <a:off x="1581120" y="2987640"/>
            <a:ext cx="58388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08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F2EB40-8FD3-4F5F-91FB-D81D1395AD7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166680" y="313704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Picture 8" descr=""/>
          <p:cNvPicPr/>
          <p:nvPr/>
        </p:nvPicPr>
        <p:blipFill>
          <a:blip r:embed="rId4"/>
          <a:stretch/>
        </p:blipFill>
        <p:spPr>
          <a:xfrm>
            <a:off x="2556000" y="2003400"/>
            <a:ext cx="5397480" cy="4286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" descr=""/>
          <p:cNvPicPr/>
          <p:nvPr/>
        </p:nvPicPr>
        <p:blipFill>
          <a:blip r:embed="rId5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1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D47CD2-471F-4F81-AF4B-CD8696218C3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8" descr=""/>
          <p:cNvPicPr/>
          <p:nvPr/>
        </p:nvPicPr>
        <p:blipFill>
          <a:blip r:embed="rId5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25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27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8E1175-DC03-4B76-99A1-46EB5C49CDE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2" name="Picture 9" descr=""/>
          <p:cNvPicPr/>
          <p:nvPr/>
        </p:nvPicPr>
        <p:blipFill>
          <a:blip r:embed="rId5"/>
          <a:stretch/>
        </p:blipFill>
        <p:spPr>
          <a:xfrm>
            <a:off x="3276720" y="2060640"/>
            <a:ext cx="38606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34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36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2C08E-2C9C-4ABD-B922-9B5D1852B3E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1763640" y="2421000"/>
            <a:ext cx="657864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3A72AB-4080-4930-BED2-0188A7ECC5E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9" name="Picture 9" descr=""/>
          <p:cNvPicPr/>
          <p:nvPr/>
        </p:nvPicPr>
        <p:blipFill>
          <a:blip r:embed="rId5"/>
          <a:stretch/>
        </p:blipFill>
        <p:spPr>
          <a:xfrm>
            <a:off x="2909880" y="2165400"/>
            <a:ext cx="569448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0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0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6"/>
          <a:stretch/>
        </p:blipFill>
        <p:spPr>
          <a:xfrm>
            <a:off x="1090440" y="2871720"/>
            <a:ext cx="7804440" cy="1176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FD7C6-6474-4B22-840B-C5205A5BB6C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7"/>
          <a:stretch/>
        </p:blipFill>
        <p:spPr>
          <a:xfrm>
            <a:off x="3780000" y="3776760"/>
            <a:ext cx="9712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DA257-45BE-4751-BF89-23A928989CD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5"/>
          <a:stretch/>
        </p:blipFill>
        <p:spPr>
          <a:xfrm>
            <a:off x="1187280" y="1873080"/>
            <a:ext cx="3063960" cy="15782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6"/>
          <a:stretch/>
        </p:blipFill>
        <p:spPr>
          <a:xfrm>
            <a:off x="1393920" y="3510000"/>
            <a:ext cx="7524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EA64F-499C-446E-9E71-1EEA8BC11AB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5D9571-3EC6-4C1C-804A-191BC5126C7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874800" y="1916280"/>
            <a:ext cx="1536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appor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5" name="Picture 10" descr=""/>
          <p:cNvPicPr/>
          <p:nvPr/>
        </p:nvPicPr>
        <p:blipFill>
          <a:blip r:embed="rId5"/>
          <a:stretch/>
        </p:blipFill>
        <p:spPr>
          <a:xfrm>
            <a:off x="2700360" y="2003400"/>
            <a:ext cx="61610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"/>
          <p:cNvGrpSpPr/>
          <p:nvPr/>
        </p:nvGrpSpPr>
        <p:grpSpPr>
          <a:xfrm>
            <a:off x="176040" y="-6480"/>
            <a:ext cx="8790120" cy="1382760"/>
            <a:chOff x="176040" y="-6480"/>
            <a:chExt cx="8790120" cy="1382760"/>
          </a:xfrm>
        </p:grpSpPr>
        <p:pic>
          <p:nvPicPr>
            <p:cNvPr id="877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-6480"/>
              <a:ext cx="87901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176040" y="-6480"/>
              <a:ext cx="8790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79" name="Picture 4" descr=""/>
          <p:cNvPicPr/>
          <p:nvPr/>
        </p:nvPicPr>
        <p:blipFill>
          <a:blip r:embed="rId2"/>
          <a:stretch/>
        </p:blipFill>
        <p:spPr>
          <a:xfrm>
            <a:off x="901800" y="6345360"/>
            <a:ext cx="8205840" cy="68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"/>
          <p:cNvPicPr/>
          <p:nvPr/>
        </p:nvPicPr>
        <p:blipFill>
          <a:blip r:embed="rId3"/>
          <a:stretch/>
        </p:blipFill>
        <p:spPr>
          <a:xfrm>
            <a:off x="146160" y="1163520"/>
            <a:ext cx="5930640" cy="85428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6"/>
          <p:cNvSpPr/>
          <p:nvPr/>
        </p:nvSpPr>
        <p:spPr>
          <a:xfrm>
            <a:off x="342720" y="1773360"/>
            <a:ext cx="7095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collèg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infrastructure réseau : VDIS « LA CAMIF 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Lycé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l’infrastructure réseau : Les UT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6"/>
          <a:stretch/>
        </p:blipFill>
        <p:spPr>
          <a:xfrm>
            <a:off x="6080040" y="1197000"/>
            <a:ext cx="219096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"/>
          <p:cNvPicPr/>
          <p:nvPr/>
        </p:nvPicPr>
        <p:blipFill>
          <a:blip r:embed="rId7"/>
          <a:stretch/>
        </p:blipFill>
        <p:spPr>
          <a:xfrm>
            <a:off x="324000" y="5572080"/>
            <a:ext cx="8570880" cy="8589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9"/>
          <p:cNvSpPr/>
          <p:nvPr/>
        </p:nvSpPr>
        <p:spPr>
          <a:xfrm>
            <a:off x="980640" y="611496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ttp://www3.ac-lille.fr/crid-systeme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15FE88-D4F4-4744-9F6D-A049756CBDB9}" type="slidenum">
              <a:rPr b="0" lang="fr-FR" sz="1400" spc="-1" strike="noStrike">
                <a:solidFill>
                  <a:srgbClr val="adae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7207A8-C7E6-4F1C-912E-B3D5DC005D0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826920" y="4618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un réseau Kwartz, un utilisateur doit faire partie d’un group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Nous allons donc créer un groupe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Gestion des groupes, Ajouter un groupe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116520" y="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alibri"/>
                <a:ea typeface="Arial"/>
              </a:rPr>
              <a:t>Création d’un grou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392120" y="1387440"/>
            <a:ext cx="6264360" cy="473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1177920" y="1501920"/>
            <a:ext cx="7792920" cy="473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3"/>
          <a:stretch/>
        </p:blipFill>
        <p:spPr>
          <a:xfrm>
            <a:off x="880920" y="52560"/>
            <a:ext cx="176400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AD486-CC50-4373-8E1B-BCAD3A5E42C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3"/>
          <a:stretch/>
        </p:blipFill>
        <p:spPr>
          <a:xfrm>
            <a:off x="1036800" y="768240"/>
            <a:ext cx="8051760" cy="506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4"/>
          <a:stretch/>
        </p:blipFill>
        <p:spPr>
          <a:xfrm>
            <a:off x="219240" y="1467000"/>
            <a:ext cx="4760640" cy="4781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5"/>
          <a:stretch/>
        </p:blipFill>
        <p:spPr>
          <a:xfrm>
            <a:off x="5129280" y="1468440"/>
            <a:ext cx="3960720" cy="4707000"/>
          </a:xfrm>
          <a:prstGeom prst="rect">
            <a:avLst/>
          </a:prstGeom>
          <a:ln w="0">
            <a:noFill/>
          </a:ln>
        </p:spPr>
      </p:pic>
      <p:sp>
        <p:nvSpPr>
          <p:cNvPr id="622" name="ZoneTexte 1"/>
          <p:cNvSpPr/>
          <p:nvPr/>
        </p:nvSpPr>
        <p:spPr>
          <a:xfrm>
            <a:off x="1095480" y="11206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Affecter un compte utilisateur au groupe : …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25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7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1090440" y="3498840"/>
            <a:ext cx="7804440" cy="14810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4481D3-EA41-4517-9B31-27B0ADEB1CB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7661160" y="20606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34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36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"/>
          <p:cNvPicPr/>
          <p:nvPr/>
        </p:nvPicPr>
        <p:blipFill>
          <a:blip r:embed="rId5"/>
          <a:stretch/>
        </p:blipFill>
        <p:spPr>
          <a:xfrm>
            <a:off x="828720" y="1627200"/>
            <a:ext cx="7802640" cy="14810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B060CE-EEA9-4969-B96E-01316704F78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607400" y="3141720"/>
            <a:ext cx="61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va utiliser un logiciel gratuit qui va nous permettre de fai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’importation des nouveaux arriva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modification des comptes (passage d’une classe à une aut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suppression des comptes devenus inuti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utilisera SconetKwartz téléchargeable à l’adresse suivant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http://geometrix.free.fr/jgressier/ir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46930-6F63-4C20-9624-AD038424AFA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ZoneTexte 1"/>
          <p:cNvSpPr/>
          <p:nvPr/>
        </p:nvSpPr>
        <p:spPr>
          <a:xfrm>
            <a:off x="1356840" y="2506680"/>
            <a:ext cx="652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serveur étant « neuf », on va créer les utilisateurs d’une année 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xtraire le fichier des élèves avec Siècle à l’administr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renommer eleves.csv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placer dans le répertoire d’installation de Sconet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2C06A2-703B-4C05-B53B-87229EE7731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10T08:00:58Z</dcterms:modified>
  <cp:revision>179</cp:revision>
  <dc:subject/>
  <dc:title>ACCOMPAGNEMENT  DES ENSEIGNANTS RESSOURCES TICE</dc:title>
</cp:coreProperties>
</file>