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dt" idx="27"/>
          </p:nvPr>
        </p:nvSpPr>
        <p:spPr>
          <a:xfrm>
            <a:off x="3884400" y="-360"/>
            <a:ext cx="29588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sldNum" idx="28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03536-876F-4283-96C1-DE3032F398D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71F21-6987-4CFB-9EAD-AA52373BF15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E51F6-7711-4BC4-87FC-E35100D458C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A4355-E2B3-45E4-9798-584797E235B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436D9-7887-4F2E-A072-061AC5F5FB0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3D553-B2EF-4B57-9D68-C0D9678DB96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B5D7A-1FD0-4688-981A-83FA07AAC4F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E7EA5-05F4-4A06-8EAF-E9E618E771D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73334-30AE-4572-961C-75A966E3520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E2B04-8ACC-4A38-A9A7-2FA423B8C0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87A38-389B-4954-813B-980D7BA6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CDA89-59C0-4664-A883-5131A2F2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35D18-9119-4B6D-8649-FF2CD413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DDE3D-28FB-4A6B-B850-589F4E67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77591-1420-41C8-BC4C-E68429F7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27970-0DE4-4FFC-9C72-8B883081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65B94-8EEB-4430-89CE-33055E89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8F75E-5FE1-4E13-997A-953F4F7B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DE3F1-DE75-479D-979E-7ED15D3A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56571-CFBC-47CD-AB6D-436693F9B6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39D033-58E3-4B79-8634-C7D0A6737C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93501-8A41-4C49-BC14-1DB32E20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01BBD6-33BF-42AE-B2E8-01EA64BB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17952A-78EA-4D96-BB9C-85210355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C5C9AF-C82B-484B-8ABB-FCF5FD47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9807E3-39CE-4CD2-92D2-B67D1D52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215984-87BF-494D-96BE-71F3A752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9129D1-127A-42C6-9810-68D226C3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4056E2-BBDC-4A7C-B43B-EB4193C8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4C6C36-CDD6-45F1-9600-884E70DC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1CD29C-A99F-465A-B58C-93B8294B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07E7EE-0862-4792-AFC4-6F7022D3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F8FE9-9D99-4BE3-A8EA-24A9DBC3DF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5011E1-C69F-48EC-ACEA-1A4E17A7BA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5B0CFF-E810-4375-87AB-163D8A9094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B06E6F-0F6F-4812-AD04-781480FD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DE08E0-04BA-4A55-A527-16EE7EE9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0137DC-E4FD-4E66-8E55-2471BF4C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EF936F-61AB-4B64-8FA5-E5D1C8A1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190FD0-3809-409C-A03B-CF8D80DF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C72E2E-7D6C-4F89-B63B-DC796104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BAB268-A892-4F2A-BEBA-668DC092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FB2E20-6D9D-4488-985F-C1697F8A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FE261-37E6-4601-9732-3E9C81617A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E48F14-6B23-47FD-9097-453F7D89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384FE6-809E-4364-8D9F-8955F70A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606F20-5048-49DA-8342-F8D83F3A9E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B5EE5-5B96-4956-A7FD-5D2F93B233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B0712-CFC0-490F-960F-26D2256C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53CD7-A315-45D8-A686-5D2E907B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5837E-AAEC-43AB-A3C8-92C4DDFE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7BA85-2052-4CD3-8A60-EAA9EE8F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145D0-548A-428C-88B7-B2ACA109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41D4F-58BF-4597-B654-84D1119D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F3354-EB33-4E8B-8BC1-86F46A33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05532-D237-48BC-8EE5-CDD74055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E4BF2-C3A5-433C-A9AF-35456E6C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6D001-8454-4547-A691-AC63F6BA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0DE67-5516-430E-A0D4-55BB845D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36AF7-E132-47EE-86FF-9E89B834FA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991FE0-C09B-48A2-A057-1C2E6C0A1E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FB3947-6B34-4497-B6B8-DDB46AF5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0C4747-9DEF-4CF3-B5D8-74FCF513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6D7272-9724-4A47-8EF2-BB2A2DF7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DBB355-6CDC-4535-875A-2200E7EC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5C38C-CE6C-4719-A42C-E2B1E2CB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3F6DEE-E743-40AB-8BC6-FFE70D42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80E045-9312-43B9-ACEA-450707E4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8055ED-4557-468E-B83E-BB626C74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A34F7B-EC0A-4A8A-B643-A72DBDE5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6C9399-000C-4E00-80A0-DA45F2F3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B91768-A90D-4FE5-BEA4-EB98B2F1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BD4147-5944-477D-8523-40F2083AA4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D5792-33E8-4A25-9298-019B179B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C8DA0-C9D3-4939-96C7-EC796BF7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58A25-29B7-4AD0-8878-35229736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8A4E9-A98F-4917-963B-1029D5AA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DDA33-2BD4-4943-A599-F1D82BA2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C4FCA-8A11-4275-B264-2779FF17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1D1C3-3E37-45DD-AB8E-EEBEC55A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6D8B8-FA0A-49F3-974B-1FE4C4B6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68C1C-744E-4914-9A4F-4C9A9BC0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19439-EA92-4A6A-A762-A9A8F69FD7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74C1-8B50-4F75-8AA4-6B0328A0F9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0A02-4E1D-4CAD-BAA0-8A17744B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02C5-DD54-4502-851A-C816C0DC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D62F-E179-4A49-B201-3F34C703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1360-0301-4160-8719-8E4C0AE7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F589B-7086-42AA-8734-5194C177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6334-F937-46C9-8BE9-0D0488C9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16E0-195C-4F94-BC76-641806C3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D761-8B54-4660-A008-B82369DB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0B61-CD9A-4943-9CDE-5D1D5828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CF6C-F8BF-4147-85A3-30555348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0BF0-A0F8-4DEC-ADB1-E3D8FB56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4023-CB97-4A94-908B-B595631EE1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203D5-6E8A-4D51-BE43-78362BCD3C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D9FD0C-2252-4702-A905-6E44EE1E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D4DAAD-04F3-4B77-9710-9D856AE2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7C682-0A35-45F6-8BA0-38DBE93F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F2F51-A5CE-41D5-B598-A20B8A63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1B5549-CA46-4987-AAE2-A13B73B5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A4D947-AFCF-43C1-AA53-D27087C8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F94996-E0A5-42C0-B05B-88BCC003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06A070-13A3-4204-9BF8-F807E2B2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29AD77-5862-4C11-9A49-CC30456F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29B54B-0A00-4DAC-A664-C599AD3D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C6443-95FE-4A5E-A918-3DBB174A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A973CB-318C-4FC6-B6EB-A0E350DE4D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228665-AC31-464A-B94F-2E2B624536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6E07E-ED06-46EC-B2C3-7D8EADA1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C1B00F-F030-4C90-8813-FE34C36C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29DBF5-F3F6-4048-9812-4666AACC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DBF890-0C4E-4756-AB67-E2EA8C1B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72A83F-1393-4A51-9288-C420C7BF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5E087F-F29F-47E5-94AA-B882CE7C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4568CC-31EA-4E7C-905A-D719C9FA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561F41-6453-4517-8E43-7EB2A2B9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3610C0-279F-42ED-8900-4F9F669B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C3A558-C6C7-4801-9F09-20E685D1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D434EC-89DE-489F-A559-FD29DB64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EEF10-81E6-4406-943C-0C92E6E2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542FB1-D260-49CA-925E-015790FD3B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9ED63-079E-4E72-A3EC-9387FFFB92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B6F0D-768F-4C4C-9183-92522B27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53A83-D43E-4CBE-B445-AB8447F6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077B8-82B0-459B-BD34-BBFC3230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E7A24-D063-4569-87F6-09A2923F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65B39-2FBA-4539-B758-9E38FCED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C9DE7-828D-4464-AFB3-9545829C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0036B-D42F-4581-BCF0-8F3D1C56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6D0B7-03FF-4D37-9BC1-851EF67F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AD459-5D60-4363-B8EC-F0EA57E1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49A68-4454-4E92-A409-EC354984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8D26C-C9A3-43D5-A595-4F8927EF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5EDBD-66F9-4C6B-8F1B-90500F3855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3CEC89-3483-4DD6-8E98-35EEFD3214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05B627-BAAD-4714-83FF-AC1589C0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C4AFD6-3B45-4B3D-AA4D-8DA517EA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5BE0DF-90C5-49D1-82BD-2822330E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E25BA3-A30B-4784-8DC9-00663904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7922FE-EBB0-4AF4-BB8B-11829DFA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DE9D67-EAD9-4937-A0A6-667EBA1F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3F845-4EA1-4777-AEB6-8AE40654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0874BA-73C1-4D61-BCF1-2C7E36C3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03D479-145E-4222-AC4B-36FD17DA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E0B86F-184D-4CF0-A7CE-4F7E92BD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CFA643-8F8E-4F6B-A7B9-3931FE4E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11F0E9-9362-42E8-9DA8-575AC95EB1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985E08-D4EC-47D6-85E5-93656A805D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18C842-A631-4FAB-8D21-2702F9D6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FF3227-6B5D-400E-A0D4-CEE71850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572225-AD35-4383-8B14-B4BCC26F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E54112-F0B6-4FB2-9851-6C588068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C2B64-0D7C-4F66-8358-961C16F6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D72700-4A5F-46F3-96E3-46B9189F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039FA4-CF5D-4CD6-ABE0-57D22E8F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FA57E0-8F43-4742-8B29-1CC7E50D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7077A0-DEA2-42E3-BB71-4ABC6CB5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B54F14-D3CD-4F63-8173-435E4EC9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D7AC83-2764-4757-A43C-D15425E7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B46AF7-5183-454C-8422-5F1564AB4A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79E3E-CAF0-4138-8C58-319F3EF6C6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CF9ED-A9E9-4FAB-B907-2043141C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368A1-4993-4ADF-85E9-5E4F2F5B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1208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120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5000" y="6353280"/>
            <a:ext cx="15112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6282B-9DEF-4E31-B748-E6D001820724}" type="datetime"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6094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543800" y="6353280"/>
            <a:ext cx="97776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431C4-F63F-40EC-BD57-5C33FE47FA4F}" type="slidenum"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170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6840" y="2179800"/>
            <a:ext cx="82170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196848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EBEE9-C672-420C-800D-65A106246418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sldNum" idx="20"/>
          </p:nvPr>
        </p:nvSpPr>
        <p:spPr>
          <a:xfrm>
            <a:off x="8152920" y="6356520"/>
            <a:ext cx="52092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3A34DCB-3B5E-4FEA-9B52-1D2999F5B1AF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170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6840" y="2179800"/>
            <a:ext cx="82170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1"/>
          </p:nvPr>
        </p:nvSpPr>
        <p:spPr>
          <a:xfrm>
            <a:off x="457200" y="6356520"/>
            <a:ext cx="196848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000C1-C7F4-4019-872D-D77E1380A19B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2"/>
          </p:nvPr>
        </p:nvSpPr>
        <p:spPr>
          <a:xfrm>
            <a:off x="8152920" y="6356520"/>
            <a:ext cx="52092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6FD5B7B-7B6B-4217-9F1E-36A0FF64233E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1"/>
          <p:cNvGrpSpPr/>
          <p:nvPr/>
        </p:nvGrpSpPr>
        <p:grpSpPr>
          <a:xfrm>
            <a:off x="0" y="0"/>
            <a:ext cx="9136080" cy="6843600"/>
            <a:chOff x="0" y="0"/>
            <a:chExt cx="9136080" cy="6843600"/>
          </a:xfrm>
        </p:grpSpPr>
        <p:sp>
          <p:nvSpPr>
            <p:cNvPr id="482" name="Rectangle 2"/>
            <p:cNvSpPr/>
            <p:nvPr/>
          </p:nvSpPr>
          <p:spPr>
            <a:xfrm>
              <a:off x="0" y="0"/>
              <a:ext cx="825480" cy="6843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3" name="Line 3"/>
            <p:cNvSpPr/>
            <p:nvPr/>
          </p:nvSpPr>
          <p:spPr>
            <a:xfrm>
              <a:off x="0" y="366840"/>
              <a:ext cx="913140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4" name="Line 4"/>
            <p:cNvSpPr/>
            <p:nvPr/>
          </p:nvSpPr>
          <p:spPr>
            <a:xfrm>
              <a:off x="0" y="452520"/>
              <a:ext cx="91360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5" name="Line 5"/>
            <p:cNvSpPr/>
            <p:nvPr/>
          </p:nvSpPr>
          <p:spPr>
            <a:xfrm>
              <a:off x="0" y="6305400"/>
              <a:ext cx="91314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6" name="Line 6"/>
            <p:cNvSpPr/>
            <p:nvPr/>
          </p:nvSpPr>
          <p:spPr>
            <a:xfrm>
              <a:off x="0" y="6419880"/>
              <a:ext cx="913608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23"/>
          </p:nvPr>
        </p:nvSpPr>
        <p:spPr>
          <a:xfrm>
            <a:off x="1066320" y="6399360"/>
            <a:ext cx="189252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FDBCA-A947-43BA-972F-CF7443A14C9F}" type="datetime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10"/>
          <p:cNvSpPr/>
          <p:nvPr/>
        </p:nvSpPr>
        <p:spPr>
          <a:xfrm>
            <a:off x="35053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4"/>
          </p:nvPr>
        </p:nvSpPr>
        <p:spPr>
          <a:xfrm>
            <a:off x="6934320" y="639936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F8480-6B36-4E12-8445-63D612D2D343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1"/>
          <p:cNvGrpSpPr/>
          <p:nvPr/>
        </p:nvGrpSpPr>
        <p:grpSpPr>
          <a:xfrm>
            <a:off x="0" y="0"/>
            <a:ext cx="9136080" cy="6843600"/>
            <a:chOff x="0" y="0"/>
            <a:chExt cx="9136080" cy="6843600"/>
          </a:xfrm>
        </p:grpSpPr>
        <p:sp>
          <p:nvSpPr>
            <p:cNvPr id="529" name="Rectangle 2"/>
            <p:cNvSpPr/>
            <p:nvPr/>
          </p:nvSpPr>
          <p:spPr>
            <a:xfrm>
              <a:off x="0" y="0"/>
              <a:ext cx="825480" cy="6843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0" name="Line 3"/>
            <p:cNvSpPr/>
            <p:nvPr/>
          </p:nvSpPr>
          <p:spPr>
            <a:xfrm>
              <a:off x="0" y="366840"/>
              <a:ext cx="913140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1" name="Line 4"/>
            <p:cNvSpPr/>
            <p:nvPr/>
          </p:nvSpPr>
          <p:spPr>
            <a:xfrm>
              <a:off x="0" y="452520"/>
              <a:ext cx="91360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2" name="Line 5"/>
            <p:cNvSpPr/>
            <p:nvPr/>
          </p:nvSpPr>
          <p:spPr>
            <a:xfrm>
              <a:off x="0" y="6305400"/>
              <a:ext cx="91314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3" name="Line 6"/>
            <p:cNvSpPr/>
            <p:nvPr/>
          </p:nvSpPr>
          <p:spPr>
            <a:xfrm>
              <a:off x="0" y="6419880"/>
              <a:ext cx="913608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25"/>
          </p:nvPr>
        </p:nvSpPr>
        <p:spPr>
          <a:xfrm>
            <a:off x="1066320" y="6399360"/>
            <a:ext cx="189252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644F1-161A-40E9-856E-3A9360D06C40}" type="datetime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35053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26"/>
          </p:nvPr>
        </p:nvSpPr>
        <p:spPr>
          <a:xfrm>
            <a:off x="6934320" y="639936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86F67-C573-4B7F-859A-71901400375E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"/>
          <p:cNvGrpSpPr/>
          <p:nvPr/>
        </p:nvGrpSpPr>
        <p:grpSpPr>
          <a:xfrm>
            <a:off x="0" y="798480"/>
            <a:ext cx="9129240" cy="5892120"/>
            <a:chOff x="0" y="798480"/>
            <a:chExt cx="9129240" cy="5892120"/>
          </a:xfrm>
        </p:grpSpPr>
        <p:pic>
          <p:nvPicPr>
            <p:cNvPr id="43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798480"/>
              <a:ext cx="9119880" cy="588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3"/>
            <p:cNvSpPr/>
            <p:nvPr/>
          </p:nvSpPr>
          <p:spPr>
            <a:xfrm rot="10800000">
              <a:off x="9000" y="1153080"/>
              <a:ext cx="9120240" cy="55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5" name="Group 4"/>
          <p:cNvGrpSpPr/>
          <p:nvPr/>
        </p:nvGrpSpPr>
        <p:grpSpPr>
          <a:xfrm>
            <a:off x="0" y="987480"/>
            <a:ext cx="9129240" cy="4820760"/>
            <a:chOff x="0" y="987480"/>
            <a:chExt cx="9129240" cy="4820760"/>
          </a:xfrm>
        </p:grpSpPr>
        <p:pic>
          <p:nvPicPr>
            <p:cNvPr id="46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987480"/>
              <a:ext cx="9119880" cy="48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6"/>
            <p:cNvSpPr/>
            <p:nvPr/>
          </p:nvSpPr>
          <p:spPr>
            <a:xfrm rot="10800000">
              <a:off x="9000" y="1353240"/>
              <a:ext cx="9120240" cy="44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170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2179800"/>
            <a:ext cx="82170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457200" y="6356520"/>
            <a:ext cx="196848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BB497-98D3-4598-A424-266052692974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8152920" y="6356520"/>
            <a:ext cx="52092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6CB15CB-97ED-4DC2-9B3C-8BC022D2EB63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1"/>
          <p:cNvGrpSpPr/>
          <p:nvPr/>
        </p:nvGrpSpPr>
        <p:grpSpPr>
          <a:xfrm>
            <a:off x="0" y="0"/>
            <a:ext cx="9136080" cy="6843600"/>
            <a:chOff x="0" y="0"/>
            <a:chExt cx="9136080" cy="6843600"/>
          </a:xfrm>
        </p:grpSpPr>
        <p:sp>
          <p:nvSpPr>
            <p:cNvPr id="90" name="Rectangle 2"/>
            <p:cNvSpPr/>
            <p:nvPr/>
          </p:nvSpPr>
          <p:spPr>
            <a:xfrm>
              <a:off x="0" y="0"/>
              <a:ext cx="825480" cy="6843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Line 3"/>
            <p:cNvSpPr/>
            <p:nvPr/>
          </p:nvSpPr>
          <p:spPr>
            <a:xfrm>
              <a:off x="0" y="366840"/>
              <a:ext cx="913608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Line 4"/>
            <p:cNvSpPr/>
            <p:nvPr/>
          </p:nvSpPr>
          <p:spPr>
            <a:xfrm>
              <a:off x="0" y="452520"/>
              <a:ext cx="91314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0" y="6305400"/>
              <a:ext cx="91360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0" y="6419880"/>
              <a:ext cx="913608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5"/>
          </p:nvPr>
        </p:nvSpPr>
        <p:spPr>
          <a:xfrm>
            <a:off x="1066320" y="6399360"/>
            <a:ext cx="189252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DFC69-B0B2-4B60-9CE2-B356169E468D}" type="datetime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35053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6"/>
          </p:nvPr>
        </p:nvSpPr>
        <p:spPr>
          <a:xfrm>
            <a:off x="6934320" y="639936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0FB7B-78D6-4E6C-8DAE-CD9F34E727FE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"/>
          <p:cNvGrpSpPr/>
          <p:nvPr/>
        </p:nvGrpSpPr>
        <p:grpSpPr>
          <a:xfrm>
            <a:off x="0" y="0"/>
            <a:ext cx="9136080" cy="6843600"/>
            <a:chOff x="0" y="0"/>
            <a:chExt cx="9136080" cy="6843600"/>
          </a:xfrm>
        </p:grpSpPr>
        <p:sp>
          <p:nvSpPr>
            <p:cNvPr id="137" name="Rectangle 2"/>
            <p:cNvSpPr/>
            <p:nvPr/>
          </p:nvSpPr>
          <p:spPr>
            <a:xfrm>
              <a:off x="0" y="0"/>
              <a:ext cx="825480" cy="6843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8" name="Line 3"/>
            <p:cNvSpPr/>
            <p:nvPr/>
          </p:nvSpPr>
          <p:spPr>
            <a:xfrm>
              <a:off x="0" y="366840"/>
              <a:ext cx="913608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" name="Line 4"/>
            <p:cNvSpPr/>
            <p:nvPr/>
          </p:nvSpPr>
          <p:spPr>
            <a:xfrm>
              <a:off x="0" y="452520"/>
              <a:ext cx="91314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0" name="Line 5"/>
            <p:cNvSpPr/>
            <p:nvPr/>
          </p:nvSpPr>
          <p:spPr>
            <a:xfrm>
              <a:off x="0" y="6305400"/>
              <a:ext cx="91360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0" y="6419880"/>
              <a:ext cx="913608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1066320" y="6399360"/>
            <a:ext cx="189252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44800-DC5E-42CC-95BE-5C1823D1DC95}" type="datetime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5053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8"/>
          </p:nvPr>
        </p:nvSpPr>
        <p:spPr>
          <a:xfrm>
            <a:off x="6934320" y="639936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B0785-3610-46FB-9C58-560CCCFD155B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" descr="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1208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120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9"/>
          </p:nvPr>
        </p:nvSpPr>
        <p:spPr>
          <a:xfrm>
            <a:off x="5715000" y="6356520"/>
            <a:ext cx="151128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855184D-9253-431A-8425-43AB941BA720}" type="datetime">
              <a: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29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0"/>
          </p:nvPr>
        </p:nvSpPr>
        <p:spPr>
          <a:xfrm>
            <a:off x="7543800" y="6356520"/>
            <a:ext cx="97776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E056ACBC-8F42-4DD2-B840-7BE9BA4A4EC9}" type="slidenum">
              <a: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1208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120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1"/>
          </p:nvPr>
        </p:nvSpPr>
        <p:spPr>
          <a:xfrm>
            <a:off x="5715000" y="6356520"/>
            <a:ext cx="151128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2F7278F-3A30-4230-A9DE-50E02C3846CB}" type="datetime">
              <a: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29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7776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B4C30251-DE7D-42A5-890F-BC4316A2D42B}" type="slidenum">
              <a: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1208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120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5715000" y="6356520"/>
            <a:ext cx="151128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0EBEF99-0698-41B8-98AC-3631B2DC089B}" type="datetime">
              <a: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29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7543800" y="6356520"/>
            <a:ext cx="97776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7A4F396C-F941-4DCA-92BC-9FF02446768B}" type="slidenum">
              <a: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"/>
          <p:cNvGrpSpPr/>
          <p:nvPr/>
        </p:nvGrpSpPr>
        <p:grpSpPr>
          <a:xfrm>
            <a:off x="0" y="798480"/>
            <a:ext cx="9129240" cy="5892120"/>
            <a:chOff x="0" y="798480"/>
            <a:chExt cx="9129240" cy="5892120"/>
          </a:xfrm>
        </p:grpSpPr>
        <p:pic>
          <p:nvPicPr>
            <p:cNvPr id="309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798480"/>
              <a:ext cx="9119880" cy="588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3"/>
            <p:cNvSpPr/>
            <p:nvPr/>
          </p:nvSpPr>
          <p:spPr>
            <a:xfrm rot="10800000">
              <a:off x="9000" y="1153080"/>
              <a:ext cx="9120240" cy="55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11" name="Group 4"/>
          <p:cNvGrpSpPr/>
          <p:nvPr/>
        </p:nvGrpSpPr>
        <p:grpSpPr>
          <a:xfrm>
            <a:off x="0" y="987480"/>
            <a:ext cx="9129240" cy="4820760"/>
            <a:chOff x="0" y="987480"/>
            <a:chExt cx="9129240" cy="4820760"/>
          </a:xfrm>
        </p:grpSpPr>
        <p:pic>
          <p:nvPicPr>
            <p:cNvPr id="312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987480"/>
              <a:ext cx="9119880" cy="48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6"/>
            <p:cNvSpPr/>
            <p:nvPr/>
          </p:nvSpPr>
          <p:spPr>
            <a:xfrm rot="10800000">
              <a:off x="9000" y="1353240"/>
              <a:ext cx="9120240" cy="44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14" name="Group 7"/>
          <p:cNvGrpSpPr/>
          <p:nvPr/>
        </p:nvGrpSpPr>
        <p:grpSpPr>
          <a:xfrm>
            <a:off x="0" y="1176480"/>
            <a:ext cx="9129240" cy="3761640"/>
            <a:chOff x="0" y="1176480"/>
            <a:chExt cx="9129240" cy="3761640"/>
          </a:xfrm>
        </p:grpSpPr>
        <p:pic>
          <p:nvPicPr>
            <p:cNvPr id="315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1176480"/>
              <a:ext cx="9119880" cy="37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9"/>
            <p:cNvSpPr/>
            <p:nvPr/>
          </p:nvSpPr>
          <p:spPr>
            <a:xfrm rot="10800000">
              <a:off x="9000" y="1533960"/>
              <a:ext cx="9120240" cy="34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170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6840" y="2179800"/>
            <a:ext cx="82170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457200" y="6356520"/>
            <a:ext cx="196848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F70A6-C643-4F94-B8AD-091991EDE01A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152920" y="6356520"/>
            <a:ext cx="52092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C3EEA25-6290-4EAF-8658-84ED1B6941D3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170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6840" y="2179800"/>
            <a:ext cx="82170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457200" y="6356520"/>
            <a:ext cx="196848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D0272-AC3D-487A-ACDB-788AA9719679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152920" y="6356520"/>
            <a:ext cx="52092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ED6B7A5-11A7-4964-AFAB-3D78DD32C3D0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1"/>
          <p:cNvGrpSpPr/>
          <p:nvPr/>
        </p:nvGrpSpPr>
        <p:grpSpPr>
          <a:xfrm>
            <a:off x="396720" y="5224320"/>
            <a:ext cx="8485200" cy="1335240"/>
            <a:chOff x="396720" y="5224320"/>
            <a:chExt cx="8485200" cy="1335240"/>
          </a:xfrm>
        </p:grpSpPr>
        <p:pic>
          <p:nvPicPr>
            <p:cNvPr id="591" name="Picture 2" descr=""/>
            <p:cNvPicPr/>
            <p:nvPr/>
          </p:nvPicPr>
          <p:blipFill>
            <a:blip r:embed="rId1"/>
            <a:stretch/>
          </p:blipFill>
          <p:spPr>
            <a:xfrm>
              <a:off x="396720" y="5224320"/>
              <a:ext cx="848520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3"/>
            <p:cNvSpPr/>
            <p:nvPr/>
          </p:nvSpPr>
          <p:spPr>
            <a:xfrm>
              <a:off x="396720" y="5224320"/>
              <a:ext cx="8485200" cy="13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593" name="Picture 4" descr=""/>
          <p:cNvPicPr/>
          <p:nvPr/>
        </p:nvPicPr>
        <p:blipFill>
          <a:blip r:embed="rId2"/>
          <a:stretch/>
        </p:blipFill>
        <p:spPr>
          <a:xfrm>
            <a:off x="1440" y="0"/>
            <a:ext cx="9142560" cy="334476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5"/>
          <p:cNvSpPr/>
          <p:nvPr/>
        </p:nvSpPr>
        <p:spPr>
          <a:xfrm>
            <a:off x="1440" y="0"/>
            <a:ext cx="9142560" cy="33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5" name="Text Box 6"/>
          <p:cNvSpPr/>
          <p:nvPr/>
        </p:nvSpPr>
        <p:spPr>
          <a:xfrm>
            <a:off x="1441440" y="3767040"/>
            <a:ext cx="6408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Calibri"/>
              </a:rPr>
              <a:t>Notions de base sur les réseau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Text Box 7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EECE3-3C18-4026-8A95-5CB4B05B099A}" type="slidenum">
              <a:rPr b="0" lang="fr-FR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1" descr=""/>
          <p:cNvPicPr/>
          <p:nvPr/>
        </p:nvPicPr>
        <p:blipFill>
          <a:blip r:embed="rId1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2"/>
          <p:cNvSpPr/>
          <p:nvPr/>
        </p:nvSpPr>
        <p:spPr>
          <a:xfrm>
            <a:off x="1655640" y="828720"/>
            <a:ext cx="21744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511280" y="-171360"/>
            <a:ext cx="6408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Calibri"/>
              </a:rPr>
              <a:t>Notions de base sur les réseau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00" name="Group 4"/>
          <p:cNvGrpSpPr/>
          <p:nvPr/>
        </p:nvGrpSpPr>
        <p:grpSpPr>
          <a:xfrm>
            <a:off x="5616720" y="1584360"/>
            <a:ext cx="3373200" cy="1573200"/>
            <a:chOff x="5616720" y="1584360"/>
            <a:chExt cx="3373200" cy="1573200"/>
          </a:xfrm>
        </p:grpSpPr>
        <p:grpSp>
          <p:nvGrpSpPr>
            <p:cNvPr id="601" name="Group 5"/>
            <p:cNvGrpSpPr/>
            <p:nvPr/>
          </p:nvGrpSpPr>
          <p:grpSpPr>
            <a:xfrm>
              <a:off x="6408720" y="1800360"/>
              <a:ext cx="1717560" cy="819000"/>
              <a:chOff x="6408720" y="1800360"/>
              <a:chExt cx="1717560" cy="819000"/>
            </a:xfrm>
          </p:grpSpPr>
          <p:pic>
            <p:nvPicPr>
              <p:cNvPr id="602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7296120" y="1800360"/>
                <a:ext cx="83016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Text Box 7"/>
              <p:cNvSpPr/>
              <p:nvPr/>
            </p:nvSpPr>
            <p:spPr>
              <a:xfrm>
                <a:off x="6408720" y="1909800"/>
                <a:ext cx="928800" cy="62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Calibri"/>
                  </a:rPr>
                  <a:t>internet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604" name="Oval 8"/>
            <p:cNvSpPr/>
            <p:nvPr/>
          </p:nvSpPr>
          <p:spPr>
            <a:xfrm>
              <a:off x="5616720" y="1584360"/>
              <a:ext cx="3373200" cy="1573200"/>
            </a:xfrm>
            <a:prstGeom prst="ellipse">
              <a:avLst/>
            </a:prstGeom>
            <a:noFill/>
            <a:ln w="36000">
              <a:solidFill>
                <a:srgbClr val="c5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5" name="Text Box 9"/>
            <p:cNvSpPr/>
            <p:nvPr/>
          </p:nvSpPr>
          <p:spPr>
            <a:xfrm>
              <a:off x="6696000" y="2664000"/>
              <a:ext cx="16891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63000" bIns="63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alibri"/>
                </a:rPr>
                <a:t>Réseau Interne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06" name="Text Box 10"/>
          <p:cNvSpPr/>
          <p:nvPr/>
        </p:nvSpPr>
        <p:spPr>
          <a:xfrm>
            <a:off x="4199040" y="5575320"/>
            <a:ext cx="1133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Text Box 11"/>
          <p:cNvSpPr/>
          <p:nvPr/>
        </p:nvSpPr>
        <p:spPr>
          <a:xfrm>
            <a:off x="1685880" y="571680"/>
            <a:ext cx="666612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ffff99"/>
                </a:solidFill>
                <a:latin typeface="Calibri"/>
              </a:rPr>
              <a:t>Un réseau informatique est un ensemble d'équipements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ffff99"/>
                </a:solidFill>
                <a:latin typeface="Calibri"/>
              </a:rPr>
              <a:t>reliés entre eux pour échanger des informa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Text Box 12"/>
          <p:cNvSpPr/>
          <p:nvPr/>
        </p:nvSpPr>
        <p:spPr>
          <a:xfrm>
            <a:off x="911160" y="4179960"/>
            <a:ext cx="1968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ous réseau salle 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Text Box 13"/>
          <p:cNvSpPr/>
          <p:nvPr/>
        </p:nvSpPr>
        <p:spPr>
          <a:xfrm>
            <a:off x="3672000" y="4176720"/>
            <a:ext cx="1968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ous réseau salle 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10" name="Group 14"/>
          <p:cNvGrpSpPr/>
          <p:nvPr/>
        </p:nvGrpSpPr>
        <p:grpSpPr>
          <a:xfrm>
            <a:off x="144360" y="1871640"/>
            <a:ext cx="5821560" cy="4381560"/>
            <a:chOff x="144360" y="1871640"/>
            <a:chExt cx="5821560" cy="4381560"/>
          </a:xfrm>
        </p:grpSpPr>
        <p:sp>
          <p:nvSpPr>
            <p:cNvPr id="611" name="Text Box 15"/>
            <p:cNvSpPr/>
            <p:nvPr/>
          </p:nvSpPr>
          <p:spPr>
            <a:xfrm>
              <a:off x="936720" y="1871640"/>
              <a:ext cx="35020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63000" bIns="63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alibri"/>
                </a:rPr>
                <a:t>Réseau pédagogique établissem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12" name="Picture 16" descr=""/>
            <p:cNvPicPr/>
            <p:nvPr/>
          </p:nvPicPr>
          <p:blipFill>
            <a:blip r:embed="rId3"/>
            <a:stretch/>
          </p:blipFill>
          <p:spPr>
            <a:xfrm>
              <a:off x="2505240" y="2658960"/>
              <a:ext cx="1123920" cy="15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Text Box 17"/>
            <p:cNvSpPr/>
            <p:nvPr/>
          </p:nvSpPr>
          <p:spPr>
            <a:xfrm>
              <a:off x="2448000" y="2371680"/>
              <a:ext cx="121428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serveu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4" name="Oval 18"/>
            <p:cNvSpPr/>
            <p:nvPr/>
          </p:nvSpPr>
          <p:spPr>
            <a:xfrm>
              <a:off x="723960" y="4579920"/>
              <a:ext cx="2220840" cy="1139760"/>
            </a:xfrm>
            <a:prstGeom prst="ellipse">
              <a:avLst/>
            </a:prstGeom>
            <a:solidFill>
              <a:srgbClr val="729fcf"/>
            </a:solidFill>
            <a:ln w="9360">
              <a:solidFill>
                <a:srgbClr val="c5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15" name="Picture 19" descr=""/>
            <p:cNvPicPr/>
            <p:nvPr/>
          </p:nvPicPr>
          <p:blipFill>
            <a:blip r:embed="rId4"/>
            <a:stretch/>
          </p:blipFill>
          <p:spPr>
            <a:xfrm>
              <a:off x="1020600" y="4748040"/>
              <a:ext cx="6033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0" descr=""/>
            <p:cNvPicPr/>
            <p:nvPr/>
          </p:nvPicPr>
          <p:blipFill>
            <a:blip r:embed="rId5"/>
            <a:stretch/>
          </p:blipFill>
          <p:spPr>
            <a:xfrm>
              <a:off x="1835280" y="5113440"/>
              <a:ext cx="6030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Text Box 21"/>
            <p:cNvSpPr/>
            <p:nvPr/>
          </p:nvSpPr>
          <p:spPr>
            <a:xfrm>
              <a:off x="995400" y="5318280"/>
              <a:ext cx="9396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alle 1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8" name="Oval 22"/>
            <p:cNvSpPr/>
            <p:nvPr/>
          </p:nvSpPr>
          <p:spPr>
            <a:xfrm>
              <a:off x="3456000" y="4545000"/>
              <a:ext cx="2004840" cy="1112760"/>
            </a:xfrm>
            <a:prstGeom prst="ellipse">
              <a:avLst/>
            </a:prstGeom>
            <a:solidFill>
              <a:srgbClr val="729fcf"/>
            </a:solidFill>
            <a:ln w="9360">
              <a:solidFill>
                <a:srgbClr val="c5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19" name="Picture 23" descr=""/>
            <p:cNvPicPr/>
            <p:nvPr/>
          </p:nvPicPr>
          <p:blipFill>
            <a:blip r:embed="rId6"/>
            <a:stretch/>
          </p:blipFill>
          <p:spPr>
            <a:xfrm>
              <a:off x="3816360" y="4916520"/>
              <a:ext cx="56664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24" descr=""/>
            <p:cNvPicPr/>
            <p:nvPr/>
          </p:nvPicPr>
          <p:blipFill>
            <a:blip r:embed="rId7"/>
            <a:stretch/>
          </p:blipFill>
          <p:spPr>
            <a:xfrm>
              <a:off x="4784760" y="4697280"/>
              <a:ext cx="56664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Text Box 25"/>
            <p:cNvSpPr/>
            <p:nvPr/>
          </p:nvSpPr>
          <p:spPr>
            <a:xfrm>
              <a:off x="4245120" y="5327640"/>
              <a:ext cx="7855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alle 2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2" name="Oval 26"/>
            <p:cNvSpPr/>
            <p:nvPr/>
          </p:nvSpPr>
          <p:spPr>
            <a:xfrm>
              <a:off x="144360" y="2303640"/>
              <a:ext cx="5821560" cy="3949560"/>
            </a:xfrm>
            <a:prstGeom prst="ellipse">
              <a:avLst/>
            </a:prstGeom>
            <a:noFill/>
            <a:ln w="36000">
              <a:solidFill>
                <a:srgbClr val="c5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23" name="Picture 27" descr=""/>
            <p:cNvPicPr/>
            <p:nvPr/>
          </p:nvPicPr>
          <p:blipFill>
            <a:blip r:embed="rId8"/>
            <a:stretch/>
          </p:blipFill>
          <p:spPr>
            <a:xfrm>
              <a:off x="1735200" y="4680000"/>
              <a:ext cx="617400" cy="426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1" descr=""/>
          <p:cNvPicPr/>
          <p:nvPr/>
        </p:nvPicPr>
        <p:blipFill>
          <a:blip r:embed="rId1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2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E58DB-1FD7-4891-B281-B2A64D667A06}" type="slidenum">
              <a:rPr b="0" lang="fr-F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26" name="Group 3"/>
          <p:cNvGrpSpPr/>
          <p:nvPr/>
        </p:nvGrpSpPr>
        <p:grpSpPr>
          <a:xfrm>
            <a:off x="5832360" y="896760"/>
            <a:ext cx="1717560" cy="819360"/>
            <a:chOff x="5832360" y="896760"/>
            <a:chExt cx="1717560" cy="819360"/>
          </a:xfrm>
        </p:grpSpPr>
        <p:pic>
          <p:nvPicPr>
            <p:cNvPr id="627" name="Picture 4" descr=""/>
            <p:cNvPicPr/>
            <p:nvPr/>
          </p:nvPicPr>
          <p:blipFill>
            <a:blip r:embed="rId2"/>
            <a:stretch/>
          </p:blipFill>
          <p:spPr>
            <a:xfrm>
              <a:off x="6719040" y="896760"/>
              <a:ext cx="830880" cy="8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Text Box 5"/>
            <p:cNvSpPr/>
            <p:nvPr/>
          </p:nvSpPr>
          <p:spPr>
            <a:xfrm>
              <a:off x="5832360" y="1008000"/>
              <a:ext cx="9327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interne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29" name="Group 6"/>
          <p:cNvGrpSpPr/>
          <p:nvPr/>
        </p:nvGrpSpPr>
        <p:grpSpPr>
          <a:xfrm>
            <a:off x="4149720" y="1363680"/>
            <a:ext cx="1398600" cy="930240"/>
            <a:chOff x="4149720" y="1363680"/>
            <a:chExt cx="1398600" cy="930240"/>
          </a:xfrm>
        </p:grpSpPr>
        <p:pic>
          <p:nvPicPr>
            <p:cNvPr id="630" name="Picture 7" descr=""/>
            <p:cNvPicPr/>
            <p:nvPr/>
          </p:nvPicPr>
          <p:blipFill>
            <a:blip r:embed="rId3"/>
            <a:stretch/>
          </p:blipFill>
          <p:spPr>
            <a:xfrm>
              <a:off x="4176720" y="1612800"/>
              <a:ext cx="1371600" cy="6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Text Box 8"/>
            <p:cNvSpPr/>
            <p:nvPr/>
          </p:nvSpPr>
          <p:spPr>
            <a:xfrm>
              <a:off x="4149720" y="1363680"/>
              <a:ext cx="87948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routeu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32" name="Group 9"/>
          <p:cNvGrpSpPr/>
          <p:nvPr/>
        </p:nvGrpSpPr>
        <p:grpSpPr>
          <a:xfrm>
            <a:off x="1655640" y="863640"/>
            <a:ext cx="1500480" cy="2370240"/>
            <a:chOff x="1655640" y="863640"/>
            <a:chExt cx="1500480" cy="2370240"/>
          </a:xfrm>
        </p:grpSpPr>
        <p:pic>
          <p:nvPicPr>
            <p:cNvPr id="633" name="Picture 10" descr=""/>
            <p:cNvPicPr/>
            <p:nvPr/>
          </p:nvPicPr>
          <p:blipFill>
            <a:blip r:embed="rId4"/>
            <a:stretch/>
          </p:blipFill>
          <p:spPr>
            <a:xfrm>
              <a:off x="1728720" y="1228680"/>
              <a:ext cx="1427400" cy="20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Text Box 11"/>
            <p:cNvSpPr/>
            <p:nvPr/>
          </p:nvSpPr>
          <p:spPr>
            <a:xfrm>
              <a:off x="1655640" y="863640"/>
              <a:ext cx="868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serveu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35" name="Group 12"/>
          <p:cNvGrpSpPr/>
          <p:nvPr/>
        </p:nvGrpSpPr>
        <p:grpSpPr>
          <a:xfrm>
            <a:off x="4176720" y="3095640"/>
            <a:ext cx="2058840" cy="1284120"/>
            <a:chOff x="4176720" y="3095640"/>
            <a:chExt cx="2058840" cy="1284120"/>
          </a:xfrm>
        </p:grpSpPr>
        <p:pic>
          <p:nvPicPr>
            <p:cNvPr id="636" name="Picture 13" descr=""/>
            <p:cNvPicPr/>
            <p:nvPr/>
          </p:nvPicPr>
          <p:blipFill>
            <a:blip r:embed="rId5"/>
            <a:stretch/>
          </p:blipFill>
          <p:spPr>
            <a:xfrm>
              <a:off x="4176720" y="3362400"/>
              <a:ext cx="205884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Text Box 14"/>
            <p:cNvSpPr/>
            <p:nvPr/>
          </p:nvSpPr>
          <p:spPr>
            <a:xfrm>
              <a:off x="4478400" y="3095640"/>
              <a:ext cx="766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switch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38" name="Oval 15"/>
          <p:cNvSpPr/>
          <p:nvPr/>
        </p:nvSpPr>
        <p:spPr>
          <a:xfrm>
            <a:off x="431640" y="4379760"/>
            <a:ext cx="3527640" cy="1955880"/>
          </a:xfrm>
          <a:prstGeom prst="ellipse">
            <a:avLst/>
          </a:prstGeom>
          <a:solidFill>
            <a:srgbClr val="729fcf"/>
          </a:solidFill>
          <a:ln w="936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9" name="Picture 16" descr=""/>
          <p:cNvPicPr/>
          <p:nvPr/>
        </p:nvPicPr>
        <p:blipFill>
          <a:blip r:embed="rId6"/>
          <a:stretch/>
        </p:blipFill>
        <p:spPr>
          <a:xfrm>
            <a:off x="901800" y="4668840"/>
            <a:ext cx="969840" cy="96984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7" descr=""/>
          <p:cNvPicPr/>
          <p:nvPr/>
        </p:nvPicPr>
        <p:blipFill>
          <a:blip r:embed="rId7"/>
          <a:stretch/>
        </p:blipFill>
        <p:spPr>
          <a:xfrm>
            <a:off x="2054160" y="5172120"/>
            <a:ext cx="970200" cy="96984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18"/>
          <p:cNvSpPr/>
          <p:nvPr/>
        </p:nvSpPr>
        <p:spPr>
          <a:xfrm>
            <a:off x="1152360" y="5688000"/>
            <a:ext cx="78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le 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42" name="Group 19"/>
          <p:cNvGrpSpPr/>
          <p:nvPr/>
        </p:nvGrpSpPr>
        <p:grpSpPr>
          <a:xfrm>
            <a:off x="5688000" y="4608360"/>
            <a:ext cx="3373560" cy="1944720"/>
            <a:chOff x="5688000" y="4608360"/>
            <a:chExt cx="3373560" cy="1944720"/>
          </a:xfrm>
        </p:grpSpPr>
        <p:sp>
          <p:nvSpPr>
            <p:cNvPr id="643" name="Oval 20"/>
            <p:cNvSpPr/>
            <p:nvPr/>
          </p:nvSpPr>
          <p:spPr>
            <a:xfrm>
              <a:off x="5688000" y="4608360"/>
              <a:ext cx="3373560" cy="1944720"/>
            </a:xfrm>
            <a:prstGeom prst="ellipse">
              <a:avLst/>
            </a:prstGeom>
            <a:solidFill>
              <a:srgbClr val="729fcf"/>
            </a:solidFill>
            <a:ln w="9360">
              <a:solidFill>
                <a:srgbClr val="c5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44" name="Picture 21" descr=""/>
            <p:cNvPicPr/>
            <p:nvPr/>
          </p:nvPicPr>
          <p:blipFill>
            <a:blip r:embed="rId8"/>
            <a:stretch/>
          </p:blipFill>
          <p:spPr>
            <a:xfrm>
              <a:off x="6445080" y="5234040"/>
              <a:ext cx="959040" cy="95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Picture 22" descr=""/>
            <p:cNvPicPr/>
            <p:nvPr/>
          </p:nvPicPr>
          <p:blipFill>
            <a:blip r:embed="rId9"/>
            <a:stretch/>
          </p:blipFill>
          <p:spPr>
            <a:xfrm>
              <a:off x="7920000" y="4873680"/>
              <a:ext cx="959040" cy="9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Text Box 23"/>
            <p:cNvSpPr/>
            <p:nvPr/>
          </p:nvSpPr>
          <p:spPr>
            <a:xfrm>
              <a:off x="7415280" y="5987880"/>
              <a:ext cx="77004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alle 2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47" name="Line 24"/>
          <p:cNvSpPr/>
          <p:nvPr/>
        </p:nvSpPr>
        <p:spPr>
          <a:xfrm>
            <a:off x="3743280" y="4896000"/>
            <a:ext cx="1440000" cy="144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Line 25"/>
          <p:cNvSpPr/>
          <p:nvPr/>
        </p:nvSpPr>
        <p:spPr>
          <a:xfrm>
            <a:off x="5184720" y="4176720"/>
            <a:ext cx="1800" cy="72072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Line 26"/>
          <p:cNvSpPr/>
          <p:nvPr/>
        </p:nvSpPr>
        <p:spPr>
          <a:xfrm>
            <a:off x="5616720" y="4032360"/>
            <a:ext cx="1440" cy="86364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Line 27"/>
          <p:cNvSpPr/>
          <p:nvPr/>
        </p:nvSpPr>
        <p:spPr>
          <a:xfrm flipH="1">
            <a:off x="5603400" y="4896000"/>
            <a:ext cx="598680" cy="144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Line 28"/>
          <p:cNvSpPr/>
          <p:nvPr/>
        </p:nvSpPr>
        <p:spPr>
          <a:xfrm>
            <a:off x="3168720" y="2879640"/>
            <a:ext cx="2160360" cy="180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Line 29"/>
          <p:cNvSpPr/>
          <p:nvPr/>
        </p:nvSpPr>
        <p:spPr>
          <a:xfrm>
            <a:off x="5327640" y="2879640"/>
            <a:ext cx="1440" cy="64764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3" name="Line 30"/>
          <p:cNvSpPr/>
          <p:nvPr/>
        </p:nvSpPr>
        <p:spPr>
          <a:xfrm>
            <a:off x="3168720" y="1871640"/>
            <a:ext cx="1008000" cy="144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Line 31"/>
          <p:cNvSpPr/>
          <p:nvPr/>
        </p:nvSpPr>
        <p:spPr>
          <a:xfrm flipV="1">
            <a:off x="5472000" y="1428840"/>
            <a:ext cx="1246320" cy="38232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5" name="Text Box 32"/>
          <p:cNvSpPr/>
          <p:nvPr/>
        </p:nvSpPr>
        <p:spPr>
          <a:xfrm>
            <a:off x="5688000" y="1944720"/>
            <a:ext cx="342108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Calibri"/>
              </a:rPr>
              <a:t>Pour communiquer entr'eux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Calibri"/>
              </a:rPr>
              <a:t>les éléments du réseau ont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Calibri"/>
              </a:rPr>
              <a:t>besoin d'adresses 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6" name="Text Box 33"/>
          <p:cNvSpPr/>
          <p:nvPr/>
        </p:nvSpPr>
        <p:spPr>
          <a:xfrm>
            <a:off x="6912000" y="3024360"/>
            <a:ext cx="1933560" cy="461880"/>
          </a:xfrm>
          <a:prstGeom prst="rect">
            <a:avLst/>
          </a:prstGeom>
          <a:noFill/>
          <a:ln w="360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ffff66"/>
                </a:solidFill>
                <a:latin typeface="Calibri"/>
              </a:rPr>
              <a:t>Les adresses IP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7" name="Text Box 34"/>
          <p:cNvSpPr/>
          <p:nvPr/>
        </p:nvSpPr>
        <p:spPr>
          <a:xfrm>
            <a:off x="1655640" y="828720"/>
            <a:ext cx="144144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99"/>
                </a:solidFill>
                <a:latin typeface="Calibri"/>
              </a:rPr>
              <a:t>172.16.0.25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Text Box 35"/>
          <p:cNvSpPr/>
          <p:nvPr/>
        </p:nvSpPr>
        <p:spPr>
          <a:xfrm>
            <a:off x="949320" y="4535640"/>
            <a:ext cx="1209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72.16.1.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9" name="Text Box 36"/>
          <p:cNvSpPr/>
          <p:nvPr/>
        </p:nvSpPr>
        <p:spPr>
          <a:xfrm>
            <a:off x="1944720" y="5040360"/>
            <a:ext cx="1209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72.16.1.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Text Box 37"/>
          <p:cNvSpPr/>
          <p:nvPr/>
        </p:nvSpPr>
        <p:spPr>
          <a:xfrm>
            <a:off x="5918040" y="5111640"/>
            <a:ext cx="12099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72.16.2.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1" name="Text Box 38"/>
          <p:cNvSpPr/>
          <p:nvPr/>
        </p:nvSpPr>
        <p:spPr>
          <a:xfrm>
            <a:off x="7429680" y="4834080"/>
            <a:ext cx="1209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72.16.2.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2" name="Text Box 39"/>
          <p:cNvSpPr/>
          <p:nvPr/>
        </p:nvSpPr>
        <p:spPr>
          <a:xfrm>
            <a:off x="1511280" y="-171360"/>
            <a:ext cx="6408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Calibri"/>
              </a:rPr>
              <a:t>Notions de base sur les réseau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3" name="Text Box 40"/>
          <p:cNvSpPr/>
          <p:nvPr/>
        </p:nvSpPr>
        <p:spPr>
          <a:xfrm>
            <a:off x="6624720" y="3527280"/>
            <a:ext cx="237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Composée de 4 nombres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(entre 0 et 255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4" name="Text Box 41"/>
          <p:cNvSpPr/>
          <p:nvPr/>
        </p:nvSpPr>
        <p:spPr>
          <a:xfrm>
            <a:off x="8423280" y="546120"/>
            <a:ext cx="647640" cy="390600"/>
          </a:xfrm>
          <a:prstGeom prst="rect">
            <a:avLst/>
          </a:prstGeom>
          <a:noFill/>
          <a:ln w="360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Calibri"/>
              </a:rPr>
              <a:t>DN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" dur="20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1"/>
          <p:cNvSpPr/>
          <p:nvPr/>
        </p:nvSpPr>
        <p:spPr>
          <a:xfrm>
            <a:off x="1152360" y="762120"/>
            <a:ext cx="1390680" cy="461880"/>
          </a:xfrm>
          <a:prstGeom prst="rect">
            <a:avLst/>
          </a:prstGeom>
          <a:noFill/>
          <a:ln w="360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ffff66"/>
                </a:solidFill>
                <a:latin typeface="Calibri"/>
              </a:rPr>
              <a:t>adresse IP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6" name="Text Box 2"/>
          <p:cNvSpPr/>
          <p:nvPr/>
        </p:nvSpPr>
        <p:spPr>
          <a:xfrm>
            <a:off x="3075120" y="792000"/>
            <a:ext cx="37638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Composée de 4 nombres entre 0 et 2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Text Box 3"/>
          <p:cNvSpPr/>
          <p:nvPr/>
        </p:nvSpPr>
        <p:spPr>
          <a:xfrm>
            <a:off x="1828800" y="1714680"/>
            <a:ext cx="63072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our connaître son adresse IP, ouvrir une console de commande 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Aller dans le menu démarrer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uis taper </a:t>
            </a:r>
            <a:r>
              <a:rPr b="1" i="1" lang="fr-FR" sz="1800" spc="-1" strike="noStrike">
                <a:solidFill>
                  <a:srgbClr val="ffffff"/>
                </a:solidFill>
                <a:latin typeface="Calibri"/>
              </a:rPr>
              <a:t>cmd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dans la zone de recherche suivi de Entré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8" name="Picture 4" descr=""/>
          <p:cNvPicPr/>
          <p:nvPr/>
        </p:nvPicPr>
        <p:blipFill>
          <a:blip r:embed="rId1"/>
          <a:stretch/>
        </p:blipFill>
        <p:spPr>
          <a:xfrm>
            <a:off x="1582560" y="3081240"/>
            <a:ext cx="6553440" cy="174312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5"/>
          <p:cNvSpPr/>
          <p:nvPr/>
        </p:nvSpPr>
        <p:spPr>
          <a:xfrm>
            <a:off x="2816280" y="5214960"/>
            <a:ext cx="301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Taper </a:t>
            </a:r>
            <a:r>
              <a:rPr b="0" i="1" lang="fr-FR" sz="1800" spc="-1" strike="noStrike">
                <a:solidFill>
                  <a:srgbClr val="ffffff"/>
                </a:solidFill>
                <a:latin typeface="Calibri"/>
              </a:rPr>
              <a:t>ipconfig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suivi de Entré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Text Box 6"/>
          <p:cNvSpPr/>
          <p:nvPr/>
        </p:nvSpPr>
        <p:spPr>
          <a:xfrm>
            <a:off x="1511280" y="-169920"/>
            <a:ext cx="6408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Calibri"/>
              </a:rPr>
              <a:t>Notions de base sur les réseau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1" descr=""/>
          <p:cNvPicPr/>
          <p:nvPr/>
        </p:nvPicPr>
        <p:blipFill>
          <a:blip r:embed="rId1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2" descr=""/>
          <p:cNvPicPr/>
          <p:nvPr/>
        </p:nvPicPr>
        <p:blipFill>
          <a:blip r:embed="rId2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3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DCE06-C42F-4B2D-ADC1-A00EABE83B41}" type="slidenum">
              <a:rPr b="0" lang="fr-F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4" name="Picture 4" descr=""/>
          <p:cNvPicPr/>
          <p:nvPr/>
        </p:nvPicPr>
        <p:blipFill>
          <a:blip r:embed="rId3"/>
          <a:stretch/>
        </p:blipFill>
        <p:spPr>
          <a:xfrm>
            <a:off x="576360" y="720720"/>
            <a:ext cx="6846840" cy="345600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5"/>
          <p:cNvSpPr/>
          <p:nvPr/>
        </p:nvSpPr>
        <p:spPr>
          <a:xfrm>
            <a:off x="7524720" y="108576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66ff33"/>
                </a:solidFill>
                <a:latin typeface="Calibri"/>
              </a:rPr>
              <a:t>adresse IP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66ff33"/>
                </a:solidFill>
                <a:latin typeface="Calibri"/>
              </a:rPr>
              <a:t>de la machin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6" name="Line 6"/>
          <p:cNvSpPr/>
          <p:nvPr/>
        </p:nvSpPr>
        <p:spPr>
          <a:xfrm flipV="1">
            <a:off x="5327640" y="1428480"/>
            <a:ext cx="2232000" cy="166680"/>
          </a:xfrm>
          <a:prstGeom prst="line">
            <a:avLst/>
          </a:prstGeom>
          <a:ln cap="sq" w="9360">
            <a:solidFill>
              <a:srgbClr val="61fe2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Text Box 7"/>
          <p:cNvSpPr/>
          <p:nvPr/>
        </p:nvSpPr>
        <p:spPr>
          <a:xfrm>
            <a:off x="7632720" y="272736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passerel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8" name="Line 8"/>
          <p:cNvSpPr/>
          <p:nvPr/>
        </p:nvSpPr>
        <p:spPr>
          <a:xfrm>
            <a:off x="5256360" y="1871640"/>
            <a:ext cx="2376360" cy="1079640"/>
          </a:xfrm>
          <a:prstGeom prst="line">
            <a:avLst/>
          </a:prstGeom>
          <a:ln cap="sq"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9" name="Text Box 9"/>
          <p:cNvSpPr/>
          <p:nvPr/>
        </p:nvSpPr>
        <p:spPr>
          <a:xfrm>
            <a:off x="1511280" y="-169920"/>
            <a:ext cx="6408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Calibri"/>
              </a:rPr>
              <a:t>Notions de base sur les réseau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0" name="Text Box 10"/>
          <p:cNvSpPr/>
          <p:nvPr/>
        </p:nvSpPr>
        <p:spPr>
          <a:xfrm>
            <a:off x="1295280" y="4378320"/>
            <a:ext cx="714708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masque 255.255.0.0 nous indique que les 2 premiers nombres (172.16)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correspondent à l’adresse du réseau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et que les 2 derniers (40.100) désignent la machine dans ce réseau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1" name="Line 11"/>
          <p:cNvSpPr/>
          <p:nvPr/>
        </p:nvSpPr>
        <p:spPr>
          <a:xfrm>
            <a:off x="5184720" y="1728720"/>
            <a:ext cx="2519280" cy="360360"/>
          </a:xfrm>
          <a:prstGeom prst="line">
            <a:avLst/>
          </a:prstGeom>
          <a:ln cap="sq"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Text Box 12"/>
          <p:cNvSpPr/>
          <p:nvPr/>
        </p:nvSpPr>
        <p:spPr>
          <a:xfrm>
            <a:off x="7623360" y="179244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Masque 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ous réseau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3" name="Text Box 13"/>
          <p:cNvSpPr/>
          <p:nvPr/>
        </p:nvSpPr>
        <p:spPr>
          <a:xfrm>
            <a:off x="1254240" y="5445000"/>
            <a:ext cx="410184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troisième chiffre peut varier de 0 à 25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ernier chiffre peut varier de 1 à 25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1"/>
          <p:cNvSpPr/>
          <p:nvPr/>
        </p:nvSpPr>
        <p:spPr>
          <a:xfrm>
            <a:off x="1511280" y="-169920"/>
            <a:ext cx="6408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Calibri"/>
              </a:rPr>
              <a:t>Notions de base sur les réseau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5" name="Text Box 2"/>
          <p:cNvSpPr/>
          <p:nvPr/>
        </p:nvSpPr>
        <p:spPr>
          <a:xfrm>
            <a:off x="1224000" y="779400"/>
            <a:ext cx="588492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our une organisation claire du réseau on utilise 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- le troisième chiffre pour désigner la sall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- le dernier chiffre pour désigner la machin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Exemple 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alle 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101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qui comporte </a:t>
            </a:r>
            <a:r>
              <a:rPr b="0" lang="fr-FR" sz="1800" spc="-1" strike="noStrike">
                <a:solidFill>
                  <a:srgbClr val="00ff00"/>
                </a:solidFill>
                <a:latin typeface="Calibri"/>
              </a:rPr>
              <a:t>25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ordinateurs 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Adresses IP des ordinateurs de </a:t>
            </a: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172.16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101</a:t>
            </a:r>
            <a:r>
              <a:rPr b="0" lang="fr-FR" sz="1800" spc="-1" strike="noStrike">
                <a:solidFill>
                  <a:srgbClr val="00ff00"/>
                </a:solidFill>
                <a:latin typeface="Calibri"/>
              </a:rPr>
              <a:t>.1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à </a:t>
            </a: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172.16.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101</a:t>
            </a:r>
            <a:r>
              <a:rPr b="0" lang="fr-FR" sz="1800" spc="-1" strike="noStrike">
                <a:solidFill>
                  <a:srgbClr val="00ff00"/>
                </a:solidFill>
                <a:latin typeface="Calibri"/>
              </a:rPr>
              <a:t>.2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Text Box 3"/>
          <p:cNvSpPr/>
          <p:nvPr/>
        </p:nvSpPr>
        <p:spPr>
          <a:xfrm>
            <a:off x="1243080" y="3009960"/>
            <a:ext cx="52452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poste maître sera différencié avec le dernier chiff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172.16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101</a:t>
            </a:r>
            <a:r>
              <a:rPr b="0" lang="fr-FR" sz="1800" spc="-1" strike="noStrike">
                <a:solidFill>
                  <a:srgbClr val="00ff00"/>
                </a:solidFill>
                <a:latin typeface="Calibri"/>
              </a:rPr>
              <a:t>.100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Text Box 4"/>
          <p:cNvSpPr/>
          <p:nvPr/>
        </p:nvSpPr>
        <p:spPr>
          <a:xfrm>
            <a:off x="1235160" y="3887640"/>
            <a:ext cx="503064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'imprimante sera différenciée avec le dernier chiff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172.16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101</a:t>
            </a:r>
            <a:r>
              <a:rPr b="0" lang="fr-FR" sz="1800" spc="-1" strike="noStrike">
                <a:solidFill>
                  <a:srgbClr val="00ff00"/>
                </a:solidFill>
                <a:latin typeface="Calibri"/>
              </a:rPr>
              <a:t>.250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1"/>
          <p:cNvSpPr/>
          <p:nvPr/>
        </p:nvSpPr>
        <p:spPr>
          <a:xfrm>
            <a:off x="1511280" y="-169920"/>
            <a:ext cx="6408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Calibri"/>
              </a:rPr>
              <a:t>Notions de base sur les réseau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Text Box 2"/>
          <p:cNvSpPr/>
          <p:nvPr/>
        </p:nvSpPr>
        <p:spPr>
          <a:xfrm>
            <a:off x="3456000" y="647640"/>
            <a:ext cx="5616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our vérifier la connexion , on va envoyer une commande de test vers une machine du réseau ou vers soi même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</a:t>
            </a:r>
            <a:r>
              <a:rPr b="1" i="1" lang="fr-FR" sz="1800" spc="-1" strike="noStrike">
                <a:solidFill>
                  <a:srgbClr val="ffffff"/>
                </a:solidFill>
                <a:latin typeface="Calibri"/>
              </a:rPr>
              <a:t>p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90" name="Group 3"/>
          <p:cNvGrpSpPr/>
          <p:nvPr/>
        </p:nvGrpSpPr>
        <p:grpSpPr>
          <a:xfrm>
            <a:off x="1440000" y="1084320"/>
            <a:ext cx="1428480" cy="2004840"/>
            <a:chOff x="1440000" y="1084320"/>
            <a:chExt cx="1428480" cy="2004840"/>
          </a:xfrm>
        </p:grpSpPr>
        <p:pic>
          <p:nvPicPr>
            <p:cNvPr id="691" name="Picture 4" descr=""/>
            <p:cNvPicPr/>
            <p:nvPr/>
          </p:nvPicPr>
          <p:blipFill>
            <a:blip r:embed="rId1"/>
            <a:stretch/>
          </p:blipFill>
          <p:spPr>
            <a:xfrm>
              <a:off x="1440000" y="1084320"/>
              <a:ext cx="1428480" cy="20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2" name="Oval 5"/>
          <p:cNvSpPr/>
          <p:nvPr/>
        </p:nvSpPr>
        <p:spPr>
          <a:xfrm>
            <a:off x="431640" y="3816360"/>
            <a:ext cx="4896000" cy="2519280"/>
          </a:xfrm>
          <a:prstGeom prst="ellipse">
            <a:avLst/>
          </a:prstGeom>
          <a:solidFill>
            <a:srgbClr val="729fcf"/>
          </a:solidFill>
          <a:ln w="936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3" name="Picture 6" descr=""/>
          <p:cNvPicPr/>
          <p:nvPr/>
        </p:nvPicPr>
        <p:blipFill>
          <a:blip r:embed="rId2"/>
          <a:stretch/>
        </p:blipFill>
        <p:spPr>
          <a:xfrm>
            <a:off x="792000" y="4430880"/>
            <a:ext cx="970200" cy="96984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7" descr=""/>
          <p:cNvPicPr/>
          <p:nvPr/>
        </p:nvPicPr>
        <p:blipFill>
          <a:blip r:embed="rId3"/>
          <a:stretch/>
        </p:blipFill>
        <p:spPr>
          <a:xfrm>
            <a:off x="2735280" y="522288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695" name="Text Box 8"/>
          <p:cNvSpPr/>
          <p:nvPr/>
        </p:nvSpPr>
        <p:spPr>
          <a:xfrm>
            <a:off x="1368360" y="684360"/>
            <a:ext cx="144144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99"/>
                </a:solidFill>
                <a:latin typeface="Calibri"/>
              </a:rPr>
              <a:t>172.16.0.25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Text Box 9"/>
          <p:cNvSpPr/>
          <p:nvPr/>
        </p:nvSpPr>
        <p:spPr>
          <a:xfrm>
            <a:off x="1079640" y="4176720"/>
            <a:ext cx="1209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72.16.1.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Text Box 10"/>
          <p:cNvSpPr/>
          <p:nvPr/>
        </p:nvSpPr>
        <p:spPr>
          <a:xfrm>
            <a:off x="2749680" y="5040360"/>
            <a:ext cx="1209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72.16.1.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98" name="Group 11"/>
          <p:cNvGrpSpPr/>
          <p:nvPr/>
        </p:nvGrpSpPr>
        <p:grpSpPr>
          <a:xfrm>
            <a:off x="3186000" y="2016000"/>
            <a:ext cx="2059200" cy="1284480"/>
            <a:chOff x="3186000" y="2016000"/>
            <a:chExt cx="2059200" cy="1284480"/>
          </a:xfrm>
        </p:grpSpPr>
        <p:pic>
          <p:nvPicPr>
            <p:cNvPr id="699" name="Picture 12" descr=""/>
            <p:cNvPicPr/>
            <p:nvPr/>
          </p:nvPicPr>
          <p:blipFill>
            <a:blip r:embed="rId4"/>
            <a:stretch/>
          </p:blipFill>
          <p:spPr>
            <a:xfrm>
              <a:off x="3186000" y="2281320"/>
              <a:ext cx="205920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Text Box 13"/>
            <p:cNvSpPr/>
            <p:nvPr/>
          </p:nvSpPr>
          <p:spPr>
            <a:xfrm>
              <a:off x="3487680" y="2016000"/>
              <a:ext cx="76680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switch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01" name="Line 15"/>
          <p:cNvSpPr/>
          <p:nvPr/>
        </p:nvSpPr>
        <p:spPr>
          <a:xfrm>
            <a:off x="2376360" y="1224000"/>
            <a:ext cx="1764000" cy="1566720"/>
          </a:xfrm>
          <a:prstGeom prst="line">
            <a:avLst/>
          </a:prstGeom>
          <a:ln w="3600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Line 16"/>
          <p:cNvSpPr/>
          <p:nvPr/>
        </p:nvSpPr>
        <p:spPr>
          <a:xfrm flipV="1">
            <a:off x="1944720" y="3212640"/>
            <a:ext cx="2195640" cy="1622520"/>
          </a:xfrm>
          <a:prstGeom prst="line">
            <a:avLst/>
          </a:prstGeom>
          <a:ln w="3600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3" name="Text Box 17"/>
          <p:cNvSpPr/>
          <p:nvPr/>
        </p:nvSpPr>
        <p:spPr>
          <a:xfrm>
            <a:off x="5881680" y="1560600"/>
            <a:ext cx="23256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0000"/>
                </a:solidFill>
                <a:latin typeface="Calibri"/>
              </a:rPr>
              <a:t>ping 127.0.0.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Calibri"/>
              </a:rPr>
              <a:t>=&gt; Vérifier le protocole I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4" name="Text Box 18"/>
          <p:cNvSpPr/>
          <p:nvPr/>
        </p:nvSpPr>
        <p:spPr>
          <a:xfrm>
            <a:off x="5904000" y="2232000"/>
            <a:ext cx="23032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0000"/>
                </a:solidFill>
                <a:latin typeface="Calibri"/>
              </a:rPr>
              <a:t>ping </a:t>
            </a:r>
            <a:r>
              <a:rPr b="1" i="1" lang="fr-FR" sz="1800" spc="-1" strike="noStrike" u="sng">
                <a:solidFill>
                  <a:srgbClr val="ff0000"/>
                </a:solidFill>
                <a:uFillTx/>
                <a:latin typeface="Calibri"/>
              </a:rPr>
              <a:t>adresse du ipconfi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Calibri"/>
              </a:rPr>
              <a:t>=&gt; Vérifier la carte résea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5" name="Text Box 20"/>
          <p:cNvSpPr/>
          <p:nvPr/>
        </p:nvSpPr>
        <p:spPr>
          <a:xfrm>
            <a:off x="5975280" y="3614760"/>
            <a:ext cx="266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66"/>
                </a:solidFill>
                <a:latin typeface="Calibri"/>
              </a:rPr>
              <a:t>ping 172.16.0.25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Calibri"/>
              </a:rPr>
              <a:t>=&gt; Vérifier la liaison au serveu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1"/>
          <p:cNvSpPr/>
          <p:nvPr/>
        </p:nvSpPr>
        <p:spPr>
          <a:xfrm>
            <a:off x="1511280" y="-169920"/>
            <a:ext cx="6408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Calibri"/>
              </a:rPr>
              <a:t>Notions de base sur les réseau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7" name="Text Box 2"/>
          <p:cNvSpPr/>
          <p:nvPr/>
        </p:nvSpPr>
        <p:spPr>
          <a:xfrm>
            <a:off x="4535640" y="647640"/>
            <a:ext cx="4537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ouvrir une console de command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et taper : </a:t>
            </a:r>
            <a:r>
              <a:rPr b="1" i="1" lang="fr-FR" sz="1800" spc="-1" strike="noStrike">
                <a:solidFill>
                  <a:srgbClr val="ffffff"/>
                </a:solidFill>
                <a:latin typeface="Calibri"/>
              </a:rPr>
              <a:t>ping 127.0.0.1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08" name="Group 3"/>
          <p:cNvGrpSpPr/>
          <p:nvPr/>
        </p:nvGrpSpPr>
        <p:grpSpPr>
          <a:xfrm>
            <a:off x="1440000" y="1084320"/>
            <a:ext cx="1428480" cy="2004840"/>
            <a:chOff x="1440000" y="1084320"/>
            <a:chExt cx="1428480" cy="2004840"/>
          </a:xfrm>
        </p:grpSpPr>
        <p:pic>
          <p:nvPicPr>
            <p:cNvPr id="709" name="Picture 4" descr=""/>
            <p:cNvPicPr/>
            <p:nvPr/>
          </p:nvPicPr>
          <p:blipFill>
            <a:blip r:embed="rId1"/>
            <a:stretch/>
          </p:blipFill>
          <p:spPr>
            <a:xfrm>
              <a:off x="1440000" y="1084320"/>
              <a:ext cx="1428480" cy="20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0" name="Oval 5"/>
          <p:cNvSpPr/>
          <p:nvPr/>
        </p:nvSpPr>
        <p:spPr>
          <a:xfrm>
            <a:off x="431640" y="3816360"/>
            <a:ext cx="4896000" cy="2519280"/>
          </a:xfrm>
          <a:prstGeom prst="ellipse">
            <a:avLst/>
          </a:prstGeom>
          <a:solidFill>
            <a:srgbClr val="729fcf"/>
          </a:solidFill>
          <a:ln w="936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1" name="Picture 6" descr=""/>
          <p:cNvPicPr/>
          <p:nvPr/>
        </p:nvPicPr>
        <p:blipFill>
          <a:blip r:embed="rId2"/>
          <a:stretch/>
        </p:blipFill>
        <p:spPr>
          <a:xfrm>
            <a:off x="792000" y="4430880"/>
            <a:ext cx="970200" cy="96984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7" descr=""/>
          <p:cNvPicPr/>
          <p:nvPr/>
        </p:nvPicPr>
        <p:blipFill>
          <a:blip r:embed="rId3"/>
          <a:stretch/>
        </p:blipFill>
        <p:spPr>
          <a:xfrm>
            <a:off x="2735280" y="522288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8"/>
          <p:cNvSpPr/>
          <p:nvPr/>
        </p:nvSpPr>
        <p:spPr>
          <a:xfrm>
            <a:off x="1368360" y="684360"/>
            <a:ext cx="144144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99"/>
                </a:solidFill>
                <a:latin typeface="Calibri"/>
              </a:rPr>
              <a:t>172.16.0.25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Text Box 9"/>
          <p:cNvSpPr/>
          <p:nvPr/>
        </p:nvSpPr>
        <p:spPr>
          <a:xfrm>
            <a:off x="1079640" y="4176720"/>
            <a:ext cx="1209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72.16.1.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5" name="Text Box 10"/>
          <p:cNvSpPr/>
          <p:nvPr/>
        </p:nvSpPr>
        <p:spPr>
          <a:xfrm>
            <a:off x="2749680" y="5040360"/>
            <a:ext cx="1209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72.16.1.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16" name="Group 11"/>
          <p:cNvGrpSpPr/>
          <p:nvPr/>
        </p:nvGrpSpPr>
        <p:grpSpPr>
          <a:xfrm>
            <a:off x="3186000" y="2016000"/>
            <a:ext cx="2059200" cy="1284480"/>
            <a:chOff x="3186000" y="2016000"/>
            <a:chExt cx="2059200" cy="1284480"/>
          </a:xfrm>
        </p:grpSpPr>
        <p:pic>
          <p:nvPicPr>
            <p:cNvPr id="717" name="Picture 12" descr=""/>
            <p:cNvPicPr/>
            <p:nvPr/>
          </p:nvPicPr>
          <p:blipFill>
            <a:blip r:embed="rId4"/>
            <a:stretch/>
          </p:blipFill>
          <p:spPr>
            <a:xfrm>
              <a:off x="3186000" y="2281320"/>
              <a:ext cx="205920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 Box 13"/>
            <p:cNvSpPr/>
            <p:nvPr/>
          </p:nvSpPr>
          <p:spPr>
            <a:xfrm>
              <a:off x="3487680" y="2016000"/>
              <a:ext cx="76680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switch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19" name="Picture 14" descr=""/>
          <p:cNvPicPr/>
          <p:nvPr/>
        </p:nvPicPr>
        <p:blipFill>
          <a:blip r:embed="rId5"/>
          <a:stretch/>
        </p:blipFill>
        <p:spPr>
          <a:xfrm>
            <a:off x="3743280" y="1333440"/>
            <a:ext cx="5256360" cy="26002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15" descr=""/>
          <p:cNvPicPr/>
          <p:nvPr/>
        </p:nvPicPr>
        <p:blipFill>
          <a:blip r:embed="rId6"/>
          <a:stretch/>
        </p:blipFill>
        <p:spPr>
          <a:xfrm>
            <a:off x="3743280" y="4270320"/>
            <a:ext cx="5303880" cy="12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31:53Z</dcterms:created>
  <dc:creator>Fred</dc:creator>
  <dc:description/>
  <dc:language>en-US</dc:language>
  <cp:lastModifiedBy>Administrateur Windows</cp:lastModifiedBy>
  <dcterms:modified xsi:type="dcterms:W3CDTF">2014-12-09T12:17:27Z</dcterms:modified>
  <cp:revision>174</cp:revision>
  <dc:subject/>
  <dc:title>ACCOMPAGNEMENT  DES ENSEIGNANTS RESSOURCES TICE</dc:title>
</cp:coreProperties>
</file>