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43CE5-4F9D-4AF6-B32B-FC30B7090F9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6622-DF99-4EDF-8A1C-B8BB415697B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CECD2-9D44-4BF8-8785-BFA8FF9852D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10B55-50F0-45F5-A5D8-8C42B1450B8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8209B-E93D-46F3-B9A0-39014179F3A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56864-2900-4BB8-9EC8-1B4D0B9CA82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EC000-8AFF-4914-A99F-A7347E1B1B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A0EB-25C2-4513-935F-BD1685E3A1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33E3B-3A84-4530-9D71-58B57A6A9F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AFE6C-1B41-42BF-BB5A-C418121ECAB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7A7CB-0F94-444E-A10E-81C8204B124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0AD38-7BA6-4498-8ABB-71D2194FD91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15D14-0F04-49C9-83B3-2FAFF30E25C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AE1E-0BD0-4AF3-9AA1-3208CFB3761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10CC-798A-4046-9F08-D011771A35B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83D33-C9AB-40CE-8D47-EDAC02A8B7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4AAC3-3684-4626-80F2-D4048C73402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B9A5D-75B6-4161-8854-7E6F7D2974A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BE6BA-7B81-4793-A8E9-68981218E9E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290AC-9904-4CA9-B705-4ABBCDF12F4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9D0C7-9E9F-4F03-9F9F-BC1329B7155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AD6B7-7A4A-4D99-9A18-8A19621818D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4496B-FDAB-4550-AA30-EFEAD1036A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825E6-7EB3-41EE-97B4-89AD2C8899D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7D835-20EF-4B17-B764-F7C5082B75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501A4-62D1-43D1-90D0-4F12DA5508F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A83C-AC0D-429E-A993-492F1E7939D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E28BD-0E20-475F-BD58-66FD4422B44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03059-8E56-43B4-B929-8CE96745E6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F3A8-5353-43B5-A9F3-8F371906EC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11F2-96D5-477D-AB50-2F940B6E45B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5449C-4BAC-4692-B34D-17F2670C9D3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6045-D2A5-4AC3-A3AB-518F82B175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40922-1D8E-4CA4-8346-C32FB32DCB9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912A-EA92-401E-BFA2-37C4B61FF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5E28-DBA7-4AE9-A6A7-2E1437B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9E83-6842-43AC-92DB-ABB03628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1816-1585-44F1-9A96-922C3EB0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8911-EB4E-4610-AF06-D7410883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F5405-2DF2-4BBF-A7B8-6845668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8952B-16A0-48E4-A49E-9D2DEFC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6CE3-09F3-4AFC-9078-36D3311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7204-BFAF-42D9-9DAE-B320079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4D58-AAEA-4BF7-AB05-49C3314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86A7-CAA9-4A69-BD78-914B2FDD8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41908-E162-43B9-A747-C75F8A751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A304-E57C-442B-93CA-88098465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DB5577-D5DE-435A-932B-BCCA66C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D5546-F859-40EA-A200-EBF035A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1E552-AEEF-45EE-B404-09627FB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43478-8E20-4AF4-B815-50037A4E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B6D79-793F-4E6D-9CC7-381F1FB1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F2D67-166D-49AC-B4AE-176C8ADB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364A6-1C9E-4A51-A9C8-E084EB0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3EFBB-54B8-4D9D-8D14-DC6DB9DD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81B50-6A08-4C8D-A948-B8434FC3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6FB32-2297-4638-BFC2-E7E7F1D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6872-B0D4-459C-96FC-EDEAC0315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E751E-56E7-459D-828C-DD1603A9B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16F79-CF85-450D-81D4-B771FE7D1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7B937-C790-42B0-BBB4-B89EEF0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A4EEC0-77FB-4FD5-9453-66ADA16F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6AB11-C803-46E6-960C-8474C5D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81F5B-C1F2-44B1-BEF9-6F02D12A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F6EADE-9153-487D-99E6-943BA475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0A82F-4B2C-4A9A-AE5F-F207FFF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5DC1A-7CDE-4A5A-B06D-EE450D0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03CDD-A9EE-4025-B22A-B992AD7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5C0E3-B1AB-4C8F-9989-D6C054437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B55C00-34C5-4141-BB27-7CC37A6B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91AF11-73B3-4A83-B44F-614DC10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CEF9A7-2A91-4293-BA79-D26CC37C8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BB1D2-76FD-4A23-AA4A-DEC986DA8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493B-2C76-4014-9931-B7C97B6F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FF45-EEDA-470D-8702-EAAF61E3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A831-F900-4CEA-A48E-BFC5B82B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8200-B333-40E8-9E4D-F2723CC3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3E044-A6F5-4CE2-867C-F453AC21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EB51-A781-4B36-8308-6D2284E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7A570-D9A2-446F-917D-F1AD813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02510-A048-4388-91EF-0CCC76D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B6A7-3917-43A9-964B-D0BF111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B5B0-C1F5-49A1-B138-C2A46D07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7D4B5-9FA3-42DD-88B5-C64A4A6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03939-EECE-4865-BD08-FC6D99CACB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5871A-1B9B-4B4B-A82D-9FEB7EF8C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0F648-982B-47DD-A4CF-B98E901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AA898D-EB2C-4867-BFE2-3136DF12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C6606-25EF-4440-9988-57EFCA33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42A1A-8F84-43AB-8957-162BED3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FB2B6-5B25-4045-9CC4-5AC593E5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15D78-853C-443B-9544-5B8912B7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28435-56F7-4993-8FF4-CBFA05D4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9B79A-9F1B-4A9C-A1B0-32512F2E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A397D-4D7F-4FB0-B8E9-89BD24D5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5B0A5-98A3-4D8B-8DB9-D94CC87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A8417-BD8D-4B52-823E-66ED399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754CE-9517-4365-B0A4-8F2DE50E8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8228-8CAA-442E-A42F-3CCCE502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30006-C63F-4893-9337-39AAF6A0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BAB2A-DACB-49BB-BFE4-C26BF739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83373-4532-46C9-9256-9753C45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F4A4-2C4B-4CAC-8322-9846F6C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87DBA-239E-4899-A1E5-7E41160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F657-B278-47B0-9951-741F42FA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1737-C8FB-4971-9366-97C80470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E208E-4BBD-45B6-9D63-B8653B0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4C72D-8044-44DA-ADF9-CCE79B629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50D6-7FA0-4FB4-90A9-B31BACB6F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7C07-CBFE-49C0-89E8-686693C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BCFB-E35B-47B1-9A91-6E1FBCE8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07A6-4B51-4D0C-B440-6E06FD9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DF7-1C84-4731-94B9-F002CFE3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89EA-6EF1-457A-B09F-D37AA217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203-4123-4A75-AB80-803ECA0B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1E1B-2E88-403F-B20E-B6DCE51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FD88-D8EF-41FB-AD48-725D62B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7EA7-C1FB-4DA2-8C69-0386DDB6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CC04-642A-4CC3-8B25-3B7FA16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DA0-8CF9-4297-9DCF-13652F1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3DE-E83A-473B-B454-CFD707DF8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CA11A-B5F4-4269-8B56-44BFC42FC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0953D-7E3D-4645-8B29-41E0510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424AF-450D-42A6-B628-D04398B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25AE-9607-442E-A469-8E7EC5A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291D9-3A04-465A-BACB-5EB4326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93EE-5C80-4436-9304-D5120F7E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A82D2-DDE5-4244-926C-73BB8C51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CA75C-9A84-4839-8C22-751E468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804C3-19B3-471F-B7A7-16A555F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A4E6E-0A70-4E8F-AC55-8295AB4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29C1F-AE02-4784-99A0-8804EE72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A433F-3D34-4F67-B5FA-DFB5A4F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A52BD-37D0-430C-AFCF-7BF8C2C18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3C774-4FFE-44BA-B424-BDBDC3F65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A4F2-3DD2-4FCD-A7CB-C834D35B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65FA2-E48C-4C17-AE92-D099661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E2294-4D07-4BE0-83CD-BB53617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D8E59-FE55-47E1-AF98-D5BD52A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10ADE-241A-473E-B040-F60D570D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9572D-9602-477E-8A92-4FB18C37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7B9F6-4906-4A53-946A-AE3D747C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9FA27-63DB-469E-82EF-9811424E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21569-366B-461D-822E-F92FABFF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4BDFF-9187-4F47-B85A-73D25DF3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D61AF-117B-4E22-861D-51EE8CC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C6D3-ED9F-447D-9809-6684127D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D2849-16C5-4CCB-828E-6A1D036E1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0CA3-0C7D-4BEB-A0E7-84CFF9314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EAE3-106B-463E-AC7C-60B2FCB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69B2-CF2E-4F58-A95A-F5EF0879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7E37-2DFC-49BC-AC81-DAD2478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6CA6-140C-42BA-A97D-E9111DFB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AF59-3DF2-43D5-BD29-864E03B5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9A4A-2981-4EA5-863F-3FE75EC5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6C45-4F58-4ED3-A993-61D32B5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B5C6-F81F-4957-8F26-1427560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9416-7596-4023-AAE2-858D6F7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2726-8C2E-4CE8-84F5-E6C31BA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9B44-7221-4402-959A-4249096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F57C-5447-4E02-9157-A7F80DF53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01A6C-E0DB-47D0-9E3E-EF888A5C7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418DC-CF79-4D81-BB13-5B58F36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14FD4-6E32-4FE2-A6CB-3905EAEC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DD9CD-5183-4076-8E71-B1C3D2E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AA309-DC26-4C6B-81C2-E8C28DCE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CEA5F-7235-4B1D-B968-5DD51331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55198-437A-4827-BA8D-D3D29FF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A28C-1A26-43BB-AD66-2C7F9F4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9F39B-D92E-4E19-9CF1-3FDA876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B4DB1-7990-494A-ADC3-CBE5CA0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5069D-69F2-4F4F-B0DC-71CEC21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017E0-BE89-462C-8536-1F65F8A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79497-D257-4DD9-BE63-E1A3828DE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5A8E62-51DC-4E20-AB42-D4647AE55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1C238-2C76-44B3-B383-6B15E1E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7AF8D-E27F-4B05-8D8B-6BBD4E51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FA2CA-26B6-4F9C-8E0D-80D78D04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0F774-214C-49D8-92F7-2067D587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E4CC-98C2-4E44-9B32-FB6C4D6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77AD3-7391-4ED4-B5B0-DFF98AC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659C0-1143-463E-9D77-BFA981E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C47DCF-0ECF-4EA7-8765-81E3230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180B3-5EED-4661-9042-B8F7BC2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68298-5E5B-4338-B723-7E07AD29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5D94F-0631-46F1-AF54-5AD35E4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7DE94-F4FF-4258-B965-3E7F304EA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96C9-F78E-4F8D-8CBC-86B1C1CBB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479E-5FCD-4D7D-88C0-24CB32A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3280-B8C3-45E0-A3D8-65128126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3280"/>
            <a:ext cx="1522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B3C19-B863-487B-968C-F20B17B5922E}" type="datetime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9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3280"/>
            <a:ext cx="988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EB4798-15C8-4374-9BE9-AFEBF8FDFB16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4307-C556-47A3-91C5-3C894D3AB93C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9265966-353A-4520-89B6-C233B742F4BE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39A07-CBE5-402F-A31A-F7176B203BCE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0423EB-5D6A-4150-A248-CBDDD09591CD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8078F-4344-4D0A-BAD9-CF8F3009DB39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79200-7F90-4B5A-A582-1290A3CFC233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49A9-D3F8-4C20-95F8-2065CEFFB755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63CC8-974E-4EDD-8F95-A89B65A8F84D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4F88C-6E73-4606-AC06-E131A44D4158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904051-C8AE-450D-ABB9-7520B8CCF1B4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363A-121A-4D82-9826-AC85DA11A7F2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73DB-36EB-4F34-BE5F-99130B7C6EF2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EE87-7C12-4828-9A4A-54DF2E329FDA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ECCFD-C9BD-488E-B46E-6D0009C84BF0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1DBF8B-E003-4C87-B245-26CE5E756508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9D6A3E46-6450-44A7-8331-85F59BCF7E3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06596D-E87F-4AA1-9B82-1248A906B678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3FAA2E6B-F2E7-4806-B95A-FD3C7CEE7E14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A7074A-C4AE-4989-B1E2-D05D1C1CCE90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1FE1169E-DFC9-408A-9C33-C153B4372D6B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42560" cy="3777840"/>
            <a:chOff x="0" y="1176480"/>
            <a:chExt cx="9142560" cy="37778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0" y="1521720"/>
              <a:ext cx="9142560" cy="34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E2EC1-9E6D-4ADB-91C9-49C24BEE518A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996CB42-5FBD-4B70-B05A-45DBD1DDD2B4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0F8F-122F-42AC-A487-EA719611D9F5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B01391A-8A12-4F8E-878C-D333798F2BFE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s://serveur:9999/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9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hyperlink" Target="http://webdaip.ac-lille.fr/daipetab" TargetMode="External"/><Relationship Id="rId5" Type="http://schemas.openxmlformats.org/officeDocument/2006/relationships/hyperlink" Target="http://webdaip.ac-lille.fr/daipetab" TargetMode="External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hyperlink" Target="http://www3.ac-lille.fr/crid-systeme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1"/>
          <p:cNvGrpSpPr/>
          <p:nvPr/>
        </p:nvGrpSpPr>
        <p:grpSpPr>
          <a:xfrm>
            <a:off x="396720" y="5224320"/>
            <a:ext cx="8496360" cy="1346400"/>
            <a:chOff x="396720" y="5224320"/>
            <a:chExt cx="8496360" cy="1346400"/>
          </a:xfrm>
        </p:grpSpPr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96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"/>
            <p:cNvSpPr/>
            <p:nvPr/>
          </p:nvSpPr>
          <p:spPr>
            <a:xfrm>
              <a:off x="396720" y="5224320"/>
              <a:ext cx="849636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0" y="-23760"/>
            <a:ext cx="9142560" cy="3344760"/>
            <a:chOff x="0" y="-23760"/>
            <a:chExt cx="9142560" cy="3344760"/>
          </a:xfrm>
        </p:grpSpPr>
        <p:pic>
          <p:nvPicPr>
            <p:cNvPr id="58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3760"/>
              <a:ext cx="9142560" cy="33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6"/>
            <p:cNvSpPr/>
            <p:nvPr/>
          </p:nvSpPr>
          <p:spPr>
            <a:xfrm>
              <a:off x="0" y="-23760"/>
              <a:ext cx="914256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048FEB-6718-4147-9603-3D7F9CBDA66C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A019B1-90C8-4777-BEFC-23AE2884A51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5"/>
          <a:stretch/>
        </p:blipFill>
        <p:spPr>
          <a:xfrm>
            <a:off x="7716960" y="86040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6"/>
          <a:stretch/>
        </p:blipFill>
        <p:spPr>
          <a:xfrm>
            <a:off x="1592280" y="2247840"/>
            <a:ext cx="6124680" cy="41720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1908000" y="423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  <a:ea typeface="Arial"/>
              </a:rPr>
              <a:t>eleves.cs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Rectangle à coins arrondis 1"/>
          <p:cNvSpPr/>
          <p:nvPr/>
        </p:nvSpPr>
        <p:spPr>
          <a:xfrm>
            <a:off x="1908000" y="4237200"/>
            <a:ext cx="1368720" cy="48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7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7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3142D-3185-4E38-8C0C-E286A01F56E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5"/>
          <a:stretch/>
        </p:blipFill>
        <p:spPr>
          <a:xfrm>
            <a:off x="7886880" y="82872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78" name="ZoneTexte 1"/>
          <p:cNvSpPr/>
          <p:nvPr/>
        </p:nvSpPr>
        <p:spPr>
          <a:xfrm>
            <a:off x="1155600" y="2637000"/>
            <a:ext cx="345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le format de connexion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Fichi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réer les comptes à parti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’un fichier cs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crée deux fichier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le répertoire d’installa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e SconetKwartz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Fichiers à déplacer dans le dossie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9" name="Picture 10" descr=""/>
          <p:cNvPicPr/>
          <p:nvPr/>
        </p:nvPicPr>
        <p:blipFill>
          <a:blip r:embed="rId6"/>
          <a:stretch/>
        </p:blipFill>
        <p:spPr>
          <a:xfrm>
            <a:off x="4835520" y="2625840"/>
            <a:ext cx="41562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8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FE3415-24DE-494C-87FD-ED5C9FC04BEA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9"/>
          <p:cNvSpPr/>
          <p:nvPr/>
        </p:nvSpPr>
        <p:spPr>
          <a:xfrm>
            <a:off x="1316520" y="23493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9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"/>
          <p:cNvPicPr/>
          <p:nvPr/>
        </p:nvPicPr>
        <p:blipFill>
          <a:blip r:embed="rId7"/>
          <a:stretch/>
        </p:blipFill>
        <p:spPr>
          <a:xfrm>
            <a:off x="1539720" y="2881440"/>
            <a:ext cx="2390760" cy="316836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à coins arrondis 1"/>
          <p:cNvSpPr/>
          <p:nvPr/>
        </p:nvSpPr>
        <p:spPr>
          <a:xfrm>
            <a:off x="2050920" y="4869000"/>
            <a:ext cx="136872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9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DF746A-71BC-42C2-8A3C-3E845B98C004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00" name="ZoneTexte 2"/>
          <p:cNvSpPr/>
          <p:nvPr/>
        </p:nvSpPr>
        <p:spPr>
          <a:xfrm>
            <a:off x="1647000" y="285264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jouter les utilisateurs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léter l’écran de création des groupes, liste de diffusion, 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ttendre la création des groupes et des utilisateu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03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05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C92041-D4D4-46EC-8259-0FCC2EBAC65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348560" y="3573360"/>
            <a:ext cx="691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ous les fichiers que SconetKwartz devra traiter devront être mis dan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son répertoire d’install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e logiciel nécessite d’avoir les fichiers suivant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export (sans extension) pour une mise à jo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d’exportation des élèves de l’année N+1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à récupérer à l’administration site Siècle base en cours …et à renom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n eleves.csv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ZoneTexte 1"/>
          <p:cNvSpPr/>
          <p:nvPr/>
        </p:nvSpPr>
        <p:spPr>
          <a:xfrm>
            <a:off x="1350720" y="2506680"/>
            <a:ext cx="62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’année N+1, FAIRE LA SAUVEGARDE COMPLETE DU SERVE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Kwartz-Control, Menu Utilisateurs, Générer le fichier export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par défaut, il se trouve dans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1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36EE37-EF97-4046-9075-866320A5CAD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2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2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05B9E-3364-4310-998F-57B81995F27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6"/>
          <a:stretch/>
        </p:blipFill>
        <p:spPr>
          <a:xfrm>
            <a:off x="1440000" y="2255760"/>
            <a:ext cx="6124320" cy="41720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0"/>
          <p:cNvSpPr/>
          <p:nvPr/>
        </p:nvSpPr>
        <p:spPr>
          <a:xfrm>
            <a:off x="1692360" y="42242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leves.csv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3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69C7CE-1772-4D7A-BCF3-B6FEB8387FB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9"/>
          <p:cNvSpPr/>
          <p:nvPr/>
        </p:nvSpPr>
        <p:spPr>
          <a:xfrm>
            <a:off x="816120" y="2349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doit voir le fichier eleves.csv apparaî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dans le menu Fichiers la bonne op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Quand on choisit Mise à jour des comptes  à partir d’un fichier csv, il faut indiquer 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emin du fichier export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va créer des fichiers au format txt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modifi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supprim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oublon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(Fichiers à recopier dans Listes des Utilisateur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a question sur le groupe Profs, choisir N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5184720" y="2708280"/>
            <a:ext cx="4392720" cy="3616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"/>
          <p:cNvPicPr/>
          <p:nvPr/>
        </p:nvPicPr>
        <p:blipFill>
          <a:blip r:embed="rId7"/>
          <a:stretch/>
        </p:blipFill>
        <p:spPr>
          <a:xfrm>
            <a:off x="5337000" y="2860560"/>
            <a:ext cx="43927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F293D3-304E-4AB3-B498-D38DAB595E1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9"/>
          <p:cNvSpPr/>
          <p:nvPr/>
        </p:nvSpPr>
        <p:spPr>
          <a:xfrm>
            <a:off x="1303200" y="23493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Il faut d’abord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  <a:ea typeface="Arial"/>
              </a:rPr>
              <a:t>les copier dans le dossier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0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1" descr=""/>
          <p:cNvPicPr/>
          <p:nvPr/>
        </p:nvPicPr>
        <p:blipFill>
          <a:blip r:embed="rId7"/>
          <a:stretch/>
        </p:blipFill>
        <p:spPr>
          <a:xfrm>
            <a:off x="2462040" y="3017880"/>
            <a:ext cx="23911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5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5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B56199-B65B-4FEF-8823-1A38D8B98FD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9" descr=""/>
          <p:cNvPicPr/>
          <p:nvPr/>
        </p:nvPicPr>
        <p:blipFill>
          <a:blip r:embed="rId6"/>
          <a:stretch/>
        </p:blipFill>
        <p:spPr>
          <a:xfrm>
            <a:off x="1736640" y="292428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7"/>
          <p:cNvSpPr/>
          <p:nvPr/>
        </p:nvSpPr>
        <p:spPr>
          <a:xfrm>
            <a:off x="833400" y="3081240"/>
            <a:ext cx="8310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 u="sng">
                <a:solidFill>
                  <a:srgbClr val="ccccff"/>
                </a:solidFill>
                <a:uFillTx/>
                <a:latin typeface="Trebuchet MS"/>
                <a:ea typeface="Arial"/>
                <a:hlinkClick r:id="rId5"/>
              </a:rPr>
              <a:t>https://serveur:9999 </a:t>
            </a:r>
            <a:r>
              <a:rPr b="0" lang="fr-FR" sz="4000" spc="-1" strike="noStrike">
                <a:solidFill>
                  <a:srgbClr val="ffffff"/>
                </a:solidFill>
                <a:latin typeface="Trebuchet MS"/>
                <a:ea typeface="Arial"/>
              </a:rPr>
              <a:t>ou</a:t>
            </a:r>
            <a:r>
              <a:rPr b="0" lang="fr-FR" sz="4000" spc="-1" strike="noStrike">
                <a:solidFill>
                  <a:srgbClr val="0000ff"/>
                </a:solidFill>
                <a:latin typeface="Trebuchet MS"/>
                <a:ea typeface="Arial"/>
              </a:rPr>
              <a:t> </a:t>
            </a:r>
            <a:r>
              <a:rPr b="0" lang="fr-FR" sz="4000" spc="-1" strike="noStrike">
                <a:solidFill>
                  <a:srgbClr val="ffff00"/>
                </a:solidFill>
                <a:latin typeface="Trebuchet MS"/>
                <a:ea typeface="Arial"/>
              </a:rPr>
              <a:t>https://adresse_ip_serveur:999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2340000" y="443700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Version de kwartz 5.x.r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Login : kwar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dp : 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6"/>
          <a:stretch/>
        </p:blipFill>
        <p:spPr>
          <a:xfrm>
            <a:off x="6110280" y="223056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87C0B-7C16-4FA9-B9EF-106744ECC924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6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6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DEFD3C-87DC-40B3-8CA2-9AAEFD8625D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9" descr=""/>
          <p:cNvPicPr/>
          <p:nvPr/>
        </p:nvPicPr>
        <p:blipFill>
          <a:blip r:embed="rId6"/>
          <a:stretch/>
        </p:blipFill>
        <p:spPr>
          <a:xfrm>
            <a:off x="1692360" y="2852640"/>
            <a:ext cx="63244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6642000" y="15368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7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8"/>
          <p:cNvSpPr/>
          <p:nvPr/>
        </p:nvSpPr>
        <p:spPr>
          <a:xfrm>
            <a:off x="825480" y="2529000"/>
            <a:ext cx="558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ffff00"/>
                </a:solidFill>
                <a:latin typeface="Calibri"/>
                <a:ea typeface="Arial"/>
              </a:rPr>
              <a:t>Transfert des fichiers dans « listes  utilisateurs » du compte Winadmi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A98CFC-6B65-4F33-ABBA-207B3CC1335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1212120" y="3257640"/>
            <a:ext cx="883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élèves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Outil Base élève établissement sur le site académique, 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ations, En XML, et sélectionnez Elèves sans adress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ExportXML_ElevesSansAdresses.zip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ontenant le fichier ElevesSansAdress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personnel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our obtenir ce fichier, allez dans l'outil Gestion des structures et des services (STSWeb) sur le site académique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s, Services, et Exporter les services à destination d'un éditeur privé de logiciel de gestion des no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services_RNE_AAAA.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B32806-3BB2-47D3-9CD8-49549C1469D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4"/>
          <a:stretch/>
        </p:blipFill>
        <p:spPr>
          <a:xfrm>
            <a:off x="969840" y="2060640"/>
            <a:ext cx="70837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86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88" name="Picture 9" descr=""/>
          <p:cNvPicPr/>
          <p:nvPr/>
        </p:nvPicPr>
        <p:blipFill>
          <a:blip r:embed="rId6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D8C53-506A-45DE-9C41-20995AB18D5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4"/>
          <a:stretch/>
        </p:blipFill>
        <p:spPr>
          <a:xfrm>
            <a:off x="878040" y="1560600"/>
            <a:ext cx="2614320" cy="16095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5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97" name="Picture 9" descr=""/>
          <p:cNvPicPr/>
          <p:nvPr/>
        </p:nvPicPr>
        <p:blipFill>
          <a:blip r:embed="rId6"/>
          <a:stretch/>
        </p:blipFill>
        <p:spPr>
          <a:xfrm>
            <a:off x="3367080" y="1700280"/>
            <a:ext cx="577692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9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01CC3-75BE-4C3B-8321-43E840F90D1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825480" y="2003400"/>
            <a:ext cx="820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e à jour à distance sur le serveur 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 faire régulièrem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Picture 9" descr=""/>
          <p:cNvPicPr/>
          <p:nvPr/>
        </p:nvPicPr>
        <p:blipFill>
          <a:blip r:embed="rId5"/>
          <a:stretch/>
        </p:blipFill>
        <p:spPr>
          <a:xfrm>
            <a:off x="1581120" y="2987640"/>
            <a:ext cx="58388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08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EE9320-D780-4BCB-9022-4E63A1B20E1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166680" y="313704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Picture 8" descr=""/>
          <p:cNvPicPr/>
          <p:nvPr/>
        </p:nvPicPr>
        <p:blipFill>
          <a:blip r:embed="rId4"/>
          <a:stretch/>
        </p:blipFill>
        <p:spPr>
          <a:xfrm>
            <a:off x="2556000" y="2003400"/>
            <a:ext cx="5397480" cy="4286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" descr=""/>
          <p:cNvPicPr/>
          <p:nvPr/>
        </p:nvPicPr>
        <p:blipFill>
          <a:blip r:embed="rId5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1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FF0940-F575-4118-8C09-9BF6B88A5F7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8" descr=""/>
          <p:cNvPicPr/>
          <p:nvPr/>
        </p:nvPicPr>
        <p:blipFill>
          <a:blip r:embed="rId5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25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27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A72CF-7DBF-4CEF-B8CD-34CA4B3BD3C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2" name="Picture 9" descr=""/>
          <p:cNvPicPr/>
          <p:nvPr/>
        </p:nvPicPr>
        <p:blipFill>
          <a:blip r:embed="rId5"/>
          <a:stretch/>
        </p:blipFill>
        <p:spPr>
          <a:xfrm>
            <a:off x="3276720" y="2060640"/>
            <a:ext cx="38606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34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36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CB25A1-6FF1-4FB9-922B-37253FBF28F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1763640" y="2421000"/>
            <a:ext cx="657864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A0DF1-5092-410A-82A1-AA51F6C6962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9" name="Picture 9" descr=""/>
          <p:cNvPicPr/>
          <p:nvPr/>
        </p:nvPicPr>
        <p:blipFill>
          <a:blip r:embed="rId5"/>
          <a:stretch/>
        </p:blipFill>
        <p:spPr>
          <a:xfrm>
            <a:off x="2909880" y="2165400"/>
            <a:ext cx="569448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0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0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6"/>
          <a:stretch/>
        </p:blipFill>
        <p:spPr>
          <a:xfrm>
            <a:off x="1090440" y="2871720"/>
            <a:ext cx="7804440" cy="1176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F905E1-3E57-4FCE-BEF3-0F53E4F42B3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7"/>
          <a:stretch/>
        </p:blipFill>
        <p:spPr>
          <a:xfrm>
            <a:off x="3780000" y="3776760"/>
            <a:ext cx="9712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830BC7-1A10-4DED-BBE7-F38EF349DB2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5"/>
          <a:stretch/>
        </p:blipFill>
        <p:spPr>
          <a:xfrm>
            <a:off x="1187280" y="1873080"/>
            <a:ext cx="3063960" cy="15782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6"/>
          <a:stretch/>
        </p:blipFill>
        <p:spPr>
          <a:xfrm>
            <a:off x="1393920" y="3510000"/>
            <a:ext cx="7524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547BD-62F0-42EE-9068-B6CB4AEDBD1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EFA820-6A12-470B-812A-F74B33250F5A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874800" y="1916280"/>
            <a:ext cx="1536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appor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5" name="Picture 10" descr=""/>
          <p:cNvPicPr/>
          <p:nvPr/>
        </p:nvPicPr>
        <p:blipFill>
          <a:blip r:embed="rId5"/>
          <a:stretch/>
        </p:blipFill>
        <p:spPr>
          <a:xfrm>
            <a:off x="2700360" y="2003400"/>
            <a:ext cx="61610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"/>
          <p:cNvGrpSpPr/>
          <p:nvPr/>
        </p:nvGrpSpPr>
        <p:grpSpPr>
          <a:xfrm>
            <a:off x="176040" y="-6480"/>
            <a:ext cx="8790120" cy="1382760"/>
            <a:chOff x="176040" y="-6480"/>
            <a:chExt cx="8790120" cy="1382760"/>
          </a:xfrm>
        </p:grpSpPr>
        <p:pic>
          <p:nvPicPr>
            <p:cNvPr id="877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-6480"/>
              <a:ext cx="87901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176040" y="-6480"/>
              <a:ext cx="8790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79" name="Picture 4" descr=""/>
          <p:cNvPicPr/>
          <p:nvPr/>
        </p:nvPicPr>
        <p:blipFill>
          <a:blip r:embed="rId2"/>
          <a:stretch/>
        </p:blipFill>
        <p:spPr>
          <a:xfrm>
            <a:off x="901800" y="6345360"/>
            <a:ext cx="8205840" cy="68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"/>
          <p:cNvPicPr/>
          <p:nvPr/>
        </p:nvPicPr>
        <p:blipFill>
          <a:blip r:embed="rId3"/>
          <a:stretch/>
        </p:blipFill>
        <p:spPr>
          <a:xfrm>
            <a:off x="146160" y="1163520"/>
            <a:ext cx="5930640" cy="85428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6"/>
          <p:cNvSpPr/>
          <p:nvPr/>
        </p:nvSpPr>
        <p:spPr>
          <a:xfrm>
            <a:off x="342720" y="1773360"/>
            <a:ext cx="7095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collèg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infrastructure réseau : VDIS « LA CAMIF 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Lycé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l’infrastructure réseau : Les UT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6"/>
          <a:stretch/>
        </p:blipFill>
        <p:spPr>
          <a:xfrm>
            <a:off x="6080040" y="1197000"/>
            <a:ext cx="219096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"/>
          <p:cNvPicPr/>
          <p:nvPr/>
        </p:nvPicPr>
        <p:blipFill>
          <a:blip r:embed="rId7"/>
          <a:stretch/>
        </p:blipFill>
        <p:spPr>
          <a:xfrm>
            <a:off x="324000" y="5572080"/>
            <a:ext cx="8570880" cy="8589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9"/>
          <p:cNvSpPr/>
          <p:nvPr/>
        </p:nvSpPr>
        <p:spPr>
          <a:xfrm>
            <a:off x="980640" y="611496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ttp://www3.ac-lille.fr/crid-systeme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AA29E-4FFE-4D56-85A0-597B707098F0}" type="slidenum">
              <a:rPr b="0" lang="fr-FR" sz="1400" spc="-1" strike="noStrike">
                <a:solidFill>
                  <a:srgbClr val="adae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9C50CB-1189-4B1E-B06A-97AC487E9DA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826920" y="4618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un réseau Kwartz, un utilisateur doit faire partie d’un group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Nous allons donc créer un groupe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Gestion des groupes, Ajouter un groupe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116520" y="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alibri"/>
                <a:ea typeface="Arial"/>
              </a:rPr>
              <a:t>Création d’un grou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392120" y="1387440"/>
            <a:ext cx="6264360" cy="473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1177920" y="1501920"/>
            <a:ext cx="7792920" cy="473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3"/>
          <a:stretch/>
        </p:blipFill>
        <p:spPr>
          <a:xfrm>
            <a:off x="880920" y="52560"/>
            <a:ext cx="176400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6A6735-B1B4-4398-9B96-1B466BDEB05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3"/>
          <a:stretch/>
        </p:blipFill>
        <p:spPr>
          <a:xfrm>
            <a:off x="1036800" y="768240"/>
            <a:ext cx="8051760" cy="506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4"/>
          <a:stretch/>
        </p:blipFill>
        <p:spPr>
          <a:xfrm>
            <a:off x="219240" y="1467000"/>
            <a:ext cx="4760640" cy="4781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5"/>
          <a:stretch/>
        </p:blipFill>
        <p:spPr>
          <a:xfrm>
            <a:off x="5129280" y="1468440"/>
            <a:ext cx="3960720" cy="4707000"/>
          </a:xfrm>
          <a:prstGeom prst="rect">
            <a:avLst/>
          </a:prstGeom>
          <a:ln w="0">
            <a:noFill/>
          </a:ln>
        </p:spPr>
      </p:pic>
      <p:sp>
        <p:nvSpPr>
          <p:cNvPr id="622" name="ZoneTexte 1"/>
          <p:cNvSpPr/>
          <p:nvPr/>
        </p:nvSpPr>
        <p:spPr>
          <a:xfrm>
            <a:off x="1095480" y="11206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Affecter un compte utilisateur au groupe : …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25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7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1090440" y="3498840"/>
            <a:ext cx="7804440" cy="14810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A8E5D9-DA99-428C-9AEF-AB755B688E8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7661160" y="20606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34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36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"/>
          <p:cNvPicPr/>
          <p:nvPr/>
        </p:nvPicPr>
        <p:blipFill>
          <a:blip r:embed="rId5"/>
          <a:stretch/>
        </p:blipFill>
        <p:spPr>
          <a:xfrm>
            <a:off x="828720" y="1627200"/>
            <a:ext cx="7802640" cy="14810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BD35CC-ED98-4A33-A6E1-E7D6BD14C3C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607400" y="3141720"/>
            <a:ext cx="61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va utiliser un logiciel gratuit qui va nous permettre de fai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’importation des nouveaux arriva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modification des comptes (passage d’une classe à une aut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suppression des comptes devenus inuti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utilisera SconetKwartz téléchargeable à l’adresse suivant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http://geometrix.free.fr/jgressier/ir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CB4A1D-21FA-45AC-90AD-B75DA04766A7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ZoneTexte 1"/>
          <p:cNvSpPr/>
          <p:nvPr/>
        </p:nvSpPr>
        <p:spPr>
          <a:xfrm>
            <a:off x="1356840" y="2506680"/>
            <a:ext cx="652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serveur étant « neuf », on va créer les utilisateurs d’une année 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xtraire le fichier des élèves avec Siècle à l’administr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renommer eleves.csv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placer dans le répertoire d’installation de Sconet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C9FD69-6DD6-4499-B4D6-5DAC4A7C649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10T08:00:58Z</dcterms:modified>
  <cp:revision>179</cp:revision>
  <dc:subject/>
  <dc:title>ACCOMPAGNEMENT  DES ENSEIGNANTS RESSOURCES TICE</dc:title>
</cp:coreProperties>
</file>