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25587-0B8F-495E-ADC1-3F74758855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DD51A-6F0C-43B6-9C14-6B46FB3FC53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089B8-A1ED-4381-9E99-2E8D779C22B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3F42-0F8D-4319-BA56-33BEA183B8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516D0-9B91-4A4E-A9B9-78462D2D95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39A6B-5FD3-4CF5-8A55-4F603C3FCB7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78DF-25A5-4080-AA24-2664E359F99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EF42-8756-4F32-BF36-12F27F03CA7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27C1E-0274-489B-B8C8-4924141DC3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6D28-A7EF-4C0E-930C-DB61886D9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EB26-CD64-43C7-9F2B-8A4E5765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84F6-D8F4-4BDE-84BF-7647DEB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21BD-4080-4E45-A019-AA7A4955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51B2-F08C-423C-9573-72D92EF7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4ABC-6C94-40B9-AD0A-7EB6E1D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BC07D-A407-4316-A46D-D6C796E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B3F4A-B1D0-4022-8DE5-23FF4BF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EC3EF-E7B2-4BF7-B9A7-3B03AD29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E0597-BA7B-4D44-B0EA-F2E0823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4731-2450-4B8E-B771-B4B61EAB0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EB4AA-6170-4405-82D1-A80E82D3A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17FF-2425-4D70-8A15-0B2ED66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022A1-135A-4C83-A9A7-8443286E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2600D-DABC-4EA6-9B8B-A61B519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EBAF7-8458-47ED-B7A5-263BA25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F444E-6BD4-4526-90DE-B1D1BA2A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1EF3F-CB99-417C-8540-7338525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02A14-BC79-44A1-B027-0A909B5B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0191A-62E3-468A-8207-1806A4AC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57381-324F-4B96-9329-924BD3DB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0E81A-B576-40A2-8D76-6F0D91E9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8D649-0DBC-49D1-857B-3FC50EE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BDF1-0724-4315-8163-BC8CA7E333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E6823-DDA2-4453-A0DF-E8C2AD043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A5B0D-5350-4CAA-BA59-99B3727A7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D08EEA-7EA3-4042-86B5-B86E45D5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09EDF4-2A16-48F9-9470-A2B94005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9EC14B-D796-4300-BC16-EAFC60C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F33416-B13D-4EED-8990-E578A68E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3065FE-55AF-49FD-93B1-55AC1777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A122FB-8900-4288-B431-29AC59B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DAFD5-6935-4D9D-9657-767D00A8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2BB5E0-4EF2-4AD8-A154-299565F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72DF3-C9B7-43C0-9182-89FC956B6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A1887-740E-431E-99DD-D7FEA3CA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0C8F82-9705-4683-B765-F171D26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2EB3F3-68CF-4A1D-BF86-E62608E630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C9983-7289-4F86-B79B-F78E1087A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9614-88E6-49D9-ACD6-E9AC5A9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8935-E6A2-4133-B4DD-933AED45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74AB-AE64-4DD8-B804-AF2C2F54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6522-0732-486C-AEC1-6E9C8C2A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B1FDB-137D-4BEC-874B-17F06B40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C3CF-F1A1-4F2A-A913-490CA8F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BDAA3-D36E-4479-9C35-8753CD1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D222-89FE-4F00-B5D4-656D7927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FFEBE-9403-43DD-96B6-36DD8E73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566CE-FC1E-4D04-88C2-6FA2042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FE041-67DE-4939-926E-ACA5C41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7AE23-358A-44AB-A01E-1140908B8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E4D982-EDA6-4D7C-9B71-D3DF4ACD3E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AAA7FD-7A3D-44E0-ADA0-4C07749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A3C2C-AD30-4B9E-936C-49B18821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2DEC2-6B2E-40C2-873F-09AC5E3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3E2773-9565-48FE-8407-C55850E2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090F6-283A-4E4A-AEE0-EF457BD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7D294-CBE3-4471-8215-73C1E511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96268D-E1F7-4ED0-8698-0799062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5C7DD3-7B61-4294-A8C3-06619FE3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75903-BFA4-4B2D-AF39-AFACAD3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D19BE9-D8DE-49A5-8B27-865B812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DE51B-83D0-423F-A2F1-89548619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CA46DC-4D74-4AD1-8C31-D0B574251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B7226-C94C-4ED9-BE9C-78582406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2E92C-3FB8-4D41-8A2E-60A10942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639FA-598B-4EFA-A78C-DBD3D645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EF84-7E8D-4BB8-AFE7-9DF4344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1193-C821-440D-B8A7-DDC43CE7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004C5-1BD7-4A41-BF3D-9672469E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9BEE5-7B20-4872-8245-CFC39B6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23B3-9334-4D92-99B6-430582B6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59E71-7D16-419F-82FE-1173604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AA13B-5B3E-4CAC-84CF-D32F4F86B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54E2-1DB2-47B0-944B-D75728675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B20D-7418-4249-BB3E-9C4991B8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1F3-0C1B-45A6-BB93-91A67C5D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FC5D-DC86-412E-B474-81682080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85F0-045A-4634-A078-3796C2AA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587A-0C1D-43B1-86E3-7AA3DA79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7ACA-1106-4ABB-A5DC-FF67355F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768B-A33E-40CC-B84C-5D68E4B5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DB71-B698-4A8D-A29C-0994A84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518D-C204-42B8-8F44-395A9DA4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213C-1F2C-4579-B9F0-CEB4559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E1D2-D947-48A6-B7BA-A2DD79D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8787-614D-43DC-A932-1A4FD1E133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D6743-1900-4E57-ABD6-0CBE0B82D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94FDB-A0B2-46F2-BBFE-45D2CBA2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D7F8F-3848-4159-AD43-E9DB6BEA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3843-28E8-4CF5-9FDB-2CDF6E29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6619F-4F18-4C3C-B74C-B6F7343E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6C5A8-5B7A-4A66-9F3C-4024DC44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5EBFC-6A27-41D2-A638-C9EE6E34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1D423-BDB7-4AAD-8F03-F17A5E4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ABC0B-151B-4701-B2CD-FF160FC3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A07CE-FBB6-4654-A396-A499062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87D57-818E-49C2-99D2-3ADB67F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AB22E-B7E6-4D1F-8051-348F7DF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459CC-F9F2-4884-B7C1-7DE8BE7C5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83332-6311-4B5D-95A6-6EE5E88B6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2037-5C4D-41D1-B880-28974959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6E4E3-848C-4EF0-8121-FD75490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74F6E-5159-46E2-AED4-4E9E795A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221CF-59DB-4677-B51B-3E56C1F7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92F3C-B52F-4770-BFB2-C8171919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9D8F7-6D14-43C1-970F-EE65CF14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0D0F0-71CE-4A72-A7B9-8B707FA6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F5EA1-CE7F-46F4-9064-CA447D86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CCD6F-BCDE-4C98-A694-47DB8850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A59D6-C002-43E0-A0D6-3D85B0A0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4DFA4-59FC-432D-BA70-026E98F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6CC5-2E08-4558-BAD3-B0C5EA0C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D94E4-725A-4B9B-A25A-9BDCBEDDF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5E3E-2B28-4426-9001-28C89C4FE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28E3-6067-4891-9C56-D46A853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D338-B683-486F-852F-908F5CBC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4A01-78C3-459F-B916-8A84215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80E2-4F1C-4B4B-A1C9-76963C47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76F6-3A86-42E8-A66A-E6D4F65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BC64-8E37-4FD3-BF31-523959B4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90FE-807F-4B45-A26F-20C10E5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7D10-F323-439A-97AD-823489C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A43D-C70E-4D8F-B267-9865047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BC66-6BEB-4FE7-9740-84C1979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EABE-DA85-42CD-90B5-5909473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3B50-7FCF-4510-945F-065AD5715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38BFC-EE18-41EA-A594-824D85ED30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E77F5-1B24-4196-B071-1DE0DCD3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39472-3EF2-4CC2-BD18-654DAFF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9A972-9AD3-439C-B73B-60D4DDB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6951F-487A-41D2-A0CB-D80F4F2A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B8A34-CBBB-4CC1-AD73-64C66E35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08B24-00AB-413B-BEC1-2F1198D6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2AB1-D57D-48EF-ADC6-1D41C3E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A5DDC-5094-4728-9AE7-DDD6FD78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5880A-56C1-4B77-A1D9-340BFE5D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BF3B2-EB37-4003-9B9F-E69FA535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6FE3D-B820-4C86-A195-4F395F0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31946-EBD7-464A-A4BC-78B2D35C8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14D893-086E-4883-B1C6-96EED35BF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FE9D9-B5ED-409A-9711-A378206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233499-BEE3-4F41-BA5F-CDD607C9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7E4E5-093B-4EAD-A4A2-E9606E2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3B361-87A9-461D-9ADE-0A86C99B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0F07-4D2A-4ACF-A9B5-B75F595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62E94-FB35-4E17-8DC7-30F553C0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958A3-049E-4CF5-8E4E-F02AC3E3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7F426-5B90-4B20-9FAC-2FBA45A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47EAD-D30D-4F7C-8C03-3B74C3F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3F9F2-F276-4065-B8FA-2D01CA0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26F4BD-0EDC-4FF3-B35B-1DFC0EF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C43DA-CFC2-4840-99D4-39EBAE4A3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08142-87A9-4B53-BE7D-D393CDFC1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EAFC-A5A8-43BA-9EC2-E414BA6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D9F8-61F5-4A28-87ED-F362BAF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5000" y="6353280"/>
            <a:ext cx="1511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50C74-E656-43B4-AC2D-C5E598BADC40}" type="datetime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800" y="6353280"/>
            <a:ext cx="977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D0455-A769-4242-8BDF-31A6FFA6F1F7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C0D76-0A7E-4F85-BFD9-ADB8F2DC15A4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44D5094-083E-425E-98C2-4CBC392E574D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B2616-CE1B-49A0-9453-AAA0A2B523BE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0F58120-FCDD-4BE0-B50B-BD2150D40B82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98526-70E6-4B36-8851-DF392B3D07F2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15BC2-CA07-41FB-B0E9-A6190103DCE6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0BF2A-4432-43C0-8A3A-455E5B4C84AB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03A3C-A4F8-445B-BBDE-87DDC8B360C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85891-FFE3-4729-8C87-E97071DD3E6C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E9A201-67D8-4079-9C69-14F415DAEBC1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F9ECF-A98F-4AEC-B66C-6605E03D6DA9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627CC-AF4C-45C5-946C-D5FC8660DABB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3A9F8-A2BC-4BFB-83C6-FB6BBC18F4C1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3EDD4-0551-4686-9571-414083B543E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C2DBA5-C299-4DCB-99CA-F435DA208CF6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AA397816-42CF-4255-8C08-92600B5E1BEF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0880E4-55F9-44CA-9DFC-E2CA967E6E89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BD5DB024-2B42-4914-ABF3-22528AF48B40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8A6E04-2E76-49D8-A3FB-4380205FA4B4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A19F3AC7-1D08-4706-9A84-A518524CD348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29240" cy="3761640"/>
            <a:chOff x="0" y="1176480"/>
            <a:chExt cx="9129240" cy="37616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19880" cy="37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9000" y="1533960"/>
              <a:ext cx="9120240" cy="34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E483-B5AC-4F89-8044-376D4350F322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7910116-FF73-4A36-8E87-BE7703D3E112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2A835-E1DB-4229-B48B-2FE8475649D9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7F93AC-387C-462D-B176-5CF2B7CFBA19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396720" y="5224320"/>
            <a:ext cx="8485200" cy="1335240"/>
            <a:chOff x="396720" y="5224320"/>
            <a:chExt cx="8485200" cy="133524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85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396720" y="5224320"/>
              <a:ext cx="848520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33447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5"/>
          <p:cNvSpPr/>
          <p:nvPr/>
        </p:nvSpPr>
        <p:spPr>
          <a:xfrm>
            <a:off x="1440" y="0"/>
            <a:ext cx="91425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441440" y="376704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9D1A2-001B-4DAB-8E8D-D0EDBAA6D266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1655640" y="828720"/>
            <a:ext cx="217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5616720" y="1584360"/>
            <a:ext cx="3373200" cy="1573200"/>
            <a:chOff x="5616720" y="1584360"/>
            <a:chExt cx="3373200" cy="1573200"/>
          </a:xfrm>
        </p:grpSpPr>
        <p:grpSp>
          <p:nvGrpSpPr>
            <p:cNvPr id="601" name="Group 5"/>
            <p:cNvGrpSpPr/>
            <p:nvPr/>
          </p:nvGrpSpPr>
          <p:grpSpPr>
            <a:xfrm>
              <a:off x="6408720" y="1800360"/>
              <a:ext cx="1717560" cy="819000"/>
              <a:chOff x="6408720" y="1800360"/>
              <a:chExt cx="1717560" cy="819000"/>
            </a:xfrm>
          </p:grpSpPr>
          <p:pic>
            <p:nvPicPr>
              <p:cNvPr id="60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296120" y="1800360"/>
                <a:ext cx="8301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7"/>
              <p:cNvSpPr/>
              <p:nvPr/>
            </p:nvSpPr>
            <p:spPr>
              <a:xfrm>
                <a:off x="6408720" y="1909800"/>
                <a:ext cx="928800" cy="62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interne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604" name="Oval 8"/>
            <p:cNvSpPr/>
            <p:nvPr/>
          </p:nvSpPr>
          <p:spPr>
            <a:xfrm>
              <a:off x="5616720" y="1584360"/>
              <a:ext cx="3373200" cy="157320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5" name="Text Box 9"/>
            <p:cNvSpPr/>
            <p:nvPr/>
          </p:nvSpPr>
          <p:spPr>
            <a:xfrm>
              <a:off x="6696000" y="2664000"/>
              <a:ext cx="1689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6" name="Text Box 10"/>
          <p:cNvSpPr/>
          <p:nvPr/>
        </p:nvSpPr>
        <p:spPr>
          <a:xfrm>
            <a:off x="4199040" y="5575320"/>
            <a:ext cx="113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1685880" y="571680"/>
            <a:ext cx="66661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Un réseau informatique est un ensemble d'équipement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reliés entre eux pour échanger des informa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911160" y="417996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3672000" y="417672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0" name="Group 14"/>
          <p:cNvGrpSpPr/>
          <p:nvPr/>
        </p:nvGrpSpPr>
        <p:grpSpPr>
          <a:xfrm>
            <a:off x="144360" y="1871640"/>
            <a:ext cx="5821560" cy="4381560"/>
            <a:chOff x="144360" y="1871640"/>
            <a:chExt cx="5821560" cy="4381560"/>
          </a:xfrm>
        </p:grpSpPr>
        <p:sp>
          <p:nvSpPr>
            <p:cNvPr id="611" name="Text Box 15"/>
            <p:cNvSpPr/>
            <p:nvPr/>
          </p:nvSpPr>
          <p:spPr>
            <a:xfrm>
              <a:off x="936720" y="1871640"/>
              <a:ext cx="35020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pédagogique établissem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2" name="Picture 16" descr=""/>
            <p:cNvPicPr/>
            <p:nvPr/>
          </p:nvPicPr>
          <p:blipFill>
            <a:blip r:embed="rId3"/>
            <a:stretch/>
          </p:blipFill>
          <p:spPr>
            <a:xfrm>
              <a:off x="2505240" y="2658960"/>
              <a:ext cx="1123920" cy="15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17"/>
            <p:cNvSpPr/>
            <p:nvPr/>
          </p:nvSpPr>
          <p:spPr>
            <a:xfrm>
              <a:off x="2448000" y="2371680"/>
              <a:ext cx="121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4" name="Oval 18"/>
            <p:cNvSpPr/>
            <p:nvPr/>
          </p:nvSpPr>
          <p:spPr>
            <a:xfrm>
              <a:off x="723960" y="4579920"/>
              <a:ext cx="2220840" cy="1139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5" name="Picture 19" descr=""/>
            <p:cNvPicPr/>
            <p:nvPr/>
          </p:nvPicPr>
          <p:blipFill>
            <a:blip r:embed="rId4"/>
            <a:stretch/>
          </p:blipFill>
          <p:spPr>
            <a:xfrm>
              <a:off x="1020600" y="4748040"/>
              <a:ext cx="603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0" descr=""/>
            <p:cNvPicPr/>
            <p:nvPr/>
          </p:nvPicPr>
          <p:blipFill>
            <a:blip r:embed="rId5"/>
            <a:stretch/>
          </p:blipFill>
          <p:spPr>
            <a:xfrm>
              <a:off x="1835280" y="5113440"/>
              <a:ext cx="603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21"/>
            <p:cNvSpPr/>
            <p:nvPr/>
          </p:nvSpPr>
          <p:spPr>
            <a:xfrm>
              <a:off x="995400" y="5318280"/>
              <a:ext cx="939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1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8" name="Oval 22"/>
            <p:cNvSpPr/>
            <p:nvPr/>
          </p:nvSpPr>
          <p:spPr>
            <a:xfrm>
              <a:off x="3456000" y="4545000"/>
              <a:ext cx="2004840" cy="1112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9" name="Picture 23" descr=""/>
            <p:cNvPicPr/>
            <p:nvPr/>
          </p:nvPicPr>
          <p:blipFill>
            <a:blip r:embed="rId6"/>
            <a:stretch/>
          </p:blipFill>
          <p:spPr>
            <a:xfrm>
              <a:off x="3816360" y="491652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4" descr=""/>
            <p:cNvPicPr/>
            <p:nvPr/>
          </p:nvPicPr>
          <p:blipFill>
            <a:blip r:embed="rId7"/>
            <a:stretch/>
          </p:blipFill>
          <p:spPr>
            <a:xfrm>
              <a:off x="4784760" y="469728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25"/>
            <p:cNvSpPr/>
            <p:nvPr/>
          </p:nvSpPr>
          <p:spPr>
            <a:xfrm>
              <a:off x="4245120" y="5327640"/>
              <a:ext cx="785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Oval 26"/>
            <p:cNvSpPr/>
            <p:nvPr/>
          </p:nvSpPr>
          <p:spPr>
            <a:xfrm>
              <a:off x="144360" y="2303640"/>
              <a:ext cx="5821560" cy="394956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23" name="Picture 27" descr=""/>
            <p:cNvPicPr/>
            <p:nvPr/>
          </p:nvPicPr>
          <p:blipFill>
            <a:blip r:embed="rId8"/>
            <a:stretch/>
          </p:blipFill>
          <p:spPr>
            <a:xfrm>
              <a:off x="1735200" y="4680000"/>
              <a:ext cx="6174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9774E-ABCF-4F96-8B91-FDDA607FBF08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5832360" y="896760"/>
            <a:ext cx="1717560" cy="819360"/>
            <a:chOff x="5832360" y="896760"/>
            <a:chExt cx="1717560" cy="819360"/>
          </a:xfrm>
        </p:grpSpPr>
        <p:pic>
          <p:nvPicPr>
            <p:cNvPr id="627" name="Picture 4" descr=""/>
            <p:cNvPicPr/>
            <p:nvPr/>
          </p:nvPicPr>
          <p:blipFill>
            <a:blip r:embed="rId2"/>
            <a:stretch/>
          </p:blipFill>
          <p:spPr>
            <a:xfrm>
              <a:off x="6719040" y="896760"/>
              <a:ext cx="83088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"/>
            <p:cNvSpPr/>
            <p:nvPr/>
          </p:nvSpPr>
          <p:spPr>
            <a:xfrm>
              <a:off x="5832360" y="1008000"/>
              <a:ext cx="9327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4149720" y="1363680"/>
            <a:ext cx="1398600" cy="930240"/>
            <a:chOff x="4149720" y="1363680"/>
            <a:chExt cx="1398600" cy="930240"/>
          </a:xfrm>
        </p:grpSpPr>
        <p:pic>
          <p:nvPicPr>
            <p:cNvPr id="630" name="Picture 7" descr=""/>
            <p:cNvPicPr/>
            <p:nvPr/>
          </p:nvPicPr>
          <p:blipFill>
            <a:blip r:embed="rId3"/>
            <a:stretch/>
          </p:blipFill>
          <p:spPr>
            <a:xfrm>
              <a:off x="4176720" y="1612800"/>
              <a:ext cx="137160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8"/>
            <p:cNvSpPr/>
            <p:nvPr/>
          </p:nvSpPr>
          <p:spPr>
            <a:xfrm>
              <a:off x="4149720" y="1363680"/>
              <a:ext cx="8794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rout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1655640" y="863640"/>
            <a:ext cx="1500480" cy="2370240"/>
            <a:chOff x="1655640" y="863640"/>
            <a:chExt cx="1500480" cy="2370240"/>
          </a:xfrm>
        </p:grpSpPr>
        <p:pic>
          <p:nvPicPr>
            <p:cNvPr id="633" name="Picture 10" descr=""/>
            <p:cNvPicPr/>
            <p:nvPr/>
          </p:nvPicPr>
          <p:blipFill>
            <a:blip r:embed="rId4"/>
            <a:stretch/>
          </p:blipFill>
          <p:spPr>
            <a:xfrm>
              <a:off x="1728720" y="1228680"/>
              <a:ext cx="14274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11"/>
            <p:cNvSpPr/>
            <p:nvPr/>
          </p:nvSpPr>
          <p:spPr>
            <a:xfrm>
              <a:off x="1655640" y="863640"/>
              <a:ext cx="868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4176720" y="3095640"/>
            <a:ext cx="2058840" cy="1284120"/>
            <a:chOff x="4176720" y="3095640"/>
            <a:chExt cx="2058840" cy="1284120"/>
          </a:xfrm>
        </p:grpSpPr>
        <p:pic>
          <p:nvPicPr>
            <p:cNvPr id="636" name="Picture 13" descr=""/>
            <p:cNvPicPr/>
            <p:nvPr/>
          </p:nvPicPr>
          <p:blipFill>
            <a:blip r:embed="rId5"/>
            <a:stretch/>
          </p:blipFill>
          <p:spPr>
            <a:xfrm>
              <a:off x="4176720" y="3362400"/>
              <a:ext cx="2058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14"/>
            <p:cNvSpPr/>
            <p:nvPr/>
          </p:nvSpPr>
          <p:spPr>
            <a:xfrm>
              <a:off x="4478400" y="3095640"/>
              <a:ext cx="766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38" name="Oval 15"/>
          <p:cNvSpPr/>
          <p:nvPr/>
        </p:nvSpPr>
        <p:spPr>
          <a:xfrm>
            <a:off x="431640" y="4379760"/>
            <a:ext cx="3527640" cy="19558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6"/>
          <a:stretch/>
        </p:blipFill>
        <p:spPr>
          <a:xfrm>
            <a:off x="901800" y="4668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7" descr=""/>
          <p:cNvPicPr/>
          <p:nvPr/>
        </p:nvPicPr>
        <p:blipFill>
          <a:blip r:embed="rId7"/>
          <a:stretch/>
        </p:blipFill>
        <p:spPr>
          <a:xfrm>
            <a:off x="2054160" y="5172120"/>
            <a:ext cx="970200" cy="9698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1152360" y="5688000"/>
            <a:ext cx="78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2" name="Group 19"/>
          <p:cNvGrpSpPr/>
          <p:nvPr/>
        </p:nvGrpSpPr>
        <p:grpSpPr>
          <a:xfrm>
            <a:off x="5688000" y="4608360"/>
            <a:ext cx="3373560" cy="1944720"/>
            <a:chOff x="5688000" y="4608360"/>
            <a:chExt cx="3373560" cy="1944720"/>
          </a:xfrm>
        </p:grpSpPr>
        <p:sp>
          <p:nvSpPr>
            <p:cNvPr id="643" name="Oval 20"/>
            <p:cNvSpPr/>
            <p:nvPr/>
          </p:nvSpPr>
          <p:spPr>
            <a:xfrm>
              <a:off x="5688000" y="4608360"/>
              <a:ext cx="3373560" cy="194472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44" name="Picture 21" descr=""/>
            <p:cNvPicPr/>
            <p:nvPr/>
          </p:nvPicPr>
          <p:blipFill>
            <a:blip r:embed="rId8"/>
            <a:stretch/>
          </p:blipFill>
          <p:spPr>
            <a:xfrm>
              <a:off x="6445080" y="523404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2" descr=""/>
            <p:cNvPicPr/>
            <p:nvPr/>
          </p:nvPicPr>
          <p:blipFill>
            <a:blip r:embed="rId9"/>
            <a:stretch/>
          </p:blipFill>
          <p:spPr>
            <a:xfrm>
              <a:off x="7920000" y="487368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23"/>
            <p:cNvSpPr/>
            <p:nvPr/>
          </p:nvSpPr>
          <p:spPr>
            <a:xfrm>
              <a:off x="7415280" y="5987880"/>
              <a:ext cx="7700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7" name="Line 24"/>
          <p:cNvSpPr/>
          <p:nvPr/>
        </p:nvSpPr>
        <p:spPr>
          <a:xfrm>
            <a:off x="3743280" y="4896000"/>
            <a:ext cx="1440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Line 25"/>
          <p:cNvSpPr/>
          <p:nvPr/>
        </p:nvSpPr>
        <p:spPr>
          <a:xfrm>
            <a:off x="5184720" y="4176720"/>
            <a:ext cx="1800" cy="7207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Line 26"/>
          <p:cNvSpPr/>
          <p:nvPr/>
        </p:nvSpPr>
        <p:spPr>
          <a:xfrm>
            <a:off x="5616720" y="4032360"/>
            <a:ext cx="1440" cy="863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Line 27"/>
          <p:cNvSpPr/>
          <p:nvPr/>
        </p:nvSpPr>
        <p:spPr>
          <a:xfrm flipH="1">
            <a:off x="5603400" y="4896000"/>
            <a:ext cx="59868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Line 28"/>
          <p:cNvSpPr/>
          <p:nvPr/>
        </p:nvSpPr>
        <p:spPr>
          <a:xfrm>
            <a:off x="3168720" y="2879640"/>
            <a:ext cx="2160360" cy="180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Line 29"/>
          <p:cNvSpPr/>
          <p:nvPr/>
        </p:nvSpPr>
        <p:spPr>
          <a:xfrm>
            <a:off x="5327640" y="2879640"/>
            <a:ext cx="1440" cy="647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Line 30"/>
          <p:cNvSpPr/>
          <p:nvPr/>
        </p:nvSpPr>
        <p:spPr>
          <a:xfrm>
            <a:off x="3168720" y="1871640"/>
            <a:ext cx="1008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Line 31"/>
          <p:cNvSpPr/>
          <p:nvPr/>
        </p:nvSpPr>
        <p:spPr>
          <a:xfrm flipV="1">
            <a:off x="5472000" y="1428840"/>
            <a:ext cx="1246320" cy="3823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Text Box 32"/>
          <p:cNvSpPr/>
          <p:nvPr/>
        </p:nvSpPr>
        <p:spPr>
          <a:xfrm>
            <a:off x="5688000" y="1944720"/>
            <a:ext cx="3421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Pour communiquer entr'eux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les éléments du réseau on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besoin d'adresse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912000" y="3024360"/>
            <a:ext cx="193356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Les adresses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1655640" y="82872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949320" y="453564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194472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5918040" y="5111640"/>
            <a:ext cx="1209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Text Box 38"/>
          <p:cNvSpPr/>
          <p:nvPr/>
        </p:nvSpPr>
        <p:spPr>
          <a:xfrm>
            <a:off x="7429680" y="483408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Text Box 39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6624720" y="3527280"/>
            <a:ext cx="237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(entre 0 et 25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8423280" y="546120"/>
            <a:ext cx="647640" cy="39060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1"/>
          <p:cNvSpPr/>
          <p:nvPr/>
        </p:nvSpPr>
        <p:spPr>
          <a:xfrm>
            <a:off x="1152360" y="762120"/>
            <a:ext cx="139068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adresse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3075120" y="792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entre 0 et 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1828800" y="1714680"/>
            <a:ext cx="63072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connaître son adresse IP, ouvrir une console de commande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ller dans le menu démarrer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uis taper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cmd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dans la zone de recherche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1582560" y="3081240"/>
            <a:ext cx="6553440" cy="17431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5"/>
          <p:cNvSpPr/>
          <p:nvPr/>
        </p:nvSpPr>
        <p:spPr>
          <a:xfrm>
            <a:off x="2816280" y="5214960"/>
            <a:ext cx="301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aper </a:t>
            </a: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ipconfig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8671A-0F14-4ABE-9B17-B3EF1DD9DF39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3"/>
          <a:stretch/>
        </p:blipFill>
        <p:spPr>
          <a:xfrm>
            <a:off x="576360" y="720720"/>
            <a:ext cx="6846840" cy="34560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7524720" y="10857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adresse IP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de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5327640" y="1428480"/>
            <a:ext cx="2232000" cy="166680"/>
          </a:xfrm>
          <a:prstGeom prst="line">
            <a:avLst/>
          </a:prstGeom>
          <a:ln cap="sq" w="9360">
            <a:solidFill>
              <a:srgbClr val="61fe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7632720" y="2727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asserel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5256360" y="1871640"/>
            <a:ext cx="2376360" cy="1079640"/>
          </a:xfrm>
          <a:prstGeom prst="line">
            <a:avLst/>
          </a:prstGeom>
          <a:ln cap="sq"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1295280" y="4378320"/>
            <a:ext cx="7147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masque 255.255.0.0 nous indique que les 2 premiers nombres (172.16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rrespondent à l’adresse du réseau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que les 2 derniers (40.100) désignent la machine dans ce réseau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5184720" y="1728720"/>
            <a:ext cx="2519280" cy="360360"/>
          </a:xfrm>
          <a:prstGeom prst="line">
            <a:avLst/>
          </a:prstGeom>
          <a:ln cap="sq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7623360" y="179244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Masque 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1254240" y="5445000"/>
            <a:ext cx="4101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troisième chiffre peut varier de 0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ernier chiffre peut varier de 1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224000" y="779400"/>
            <a:ext cx="588492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une organisation claire du réseau on utilis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troisième chiffre pour désigner la sal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dernier chiffre pour désigner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xempl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alle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qui comporte 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25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ordinateur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dresses IP des ordinateurs de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à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43080" y="3009960"/>
            <a:ext cx="5245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poste maître sera différencié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0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235160" y="3887640"/>
            <a:ext cx="5030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mprimante sera différenciée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3456000" y="647640"/>
            <a:ext cx="561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vérifier la connexion , on va envoyer une commande de test vers une machine du réseau ou vers soi mêm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0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691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2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3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8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699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01" name="Line 15"/>
          <p:cNvSpPr/>
          <p:nvPr/>
        </p:nvSpPr>
        <p:spPr>
          <a:xfrm>
            <a:off x="2376360" y="1224000"/>
            <a:ext cx="1764000" cy="15667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Line 16"/>
          <p:cNvSpPr/>
          <p:nvPr/>
        </p:nvSpPr>
        <p:spPr>
          <a:xfrm flipV="1">
            <a:off x="1944720" y="3212640"/>
            <a:ext cx="2195640" cy="16225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5881680" y="1560600"/>
            <a:ext cx="2325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127.0.0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e protocole I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Text Box 18"/>
          <p:cNvSpPr/>
          <p:nvPr/>
        </p:nvSpPr>
        <p:spPr>
          <a:xfrm>
            <a:off x="5904000" y="2232000"/>
            <a:ext cx="2303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</a:t>
            </a:r>
            <a:r>
              <a:rPr b="1" i="1" lang="fr-FR" sz="1800" spc="-1" strike="noStrike" u="sng">
                <a:solidFill>
                  <a:srgbClr val="ff0000"/>
                </a:solidFill>
                <a:uFillTx/>
                <a:latin typeface="Calibri"/>
              </a:rPr>
              <a:t>adresse du ipconfi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a carte résea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5975280" y="361476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66"/>
                </a:solidFill>
                <a:latin typeface="Calibri"/>
              </a:rPr>
              <a:t>ping 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Calibri"/>
              </a:rPr>
              <a:t>=&gt; Vérifier la liaison au serveu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4535640" y="647640"/>
            <a:ext cx="453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uvrir une console de comman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taper :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 127.0.0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709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6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717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9" name="Picture 14" descr=""/>
          <p:cNvPicPr/>
          <p:nvPr/>
        </p:nvPicPr>
        <p:blipFill>
          <a:blip r:embed="rId5"/>
          <a:stretch/>
        </p:blipFill>
        <p:spPr>
          <a:xfrm>
            <a:off x="3743280" y="1333440"/>
            <a:ext cx="5256360" cy="26002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5" descr=""/>
          <p:cNvPicPr/>
          <p:nvPr/>
        </p:nvPicPr>
        <p:blipFill>
          <a:blip r:embed="rId6"/>
          <a:stretch/>
        </p:blipFill>
        <p:spPr>
          <a:xfrm>
            <a:off x="3743280" y="4270320"/>
            <a:ext cx="530388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09T12:17:27Z</dcterms:modified>
  <cp:revision>174</cp:revision>
  <dc:subject/>
  <dc:title>ACCOMPAGNEMENT  DES ENSEIGNANTS RESSOURCES TICE</dc:title>
</cp:coreProperties>
</file>